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ECED-229D-40AE-B938-A2090BB467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E06-DCD1-47D6-8FBC-6958960108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129-35EB-4B18-90E5-008423D26E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A4F0-7E6D-4447-9C04-6A05A65A7C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40E0-1CA6-410F-800C-367157ECE6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AE3C-7EC2-4002-A038-68F8048334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66DB-D1D1-43C3-95D5-07F065407B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731-8CC3-4118-B10C-9FE0C192CA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7FC-09ED-439D-A30A-BB508DBED9C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AE7D-3EF6-4CA1-AC36-93F34CF0D1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8D6-CA89-4A05-A264-5D82FAE701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FB66-00C8-4B11-8734-6D39F74156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3346-D01D-43DA-8DFC-96A0C1929C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717A-AD51-44E5-9D0E-051C28347C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0605-3D7F-4B95-9EB1-02C9BF6524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16B5-AF4B-4D7B-B128-46625EC24C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574-36D6-4980-A445-43763418FE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2263-8300-456D-AED3-DC919023AC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06C7-5460-4A7F-8B8F-240983958B8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1170-D2A7-4B4A-8C14-2912B1CC96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AAC-C7CD-4EB3-A550-1B404F9D2D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C27-F780-4C1C-85A4-1353314B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AF3-C8C3-4EEE-8B22-45F9C8A6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FEF-4B52-4134-9CF4-246AC2F8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F19-10E0-4ED0-B79F-58807616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529E-8499-4437-B6E6-3C649424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8CE5-C4E4-46B9-B210-069C2C2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209-31DB-4966-BD03-CAAAD171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11ED-16B9-43D0-9F4F-2F9B5FA8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54C-8F69-42A1-AC42-3B3FFF9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C016-D90B-4DB7-9DF4-D02152A8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BFD-203A-4B26-AF87-A77A521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33D-83FB-4D42-BD00-7179886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7BCE-04D1-4564-89A0-8D5E577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EA94-423C-4D3C-B7C3-6D89F68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C965-9DCD-4A2A-B0E6-0CD7FE6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0808-8D81-494B-9351-ED02F9D8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CC93-8A9A-49AA-8BD0-4A95EF4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4ED-1E2F-411D-9341-EBAB275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7C4-C3D6-4AE6-8666-C5CB7634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395-1266-4786-8DAF-08259D4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5A2-8517-4416-AEF0-BF32A7A4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CAC-9E24-4340-8B3D-66493C5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E11-0E95-419C-A27F-075DF4A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B33-DDA4-4C88-BC05-56486AA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A3CA-25CA-4ACE-85A7-7908051C3A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B113-44A0-4307-AE87-786C402C79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57"/>
          <p:cNvGrpSpPr/>
          <p:nvPr/>
        </p:nvGrpSpPr>
        <p:grpSpPr>
          <a:xfrm>
            <a:off x="1116000" y="476280"/>
            <a:ext cx="3819600" cy="2813400"/>
            <a:chOff x="1116000" y="476280"/>
            <a:chExt cx="3819600" cy="2813400"/>
          </a:xfrm>
        </p:grpSpPr>
        <p:sp>
          <p:nvSpPr>
            <p:cNvPr id="387" name="Line 4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332000" y="256536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 flipH="1" flipV="1">
              <a:off x="3059280" y="691920"/>
              <a:ext cx="1440" cy="244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457344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3132000" y="47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2916360" y="1701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13308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16"/>
            <p:cNvSpPr/>
            <p:nvPr/>
          </p:nvSpPr>
          <p:spPr>
            <a:xfrm>
              <a:off x="2486160" y="98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116000" y="549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370836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3493440" y="270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241128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051640" y="2708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2556000" y="1700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>
              <a:off x="2268360" y="1557360"/>
              <a:ext cx="28764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3564000" y="155736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2987280" y="1628640"/>
            <a:ext cx="144720" cy="142920"/>
            <a:chOff x="2987280" y="1628640"/>
            <a:chExt cx="144720" cy="142920"/>
          </a:xfrm>
        </p:grpSpPr>
        <p:sp>
          <p:nvSpPr>
            <p:cNvPr id="411" name="Line 22"/>
            <p:cNvSpPr/>
            <p:nvPr/>
          </p:nvSpPr>
          <p:spPr>
            <a:xfrm>
              <a:off x="2987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2987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AutoShape 24"/>
          <p:cNvSpPr/>
          <p:nvPr/>
        </p:nvSpPr>
        <p:spPr>
          <a:xfrm>
            <a:off x="2843280" y="1125360"/>
            <a:ext cx="649080" cy="7909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920"/>
              <a:gd name="textAreaBottom" fmla="*/ 759240 h 790920"/>
            </a:gdLst>
            <a:ahLst/>
            <a:rect l="textAreaLeft" t="textAreaTop" r="textAreaRight" b="textAreaBottom"/>
            <a:pathLst>
              <a:path w="21600" h="26318">
                <a:moveTo>
                  <a:pt x="3600" y="0"/>
                </a:moveTo>
                <a:arcTo wR="3600" hR="3600" stAng="16200000" swAng="-5400000"/>
                <a:lnTo>
                  <a:pt x="0" y="22718"/>
                </a:lnTo>
                <a:arcTo wR="3600" hR="3600" stAng="10800000" swAng="-5400000"/>
                <a:lnTo>
                  <a:pt x="18000" y="26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4284720" y="4365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0 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0)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241128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5"/>
          <p:cNvSpPr/>
          <p:nvPr/>
        </p:nvSpPr>
        <p:spPr>
          <a:xfrm>
            <a:off x="435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70836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AutoShape 59"/>
          <p:cNvSpPr/>
          <p:nvPr/>
        </p:nvSpPr>
        <p:spPr>
          <a:xfrm>
            <a:off x="2050920" y="2708280"/>
            <a:ext cx="50508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AutoShape 60"/>
          <p:cNvSpPr/>
          <p:nvPr/>
        </p:nvSpPr>
        <p:spPr>
          <a:xfrm>
            <a:off x="3419640" y="2708280"/>
            <a:ext cx="5047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5867280" y="126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1; 1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Group 87"/>
          <p:cNvGrpSpPr/>
          <p:nvPr/>
        </p:nvGrpSpPr>
        <p:grpSpPr>
          <a:xfrm>
            <a:off x="1116000" y="3789360"/>
            <a:ext cx="3748320" cy="2664000"/>
            <a:chOff x="1116000" y="3789360"/>
            <a:chExt cx="3748320" cy="2664000"/>
          </a:xfrm>
        </p:grpSpPr>
        <p:sp>
          <p:nvSpPr>
            <p:cNvPr id="422" name="Line 29"/>
            <p:cNvSpPr/>
            <p:nvPr/>
          </p:nvSpPr>
          <p:spPr>
            <a:xfrm>
              <a:off x="1332000" y="5084640"/>
              <a:ext cx="3382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 flipH="1" flipV="1">
              <a:off x="3059280" y="400536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4502160" y="50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Text Box 32"/>
            <p:cNvSpPr/>
            <p:nvPr/>
          </p:nvSpPr>
          <p:spPr>
            <a:xfrm>
              <a:off x="3132000" y="378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133080" y="515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1332000" y="5084640"/>
              <a:ext cx="1584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1765440" y="4508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6"/>
            <p:cNvSpPr/>
            <p:nvPr/>
          </p:nvSpPr>
          <p:spPr>
            <a:xfrm>
              <a:off x="1116000" y="38624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Oval 84"/>
            <p:cNvSpPr/>
            <p:nvPr/>
          </p:nvSpPr>
          <p:spPr>
            <a:xfrm>
              <a:off x="2916360" y="494028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42"/>
          <p:cNvSpPr/>
          <p:nvPr/>
        </p:nvSpPr>
        <p:spPr>
          <a:xfrm>
            <a:off x="306036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21"/>
          <p:cNvGrpSpPr/>
          <p:nvPr/>
        </p:nvGrpSpPr>
        <p:grpSpPr>
          <a:xfrm>
            <a:off x="2339640" y="1628640"/>
            <a:ext cx="144720" cy="142920"/>
            <a:chOff x="2339640" y="1628640"/>
            <a:chExt cx="144720" cy="142920"/>
          </a:xfrm>
        </p:grpSpPr>
        <p:sp>
          <p:nvSpPr>
            <p:cNvPr id="433" name="Line 22"/>
            <p:cNvSpPr/>
            <p:nvPr/>
          </p:nvSpPr>
          <p:spPr>
            <a:xfrm>
              <a:off x="234000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 flipH="1">
              <a:off x="233964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5" name="Group 21"/>
          <p:cNvGrpSpPr/>
          <p:nvPr/>
        </p:nvGrpSpPr>
        <p:grpSpPr>
          <a:xfrm>
            <a:off x="3635280" y="1628640"/>
            <a:ext cx="144720" cy="142920"/>
            <a:chOff x="3635280" y="1628640"/>
            <a:chExt cx="144720" cy="142920"/>
          </a:xfrm>
        </p:grpSpPr>
        <p:sp>
          <p:nvSpPr>
            <p:cNvPr id="436" name="Line 22"/>
            <p:cNvSpPr/>
            <p:nvPr/>
          </p:nvSpPr>
          <p:spPr>
            <a:xfrm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nstant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onstantní funkce; Rovnoběžná přímka se souřadnou oso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69236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onstant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76360" y="2421000"/>
                <a:ext cx="90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340000" y="2421000"/>
                <a:ext cx="13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133720"/>
                <a:ext cx="12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788000" y="2278080"/>
                <a:ext cx="1819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15772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21300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á stále stejnou –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hodnot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šechny body funkce jsou ve stejné výš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ovnoběžná s oso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7956720" y="4437000"/>
                <a:ext cx="118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116000" y="25844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651640" y="3068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" name="Group 53"/>
          <p:cNvGrpSpPr/>
          <p:nvPr/>
        </p:nvGrpSpPr>
        <p:grpSpPr>
          <a:xfrm>
            <a:off x="2411280" y="4292280"/>
            <a:ext cx="71280" cy="1152000"/>
            <a:chOff x="2411280" y="4292280"/>
            <a:chExt cx="71280" cy="1152000"/>
          </a:xfrm>
        </p:grpSpPr>
        <p:sp>
          <p:nvSpPr>
            <p:cNvPr id="155" name="Line 33"/>
            <p:cNvSpPr/>
            <p:nvPr/>
          </p:nvSpPr>
          <p:spPr>
            <a:xfrm flipV="1">
              <a:off x="2411280" y="429228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 flipV="1">
              <a:off x="248256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 flipV="1">
              <a:off x="2411280" y="51555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 flipV="1">
              <a:off x="2482560" y="51573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67"/>
          <p:cNvGrpSpPr/>
          <p:nvPr/>
        </p:nvGrpSpPr>
        <p:grpSpPr>
          <a:xfrm>
            <a:off x="1476360" y="3284640"/>
            <a:ext cx="3603600" cy="3023640"/>
            <a:chOff x="1476360" y="3284640"/>
            <a:chExt cx="3603600" cy="3023640"/>
          </a:xfrm>
        </p:grpSpPr>
        <p:sp>
          <p:nvSpPr>
            <p:cNvPr id="160" name="Line 28"/>
            <p:cNvSpPr/>
            <p:nvPr/>
          </p:nvSpPr>
          <p:spPr>
            <a:xfrm>
              <a:off x="1476360" y="530064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V="1">
              <a:off x="3276720" y="3428640"/>
              <a:ext cx="0" cy="2879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4717800" y="522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348000" y="3284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>
            <a:off x="3132000" y="48704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3132000" y="443880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3349080" y="414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52"/>
          <p:cNvGrpSpPr/>
          <p:nvPr/>
        </p:nvGrpSpPr>
        <p:grpSpPr>
          <a:xfrm>
            <a:off x="1476360" y="3789360"/>
            <a:ext cx="3607920" cy="649440"/>
            <a:chOff x="1476360" y="3789360"/>
            <a:chExt cx="3607920" cy="649440"/>
          </a:xfrm>
        </p:grpSpPr>
        <p:sp>
          <p:nvSpPr>
            <p:cNvPr id="168" name="Line 32"/>
            <p:cNvSpPr/>
            <p:nvPr/>
          </p:nvSpPr>
          <p:spPr>
            <a:xfrm>
              <a:off x="1476360" y="4438800"/>
              <a:ext cx="360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4790880" y="378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5651640" y="3789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6227640" y="3068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227640" y="3789360"/>
                <a:ext cx="80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667640" y="465300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60"/>
          <p:cNvSpPr/>
          <p:nvPr/>
        </p:nvSpPr>
        <p:spPr>
          <a:xfrm flipV="1">
            <a:off x="8178840" y="4581360"/>
            <a:ext cx="142920" cy="6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651640" y="5516640"/>
                <a:ext cx="147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7596360" y="5516640"/>
                <a:ext cx="1182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Group 63"/>
          <p:cNvGrpSpPr/>
          <p:nvPr/>
        </p:nvGrpSpPr>
        <p:grpSpPr>
          <a:xfrm>
            <a:off x="3203280" y="4365720"/>
            <a:ext cx="144720" cy="142920"/>
            <a:chOff x="3203280" y="4365720"/>
            <a:chExt cx="144720" cy="142920"/>
          </a:xfrm>
        </p:grpSpPr>
        <p:sp>
          <p:nvSpPr>
            <p:cNvPr id="179" name="Line 64"/>
            <p:cNvSpPr/>
            <p:nvPr/>
          </p:nvSpPr>
          <p:spPr>
            <a:xfrm>
              <a:off x="320364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65"/>
            <p:cNvSpPr/>
            <p:nvPr/>
          </p:nvSpPr>
          <p:spPr>
            <a:xfrm flipH="1">
              <a:off x="320328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843280" y="378936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651640" y="465300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5651640" y="551808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AutoShape 71"/>
          <p:cNvSpPr/>
          <p:nvPr/>
        </p:nvSpPr>
        <p:spPr>
          <a:xfrm>
            <a:off x="2195640" y="2565360"/>
            <a:ext cx="108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5651640" y="3716280"/>
            <a:ext cx="1441440" cy="649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0"/>
          <p:cNvSpPr/>
          <p:nvPr/>
        </p:nvSpPr>
        <p:spPr>
          <a:xfrm>
            <a:off x="1116000" y="443700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333360"/>
                <a:ext cx="4872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3068640"/>
                <a:ext cx="159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0" name="Group 61"/>
          <p:cNvGrpSpPr/>
          <p:nvPr/>
        </p:nvGrpSpPr>
        <p:grpSpPr>
          <a:xfrm>
            <a:off x="1332000" y="2997000"/>
            <a:ext cx="71280" cy="1583640"/>
            <a:chOff x="1332000" y="2997000"/>
            <a:chExt cx="71280" cy="1583640"/>
          </a:xfrm>
        </p:grpSpPr>
        <p:sp>
          <p:nvSpPr>
            <p:cNvPr id="191" name="Line 21"/>
            <p:cNvSpPr/>
            <p:nvPr/>
          </p:nvSpPr>
          <p:spPr>
            <a:xfrm flipV="1">
              <a:off x="1332000" y="299700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V="1">
              <a:off x="1403280" y="299844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332000" y="4292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40328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2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196" name="Line 26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28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29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Line 30"/>
          <p:cNvSpPr/>
          <p:nvPr/>
        </p:nvSpPr>
        <p:spPr>
          <a:xfrm>
            <a:off x="2340000" y="3573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340000" y="4005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2628000" y="414972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2268360" y="4437000"/>
            <a:ext cx="187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2108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156360" y="1484280"/>
                <a:ext cx="13129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6156360" y="2205000"/>
                <a:ext cx="104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80000" y="3068640"/>
                <a:ext cx="162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41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44"/>
          <p:cNvGrpSpPr/>
          <p:nvPr/>
        </p:nvGrpSpPr>
        <p:grpSpPr>
          <a:xfrm>
            <a:off x="2411280" y="4365720"/>
            <a:ext cx="144720" cy="142920"/>
            <a:chOff x="2411280" y="4365720"/>
            <a:chExt cx="144720" cy="142920"/>
          </a:xfrm>
        </p:grpSpPr>
        <p:sp>
          <p:nvSpPr>
            <p:cNvPr id="214" name="Line 45"/>
            <p:cNvSpPr/>
            <p:nvPr/>
          </p:nvSpPr>
          <p:spPr>
            <a:xfrm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484360" y="450864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50"/>
          <p:cNvSpPr/>
          <p:nvPr/>
        </p:nvSpPr>
        <p:spPr>
          <a:xfrm>
            <a:off x="2340000" y="4437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>
            <a:off x="2124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291636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3348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780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>
            <a:off x="421164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99672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1836000" y="3213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Oval 63"/>
          <p:cNvSpPr/>
          <p:nvPr/>
        </p:nvSpPr>
        <p:spPr>
          <a:xfrm>
            <a:off x="1979640" y="429264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12400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421164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Oval 66"/>
          <p:cNvSpPr/>
          <p:nvPr/>
        </p:nvSpPr>
        <p:spPr>
          <a:xfrm>
            <a:off x="4067280" y="429264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67"/>
          <p:cNvSpPr/>
          <p:nvPr/>
        </p:nvSpPr>
        <p:spPr>
          <a:xfrm flipH="1">
            <a:off x="2195640" y="907920"/>
            <a:ext cx="2952720" cy="2089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4356000" y="907920"/>
            <a:ext cx="1224000" cy="201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AutoShape 69"/>
          <p:cNvSpPr/>
          <p:nvPr/>
        </p:nvSpPr>
        <p:spPr>
          <a:xfrm>
            <a:off x="4067280" y="333360"/>
            <a:ext cx="187308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AutoShape 70"/>
          <p:cNvSpPr/>
          <p:nvPr/>
        </p:nvSpPr>
        <p:spPr>
          <a:xfrm>
            <a:off x="5580000" y="1413000"/>
            <a:ext cx="1873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AutoShape 71"/>
          <p:cNvSpPr/>
          <p:nvPr/>
        </p:nvSpPr>
        <p:spPr>
          <a:xfrm>
            <a:off x="2124000" y="33336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5580000" y="2133720"/>
            <a:ext cx="1871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1116000" y="4046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3564000" y="4579920"/>
                <a:ext cx="1419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637080" y="1773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0" name="Group 11"/>
          <p:cNvGrpSpPr/>
          <p:nvPr/>
        </p:nvGrpSpPr>
        <p:grpSpPr>
          <a:xfrm>
            <a:off x="1187280" y="1917720"/>
            <a:ext cx="3892680" cy="4606560"/>
            <a:chOff x="1187280" y="1917720"/>
            <a:chExt cx="3892680" cy="4606560"/>
          </a:xfrm>
        </p:grpSpPr>
        <p:sp>
          <p:nvSpPr>
            <p:cNvPr id="241" name="Line 12"/>
            <p:cNvSpPr/>
            <p:nvPr/>
          </p:nvSpPr>
          <p:spPr>
            <a:xfrm>
              <a:off x="1187280" y="3933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 flipV="1">
              <a:off x="2555640" y="206028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4717800" y="386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627280" y="1917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>
            <a:off x="1187280" y="393372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49416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637080" y="24922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4140360" y="184464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4140360" y="2492280"/>
                <a:ext cx="803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5364000" y="4581360"/>
                <a:ext cx="1924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3494160" y="6021360"/>
                <a:ext cx="147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364000" y="6021360"/>
                <a:ext cx="1152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29"/>
          <p:cNvGrpSpPr/>
          <p:nvPr/>
        </p:nvGrpSpPr>
        <p:grpSpPr>
          <a:xfrm>
            <a:off x="2482560" y="3862440"/>
            <a:ext cx="144720" cy="142920"/>
            <a:chOff x="2482560" y="3862440"/>
            <a:chExt cx="144720" cy="142920"/>
          </a:xfrm>
        </p:grpSpPr>
        <p:sp>
          <p:nvSpPr>
            <p:cNvPr id="254" name="Line 30"/>
            <p:cNvSpPr/>
            <p:nvPr/>
          </p:nvSpPr>
          <p:spPr>
            <a:xfrm>
              <a:off x="248292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248256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052720" y="3286080"/>
                <a:ext cx="44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3564000" y="458136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94160" y="602136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49"/>
          <p:cNvSpPr/>
          <p:nvPr/>
        </p:nvSpPr>
        <p:spPr>
          <a:xfrm>
            <a:off x="2557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495960" y="5084640"/>
            <a:ext cx="4308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ůsečíků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je nekonečně mnoh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aždý bod funkce leží n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42920" y="1268280"/>
                <a:ext cx="100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7"/>
          <p:cNvSpPr/>
          <p:nvPr/>
        </p:nvSpPr>
        <p:spPr>
          <a:xfrm>
            <a:off x="219744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042920" y="1197000"/>
            <a:ext cx="3889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5219640" y="1268280"/>
                <a:ext cx="973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7"/>
          <p:cNvSpPr/>
          <p:nvPr/>
        </p:nvSpPr>
        <p:spPr>
          <a:xfrm>
            <a:off x="626616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5146560" y="1197000"/>
            <a:ext cx="381816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249880" y="1916280"/>
            <a:ext cx="3892680" cy="4606560"/>
            <a:chOff x="5249880" y="1916280"/>
            <a:chExt cx="3892680" cy="4606560"/>
          </a:xfrm>
        </p:grpSpPr>
        <p:sp>
          <p:nvSpPr>
            <p:cNvPr id="268" name="Line 58"/>
            <p:cNvSpPr/>
            <p:nvPr/>
          </p:nvSpPr>
          <p:spPr>
            <a:xfrm>
              <a:off x="5249880" y="393228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 flipV="1">
              <a:off x="6618240" y="205884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60"/>
            <p:cNvSpPr/>
            <p:nvPr/>
          </p:nvSpPr>
          <p:spPr>
            <a:xfrm>
              <a:off x="878040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6689880" y="19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62"/>
          <p:cNvSpPr/>
          <p:nvPr/>
        </p:nvSpPr>
        <p:spPr>
          <a:xfrm flipV="1">
            <a:off x="6618240" y="2057040"/>
            <a:ext cx="0" cy="4465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6659640" y="2565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předpisem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6589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492360" y="328464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: y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060560" y="297000"/>
                <a:ext cx="42116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281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286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16"/>
          <p:cNvSpPr/>
          <p:nvPr/>
        </p:nvSpPr>
        <p:spPr>
          <a:xfrm>
            <a:off x="2340000" y="3716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5080" y="4076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2556000" y="4292640"/>
            <a:ext cx="2447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6156360" y="1413000"/>
                <a:ext cx="804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141960" y="2205000"/>
                <a:ext cx="107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47"/>
          <p:cNvSpPr/>
          <p:nvPr/>
        </p:nvSpPr>
        <p:spPr>
          <a:xfrm flipH="1">
            <a:off x="2700360" y="836640"/>
            <a:ext cx="316872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5219640" y="333360"/>
                <a:ext cx="139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Oval 46"/>
          <p:cNvSpPr/>
          <p:nvPr/>
        </p:nvSpPr>
        <p:spPr>
          <a:xfrm>
            <a:off x="2340000" y="4149720"/>
            <a:ext cx="287280" cy="289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1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042920" y="333360"/>
                <a:ext cx="2386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6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317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322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1"/>
              <p:cNvSpPr txBox="1"/>
              <p:nvPr/>
            </p:nvSpPr>
            <p:spPr>
              <a:xfrm>
                <a:off x="6227640" y="1484280"/>
                <a:ext cx="69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6156360" y="2205000"/>
                <a:ext cx="127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6156360" y="3068640"/>
                <a:ext cx="119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6156360" y="386064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7521480" y="3902040"/>
                <a:ext cx="151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4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2484360" y="4292640"/>
                <a:ext cx="77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116000" y="1052640"/>
            <a:ext cx="3750840" cy="2663640"/>
            <a:chOff x="1116000" y="1052640"/>
            <a:chExt cx="3750840" cy="2663640"/>
          </a:xfrm>
        </p:grpSpPr>
        <p:sp>
          <p:nvSpPr>
            <p:cNvPr id="346" name="Line 7"/>
            <p:cNvSpPr/>
            <p:nvPr/>
          </p:nvSpPr>
          <p:spPr>
            <a:xfrm flipV="1">
              <a:off x="2197080" y="2131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2268360" y="2133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195640" y="2563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2266920" y="2565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60360" y="270828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 flipV="1">
              <a:off x="3059280" y="126828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4502160" y="2637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13200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2916360" y="227808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313308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56" name="Group 19"/>
            <p:cNvGrpSpPr/>
            <p:nvPr/>
          </p:nvGrpSpPr>
          <p:grpSpPr>
            <a:xfrm>
              <a:off x="1258920" y="1628640"/>
              <a:ext cx="3607920" cy="649440"/>
              <a:chOff x="1258920" y="1628640"/>
              <a:chExt cx="3607920" cy="649440"/>
            </a:xfrm>
          </p:grpSpPr>
          <p:sp>
            <p:nvSpPr>
              <p:cNvPr id="357" name="Line 20"/>
              <p:cNvSpPr/>
              <p:nvPr/>
            </p:nvSpPr>
            <p:spPr>
              <a:xfrm>
                <a:off x="1258920" y="2278080"/>
                <a:ext cx="360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8" name="Text Box 21"/>
              <p:cNvSpPr/>
              <p:nvPr/>
            </p:nvSpPr>
            <p:spPr>
              <a:xfrm>
                <a:off x="4573440" y="1628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59" name="Text Box 36"/>
            <p:cNvSpPr/>
            <p:nvPr/>
          </p:nvSpPr>
          <p:spPr>
            <a:xfrm>
              <a:off x="1116000" y="1125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3203640" y="3284640"/>
            <a:ext cx="129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4356000" y="3284640"/>
            <a:ext cx="36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7738920" y="3284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3" name="Group 42"/>
          <p:cNvGrpSpPr/>
          <p:nvPr/>
        </p:nvGrpSpPr>
        <p:grpSpPr>
          <a:xfrm>
            <a:off x="2987280" y="2203560"/>
            <a:ext cx="144720" cy="142920"/>
            <a:chOff x="2987280" y="2203560"/>
            <a:chExt cx="144720" cy="142920"/>
          </a:xfrm>
        </p:grpSpPr>
        <p:sp>
          <p:nvSpPr>
            <p:cNvPr id="364" name="Line 43"/>
            <p:cNvSpPr/>
            <p:nvPr/>
          </p:nvSpPr>
          <p:spPr>
            <a:xfrm>
              <a:off x="298764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298728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AutoShape 45"/>
          <p:cNvSpPr/>
          <p:nvPr/>
        </p:nvSpPr>
        <p:spPr>
          <a:xfrm>
            <a:off x="2843280" y="1700280"/>
            <a:ext cx="649080" cy="7905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560"/>
              <a:gd name="textAreaBottom" fmla="*/ 758880 h 790560"/>
            </a:gdLst>
            <a:ahLst/>
            <a:rect l="textAreaLeft" t="textAreaTop" r="textAreaRight" b="textAreaBottom"/>
            <a:pathLst>
              <a:path w="21600" h="26306">
                <a:moveTo>
                  <a:pt x="3600" y="0"/>
                </a:moveTo>
                <a:arcTo wR="3600" hR="3600" stAng="16200000" swAng="-5400000"/>
                <a:lnTo>
                  <a:pt x="0" y="22706"/>
                </a:lnTo>
                <a:arcTo wR="3600" hR="3600" stAng="10800000" swAng="-5400000"/>
                <a:lnTo>
                  <a:pt x="18000" y="2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48"/>
          <p:cNvSpPr/>
          <p:nvPr/>
        </p:nvSpPr>
        <p:spPr>
          <a:xfrm flipV="1">
            <a:off x="3995640" y="472284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49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50"/>
          <p:cNvSpPr/>
          <p:nvPr/>
        </p:nvSpPr>
        <p:spPr>
          <a:xfrm flipV="1">
            <a:off x="3995640" y="565956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1"/>
          <p:cNvSpPr/>
          <p:nvPr/>
        </p:nvSpPr>
        <p:spPr>
          <a:xfrm flipV="1">
            <a:off x="4067280" y="566100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1187280" y="4869000"/>
            <a:ext cx="352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53"/>
          <p:cNvSpPr/>
          <p:nvPr/>
        </p:nvSpPr>
        <p:spPr>
          <a:xfrm flipH="1" flipV="1">
            <a:off x="3059280" y="4005360"/>
            <a:ext cx="144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4502160" y="47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13200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57"/>
          <p:cNvSpPr/>
          <p:nvPr/>
        </p:nvSpPr>
        <p:spPr>
          <a:xfrm>
            <a:off x="3060000" y="57340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258920" y="5807160"/>
            <a:ext cx="360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1693800" y="51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1116000" y="3862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2987280" y="5732640"/>
            <a:ext cx="144720" cy="142560"/>
            <a:chOff x="2987280" y="5732640"/>
            <a:chExt cx="144720" cy="142560"/>
          </a:xfrm>
        </p:grpSpPr>
        <p:sp>
          <p:nvSpPr>
            <p:cNvPr id="380" name="Line 63"/>
            <p:cNvSpPr/>
            <p:nvPr/>
          </p:nvSpPr>
          <p:spPr>
            <a:xfrm>
              <a:off x="298764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4"/>
            <p:cNvSpPr/>
            <p:nvPr/>
          </p:nvSpPr>
          <p:spPr>
            <a:xfrm flipH="1">
              <a:off x="298728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AutoShape 65"/>
          <p:cNvSpPr/>
          <p:nvPr/>
        </p:nvSpPr>
        <p:spPr>
          <a:xfrm>
            <a:off x="2843280" y="5516640"/>
            <a:ext cx="79200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5219640" y="5516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306036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3060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1:25Z</dcterms:modified>
  <cp:revision>314</cp:revision>
  <dc:subject/>
  <dc:title>FCE</dc:title>
</cp:coreProperties>
</file>