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2DF3-CF92-41E3-B25B-FF0A99042C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86C3-DEFD-41BF-8D0D-0041B19EF4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AEFD-95EF-444C-9C39-CD9715EBDB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94F2-E40B-4100-8608-557178D045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B33-A727-4090-90F4-740DDBB0AB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BCB7-CC31-4268-80CA-C4E707E57A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240-9E93-4FAD-ACED-179DBBA119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19C1-F766-4BC4-86DA-24BCED81BC8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7D36-CD7B-40C6-BF14-3146E9FE77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587-B1CE-4093-B29A-808FA43C02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A45-CC53-4EE1-84A6-3EF57BCAA3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106C-7AF9-4E13-B2B9-2C8A99412C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2788-D8CF-48E5-BBD6-AA6BD9B1E2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9F46-8B95-4429-93F1-D80134020C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FF19-01DE-4232-819E-1FD4B5457F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CFFB-EF67-4466-88B1-C34CAD1DC8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74DE-2DE3-4FCB-8A8E-7F11F674F9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B183-1318-4C90-BAF8-E2A688F274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910-EC6A-454C-BC75-14701A199E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05E2-32DC-4A95-8542-DA78837AE6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07AA-AB96-4E85-803B-528B4110BB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4A1-C742-4474-9865-2BA7B1F882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6FE3-600D-4EAE-A15C-EA72B58170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1DEE-3150-4AF6-AA26-44E75790DA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D07-9A70-4683-AE7B-AE1E2A72D8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867-C80E-482B-8672-46B5D829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B5A-2758-4954-93EF-014241DB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7C5-E7DF-40A9-8E37-9CFF6BDB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7F7-90BA-4890-8C4E-97BEB38E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BF2-06A8-41C4-BD60-F5CDF332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0A59-FB90-4AEC-ABAE-1079618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30BE-858B-4873-B0A2-224A20A9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7F8-E191-43C8-A5A7-87599DE5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E240-465A-4F15-B5BE-7B0B11A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7EB5-836D-4B2D-8018-CBD1CADD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1680-F87C-485E-9B0B-DC64C54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B0F-DB5D-4B27-A493-93C01E6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4EB6-1500-4327-A81B-1B1FE402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889B-F4BC-42A4-A7D6-4FE3405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D797-D611-4147-B9A6-94C55599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E599-467E-4164-8829-D343BDC7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6B9E-F962-4280-B1E9-60E1D6C6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4F5-3FFF-4519-99E5-9252934A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C9C-AAF2-49B1-9CF8-D1A99460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378-427E-474D-9E49-574A8E78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F7E-41BD-4082-959C-D8AC2175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DB9-7FE0-41B8-AFB3-06CC3190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4EB-C494-4815-B821-9DDAA9D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F01-563C-4FA8-8F3F-4451217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AA7B-62C0-4659-A535-ECD5E9FCD4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372D-51E4-4C9A-A8A6-B0F4C54C2B3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9.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edpisem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zorcem, rovnicí)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     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bulkou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adání, zápis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332000" y="3573360"/>
          <a:ext cx="7632720" cy="1187640"/>
        </p:xfrm>
        <a:graphic>
          <a:graphicData uri="http://schemas.openxmlformats.org/drawingml/2006/table">
            <a:tbl>
              <a:tblPr/>
              <a:tblGrid>
                <a:gridCol w="1655640"/>
                <a:gridCol w="622440"/>
                <a:gridCol w="672840"/>
                <a:gridCol w="671760"/>
                <a:gridCol w="671400"/>
                <a:gridCol w="696960"/>
                <a:gridCol w="2641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y = f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3"/>
          <p:cNvSpPr/>
          <p:nvPr/>
        </p:nvSpPr>
        <p:spPr>
          <a:xfrm>
            <a:off x="900000" y="4869000"/>
            <a:ext cx="82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graf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y z tabulky – bod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yneseme do souřadného systému 0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914560" y="3573360"/>
          <a:ext cx="5737320" cy="612720"/>
        </p:xfrm>
        <a:graphic>
          <a:graphicData uri="http://schemas.openxmlformats.org/drawingml/2006/table">
            <a:tbl>
              <a:tblPr/>
              <a:tblGrid>
                <a:gridCol w="671760"/>
                <a:gridCol w="672840"/>
                <a:gridCol w="671760"/>
                <a:gridCol w="671400"/>
                <a:gridCol w="696960"/>
                <a:gridCol w="23526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... volíme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164"/>
          <p:cNvSpPr/>
          <p:nvPr/>
        </p:nvSpPr>
        <p:spPr>
          <a:xfrm>
            <a:off x="306072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167"/>
          <p:cNvSpPr/>
          <p:nvPr/>
        </p:nvSpPr>
        <p:spPr>
          <a:xfrm>
            <a:off x="370836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168"/>
          <p:cNvSpPr/>
          <p:nvPr/>
        </p:nvSpPr>
        <p:spPr>
          <a:xfrm>
            <a:off x="442908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169"/>
          <p:cNvSpPr/>
          <p:nvPr/>
        </p:nvSpPr>
        <p:spPr>
          <a:xfrm>
            <a:off x="5003640" y="4221000"/>
            <a:ext cx="69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170"/>
          <p:cNvSpPr/>
          <p:nvPr/>
        </p:nvSpPr>
        <p:spPr>
          <a:xfrm>
            <a:off x="5653080" y="420696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174"/>
          <p:cNvSpPr/>
          <p:nvPr/>
        </p:nvSpPr>
        <p:spPr>
          <a:xfrm>
            <a:off x="6373800" y="4268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dopočít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84"/>
          <p:cNvSpPr/>
          <p:nvPr/>
        </p:nvSpPr>
        <p:spPr>
          <a:xfrm flipV="1">
            <a:off x="3348000" y="2491920"/>
            <a:ext cx="2303640" cy="129708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5"/>
          <p:cNvSpPr/>
          <p:nvPr/>
        </p:nvSpPr>
        <p:spPr>
          <a:xfrm flipH="1">
            <a:off x="3347640" y="2492280"/>
            <a:ext cx="2376360" cy="201636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42"/>
          <p:cNvSpPr/>
          <p:nvPr/>
        </p:nvSpPr>
        <p:spPr>
          <a:xfrm>
            <a:off x="3059280" y="3645000"/>
            <a:ext cx="433080" cy="115236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445">
                <a:moveTo>
                  <a:pt x="3600" y="0"/>
                </a:moveTo>
                <a:arcTo wR="3600" hR="3600" stAng="16200000" swAng="-5400000"/>
                <a:lnTo>
                  <a:pt x="0" y="53845"/>
                </a:lnTo>
                <a:arcTo wR="3600" hR="3600" stAng="10800000" swAng="-5400000"/>
                <a:lnTo>
                  <a:pt x="18000" y="57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5148360" y="5661000"/>
            <a:ext cx="718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7" name="AutoShape 44"/>
          <p:cNvCxnSpPr>
            <a:stCxn id="325" idx="2"/>
            <a:endCxn id="326" idx="0"/>
          </p:cNvCxnSpPr>
          <p:nvPr/>
        </p:nvCxnSpPr>
        <p:spPr>
          <a:xfrm>
            <a:off x="3276720" y="4811400"/>
            <a:ext cx="2232720" cy="8355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360880" y="476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84880" y="1700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880160" y="299736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176520" y="429264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471800" y="558972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2266560" y="981000"/>
            <a:ext cx="144720" cy="142920"/>
            <a:chOff x="2266560" y="981000"/>
            <a:chExt cx="144720" cy="142920"/>
          </a:xfrm>
        </p:grpSpPr>
        <p:sp>
          <p:nvSpPr>
            <p:cNvPr id="334" name="Line 64"/>
            <p:cNvSpPr/>
            <p:nvPr/>
          </p:nvSpPr>
          <p:spPr>
            <a:xfrm>
              <a:off x="226692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5"/>
            <p:cNvSpPr/>
            <p:nvPr/>
          </p:nvSpPr>
          <p:spPr>
            <a:xfrm flipH="1">
              <a:off x="226656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258920" y="144360"/>
            <a:ext cx="7518600" cy="6669000"/>
            <a:chOff x="1258920" y="144360"/>
            <a:chExt cx="7518600" cy="6669000"/>
          </a:xfrm>
        </p:grpSpPr>
        <p:sp>
          <p:nvSpPr>
            <p:cNvPr id="337" name="Line 11"/>
            <p:cNvSpPr/>
            <p:nvPr/>
          </p:nvSpPr>
          <p:spPr>
            <a:xfrm>
              <a:off x="1258920" y="3645000"/>
              <a:ext cx="7416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V="1">
              <a:off x="2338560" y="333000"/>
              <a:ext cx="0" cy="648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34180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846108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2412720" y="144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63"/>
          <p:cNvGrpSpPr/>
          <p:nvPr/>
        </p:nvGrpSpPr>
        <p:grpSpPr>
          <a:xfrm>
            <a:off x="3562200" y="2278080"/>
            <a:ext cx="144720" cy="142920"/>
            <a:chOff x="3562200" y="2278080"/>
            <a:chExt cx="144720" cy="142920"/>
          </a:xfrm>
        </p:grpSpPr>
        <p:sp>
          <p:nvSpPr>
            <p:cNvPr id="343" name="Line 64"/>
            <p:cNvSpPr/>
            <p:nvPr/>
          </p:nvSpPr>
          <p:spPr>
            <a:xfrm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65"/>
            <p:cNvSpPr/>
            <p:nvPr/>
          </p:nvSpPr>
          <p:spPr>
            <a:xfrm flipH="1"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3635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195640" y="2349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493092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622764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7523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195640" y="494172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2195640" y="6237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6"/>
          <p:cNvSpPr/>
          <p:nvPr/>
        </p:nvSpPr>
        <p:spPr>
          <a:xfrm>
            <a:off x="1908360" y="8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349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190836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47880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30"/>
          <p:cNvSpPr/>
          <p:nvPr/>
        </p:nvSpPr>
        <p:spPr>
          <a:xfrm>
            <a:off x="176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176400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6085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7309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34"/>
          <p:cNvSpPr/>
          <p:nvPr/>
        </p:nvSpPr>
        <p:spPr>
          <a:xfrm flipV="1">
            <a:off x="3635280" y="2349000"/>
            <a:ext cx="0" cy="1295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2338560" y="2349360"/>
            <a:ext cx="1296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63"/>
          <p:cNvGrpSpPr/>
          <p:nvPr/>
        </p:nvGrpSpPr>
        <p:grpSpPr>
          <a:xfrm>
            <a:off x="4858920" y="3573360"/>
            <a:ext cx="144720" cy="142920"/>
            <a:chOff x="4858920" y="3573360"/>
            <a:chExt cx="144720" cy="142920"/>
          </a:xfrm>
        </p:grpSpPr>
        <p:sp>
          <p:nvSpPr>
            <p:cNvPr id="363" name="Line 64"/>
            <p:cNvSpPr/>
            <p:nvPr/>
          </p:nvSpPr>
          <p:spPr>
            <a:xfrm>
              <a:off x="485928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 flipH="1">
              <a:off x="485892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39"/>
          <p:cNvSpPr/>
          <p:nvPr/>
        </p:nvSpPr>
        <p:spPr>
          <a:xfrm>
            <a:off x="2195640" y="105264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6" name="Group 6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67" name="Line 6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9" name="Line 43"/>
          <p:cNvSpPr/>
          <p:nvPr/>
        </p:nvSpPr>
        <p:spPr>
          <a:xfrm>
            <a:off x="6227640" y="3645000"/>
            <a:ext cx="0" cy="129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2340000" y="494172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6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372" name="Line 6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6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Line 48"/>
          <p:cNvSpPr/>
          <p:nvPr/>
        </p:nvSpPr>
        <p:spPr>
          <a:xfrm>
            <a:off x="7524720" y="3645000"/>
            <a:ext cx="0" cy="25923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49"/>
          <p:cNvSpPr/>
          <p:nvPr/>
        </p:nvSpPr>
        <p:spPr>
          <a:xfrm>
            <a:off x="2340000" y="6237360"/>
            <a:ext cx="5184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0"/>
          <p:cNvSpPr/>
          <p:nvPr/>
        </p:nvSpPr>
        <p:spPr>
          <a:xfrm>
            <a:off x="1835280" y="549360"/>
            <a:ext cx="6049800" cy="604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6229440" y="522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64"/>
          <p:cNvSpPr/>
          <p:nvPr/>
        </p:nvSpPr>
        <p:spPr>
          <a:xfrm>
            <a:off x="522108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67"/>
          <p:cNvSpPr/>
          <p:nvPr/>
        </p:nvSpPr>
        <p:spPr>
          <a:xfrm>
            <a:off x="586872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Rectangle 168"/>
          <p:cNvSpPr/>
          <p:nvPr/>
        </p:nvSpPr>
        <p:spPr>
          <a:xfrm>
            <a:off x="658944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169"/>
          <p:cNvSpPr/>
          <p:nvPr/>
        </p:nvSpPr>
        <p:spPr>
          <a:xfrm>
            <a:off x="7093080" y="765000"/>
            <a:ext cx="69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170"/>
          <p:cNvSpPr/>
          <p:nvPr/>
        </p:nvSpPr>
        <p:spPr>
          <a:xfrm>
            <a:off x="7886520" y="76500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92"/>
          <p:cNvSpPr/>
          <p:nvPr/>
        </p:nvSpPr>
        <p:spPr>
          <a:xfrm>
            <a:off x="4500720" y="765000"/>
            <a:ext cx="4392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93"/>
          <p:cNvSpPr/>
          <p:nvPr/>
        </p:nvSpPr>
        <p:spPr>
          <a:xfrm flipV="1">
            <a:off x="507672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164"/>
          <p:cNvSpPr/>
          <p:nvPr/>
        </p:nvSpPr>
        <p:spPr>
          <a:xfrm>
            <a:off x="522108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164"/>
          <p:cNvSpPr/>
          <p:nvPr/>
        </p:nvSpPr>
        <p:spPr>
          <a:xfrm>
            <a:off x="58687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Rectangle 164"/>
          <p:cNvSpPr/>
          <p:nvPr/>
        </p:nvSpPr>
        <p:spPr>
          <a:xfrm>
            <a:off x="658944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164"/>
          <p:cNvSpPr/>
          <p:nvPr/>
        </p:nvSpPr>
        <p:spPr>
          <a:xfrm>
            <a:off x="731016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164"/>
          <p:cNvSpPr/>
          <p:nvPr/>
        </p:nvSpPr>
        <p:spPr>
          <a:xfrm>
            <a:off x="81025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164"/>
          <p:cNvSpPr/>
          <p:nvPr/>
        </p:nvSpPr>
        <p:spPr>
          <a:xfrm>
            <a:off x="4573800" y="189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164"/>
          <p:cNvSpPr/>
          <p:nvPr/>
        </p:nvSpPr>
        <p:spPr>
          <a:xfrm>
            <a:off x="4573800" y="836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Line 101"/>
          <p:cNvSpPr/>
          <p:nvPr/>
        </p:nvSpPr>
        <p:spPr>
          <a:xfrm flipV="1">
            <a:off x="565164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102"/>
          <p:cNvSpPr/>
          <p:nvPr/>
        </p:nvSpPr>
        <p:spPr>
          <a:xfrm flipV="1">
            <a:off x="6372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103"/>
          <p:cNvSpPr/>
          <p:nvPr/>
        </p:nvSpPr>
        <p:spPr>
          <a:xfrm flipV="1">
            <a:off x="7020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104"/>
          <p:cNvSpPr/>
          <p:nvPr/>
        </p:nvSpPr>
        <p:spPr>
          <a:xfrm flipV="1">
            <a:off x="7812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105"/>
          <p:cNvSpPr/>
          <p:nvPr/>
        </p:nvSpPr>
        <p:spPr>
          <a:xfrm flipV="1">
            <a:off x="8604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funkční hodnoty pro dané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042920" y="1700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1547640" y="249228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5"/>
          <p:cNvSpPr/>
          <p:nvPr/>
        </p:nvSpPr>
        <p:spPr>
          <a:xfrm>
            <a:off x="1547640" y="2276640"/>
            <a:ext cx="6796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bdélník 34"/>
          <p:cNvSpPr/>
          <p:nvPr/>
        </p:nvSpPr>
        <p:spPr>
          <a:xfrm>
            <a:off x="4140360" y="1628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1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476360" y="3645000"/>
                <a:ext cx="316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716360" y="3716280"/>
                <a:ext cx="1433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6227640" y="3716280"/>
                <a:ext cx="866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692360" y="429264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716360" y="4365720"/>
                <a:ext cx="12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6227640" y="4381560"/>
                <a:ext cx="866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1692360" y="501336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16360" y="5102280"/>
                <a:ext cx="1233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6227640" y="5084640"/>
                <a:ext cx="633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971640" y="333360"/>
                <a:ext cx="3817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1476360" y="134136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Line 4"/>
          <p:cNvSpPr/>
          <p:nvPr/>
        </p:nvSpPr>
        <p:spPr>
          <a:xfrm>
            <a:off x="1476360" y="981000"/>
            <a:ext cx="72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2; 0;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258920" y="2492280"/>
                <a:ext cx="4869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6084720" y="2637000"/>
                <a:ext cx="21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6084720" y="3213000"/>
                <a:ext cx="186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8077320" y="3213000"/>
                <a:ext cx="1066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476360" y="3860640"/>
                <a:ext cx="35686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005440" y="4005360"/>
                <a:ext cx="1733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732720" y="4005360"/>
                <a:ext cx="566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476360" y="4941720"/>
                <a:ext cx="350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5003640" y="5084640"/>
                <a:ext cx="210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5003640" y="5734080"/>
                <a:ext cx="1933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7020000" y="573408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1187280" y="189000"/>
                <a:ext cx="2776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Line 3"/>
          <p:cNvSpPr/>
          <p:nvPr/>
        </p:nvSpPr>
        <p:spPr>
          <a:xfrm>
            <a:off x="1619280" y="12682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3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619280" y="1557360"/>
                <a:ext cx="2868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4427640" y="1557360"/>
                <a:ext cx="12668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5722920" y="155736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1835280" y="3141720"/>
                <a:ext cx="21351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4056120" y="3179880"/>
                <a:ext cx="7002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848120" y="3467160"/>
                <a:ext cx="633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819440" y="4653000"/>
                <a:ext cx="2168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3995640" y="465300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Obdélník 34"/>
          <p:cNvSpPr/>
          <p:nvPr/>
        </p:nvSpPr>
        <p:spPr>
          <a:xfrm>
            <a:off x="4859280" y="472428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daný argument není funkční hodnota definová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116000" y="549360"/>
                <a:ext cx="3503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16000" y="1700280"/>
                <a:ext cx="3433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116000" y="2781360"/>
                <a:ext cx="398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16000" y="3933720"/>
                <a:ext cx="41608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1116000" y="5300640"/>
                <a:ext cx="4195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6227640" y="620640"/>
                <a:ext cx="1873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6227640" y="1700280"/>
                <a:ext cx="1733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6227640" y="2852640"/>
                <a:ext cx="2009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6227640" y="4149720"/>
                <a:ext cx="1974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6227640" y="5516640"/>
                <a:ext cx="2737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ní d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1150920" y="341280"/>
                <a:ext cx="3433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131840" y="1773360"/>
                <a:ext cx="4336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1116000" y="2708280"/>
                <a:ext cx="34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1116000" y="4292640"/>
                <a:ext cx="4403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116000" y="5300640"/>
                <a:ext cx="43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6227640" y="333360"/>
                <a:ext cx="1735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6227640" y="1844640"/>
                <a:ext cx="1525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6227640" y="2997360"/>
                <a:ext cx="1524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227640" y="4365720"/>
                <a:ext cx="2287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6227640" y="5300640"/>
                <a:ext cx="2009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1258920" y="1557360"/>
            <a:ext cx="788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; ŘEPOVÁ, J.; SKŘÍČEK, L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1995. ISBN 8085849615. Kapitola 1, s. 7–1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557360"/>
          <a:ext cx="7705800" cy="48099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– definice, zápis, základní pojm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vysvětlí pojem funkce – funkčnost. Na příkladu zavede zápis funkce. V souřadném systému os se učí žáci rozpoznávat  graf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; Argument 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hodnota; Zápis funkce; P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pis funkce; Graf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0496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ccecff"/>
                </a:solidFill>
                <a:latin typeface="Times New Roman"/>
              </a:rPr>
              <a:t>REÁLNÁ FUNKCE JEDNÉ  REÁLNÉ PROMĚNNÉ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195640" y="4797360"/>
            <a:ext cx="69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1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dále budeme používat pouze označení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ěžně používáme označení, ž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ěco je či není funkč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 souvislosti s různými stroji,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íklad, když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DVD přehrávači stisknete tlačítko        , očekáváme, že se na obrazovce rozehraje film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varné konvici stisknete tlačítko        , očekáváme, že se v konvici var vody zastaví, .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Funkce – funkčnos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486900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je tedy „něco“, co pro jednoznačně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daný vstup dává vždy stejný výstup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ýsledek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7236000" y="2637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04000" y="37162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80000" y="5589720"/>
            <a:ext cx="936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4643280" y="2637000"/>
            <a:ext cx="3097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3716280"/>
            <a:ext cx="30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1" name="AutoShape 10"/>
          <p:cNvCxnSpPr>
            <a:stCxn id="148" idx="0"/>
            <a:endCxn id="150" idx="2"/>
          </p:cNvCxnSpPr>
          <p:nvPr/>
        </p:nvCxnSpPr>
        <p:spPr>
          <a:xfrm flipV="1">
            <a:off x="4247640" y="4235040"/>
            <a:ext cx="1513800" cy="134064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cxnSp>
        <p:nvCxnSpPr>
          <p:cNvPr id="152" name="AutoShape 11"/>
          <p:cNvCxnSpPr>
            <a:stCxn id="148" idx="0"/>
            <a:endCxn id="149" idx="2"/>
          </p:cNvCxnSpPr>
          <p:nvPr/>
        </p:nvCxnSpPr>
        <p:spPr>
          <a:xfrm flipV="1">
            <a:off x="4248000" y="3156120"/>
            <a:ext cx="1945440" cy="241956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sp>
        <p:nvSpPr>
          <p:cNvPr id="153" name="AutoShape 12"/>
          <p:cNvSpPr/>
          <p:nvPr/>
        </p:nvSpPr>
        <p:spPr>
          <a:xfrm>
            <a:off x="7596360" y="5589720"/>
            <a:ext cx="1152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300720" y="3213000"/>
            <a:ext cx="2087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24360" y="4292640"/>
            <a:ext cx="244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6" name="AutoShape 15"/>
          <p:cNvCxnSpPr>
            <a:stCxn id="153" idx="0"/>
            <a:endCxn id="155" idx="2"/>
          </p:cNvCxnSpPr>
          <p:nvPr/>
        </p:nvCxnSpPr>
        <p:spPr>
          <a:xfrm flipH="1" flipV="1">
            <a:off x="6948000" y="4738320"/>
            <a:ext cx="1224720" cy="8373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  <p:cxnSp>
        <p:nvCxnSpPr>
          <p:cNvPr id="157" name="AutoShape 16"/>
          <p:cNvCxnSpPr>
            <a:stCxn id="153" idx="0"/>
            <a:endCxn id="154" idx="2"/>
          </p:cNvCxnSpPr>
          <p:nvPr/>
        </p:nvCxnSpPr>
        <p:spPr>
          <a:xfrm flipH="1" flipV="1">
            <a:off x="7344720" y="3658320"/>
            <a:ext cx="827640" cy="191700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82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 matematice se obvykle zabýváme čísly (přirozenými, celými, reálnými, ...) nikoliv stroji,      a proto definujeme  funkci tak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Definice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900000" y="1197000"/>
            <a:ext cx="82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c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ozn.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... 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, …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                       na množině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edpis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který každému číslu z množin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řiřazu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ávě jedno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reálné čísl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24000" y="3860640"/>
            <a:ext cx="576360" cy="20894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51280" y="3716280"/>
            <a:ext cx="3166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vadratická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onstant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81000" y="4941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zhodněte na základě grafu, zda daná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řivka odpovídá předpisu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02520" y="285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227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189080" y="407844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2771640" y="2276280"/>
            <a:ext cx="0" cy="367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84616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332000" y="2709360"/>
            <a:ext cx="3384360" cy="3095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70200" y="414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976400" y="4078440"/>
            <a:ext cx="4680" cy="11509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981080" y="522936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Line 13"/>
          <p:cNvSpPr/>
          <p:nvPr/>
        </p:nvSpPr>
        <p:spPr>
          <a:xfrm flipV="1">
            <a:off x="4065480" y="3285720"/>
            <a:ext cx="324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2771640" y="3284640"/>
            <a:ext cx="1297080" cy="1440"/>
          </a:xfrm>
          <a:prstGeom prst="line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31920" y="4005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842840" y="3573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347920" y="292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189080" y="60944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111600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Pro argument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 nalezneme právě 1 funkční hodnotu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1964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5292720" y="407664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7020000" y="2347560"/>
            <a:ext cx="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8821440" y="414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 flipV="1" rot="16200000">
            <a:off x="5615640" y="303192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027560" y="2779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6667200" y="393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6732720" y="4076640"/>
            <a:ext cx="0" cy="57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7027560" y="4363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36400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32"/>
          <p:cNvSpPr/>
          <p:nvPr/>
        </p:nvSpPr>
        <p:spPr>
          <a:xfrm flipV="1">
            <a:off x="6732720" y="306864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34"/>
          <p:cNvSpPr/>
          <p:nvPr/>
        </p:nvSpPr>
        <p:spPr>
          <a:xfrm flipV="1">
            <a:off x="6732720" y="4653000"/>
            <a:ext cx="287280" cy="14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 flipV="1">
            <a:off x="1619280" y="62028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42144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779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91592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419200" y="1268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500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027560" y="981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459560" y="148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948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630840" y="2160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5183280" y="144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5148360" y="198900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7020000" y="189000"/>
            <a:ext cx="0" cy="3457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05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5796000" y="260280"/>
            <a:ext cx="2304720" cy="3456000"/>
            <a:chOff x="5796000" y="260280"/>
            <a:chExt cx="2304720" cy="3456000"/>
          </a:xfrm>
        </p:grpSpPr>
        <p:sp>
          <p:nvSpPr>
            <p:cNvPr id="218" name="Freeform 24"/>
            <p:cNvSpPr/>
            <p:nvPr/>
          </p:nvSpPr>
          <p:spPr>
            <a:xfrm flipH="1">
              <a:off x="6948000" y="1989000"/>
              <a:ext cx="115272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 flipV="1">
              <a:off x="5796000" y="259920"/>
              <a:ext cx="115236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8137800" y="29527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759280" y="36734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30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2419200" y="36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71560" y="4797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5"/>
          <p:cNvSpPr/>
          <p:nvPr/>
        </p:nvSpPr>
        <p:spPr>
          <a:xfrm>
            <a:off x="2419200" y="54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2124000" y="3500280"/>
            <a:ext cx="2160720" cy="2521080"/>
            <a:chOff x="2124000" y="3500280"/>
            <a:chExt cx="2160720" cy="2521080"/>
          </a:xfrm>
        </p:grpSpPr>
        <p:sp>
          <p:nvSpPr>
            <p:cNvPr id="231" name="Line 37"/>
            <p:cNvSpPr/>
            <p:nvPr/>
          </p:nvSpPr>
          <p:spPr>
            <a:xfrm>
              <a:off x="2124000" y="4941720"/>
              <a:ext cx="2016360" cy="1079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 flipV="1">
              <a:off x="2124000" y="3500280"/>
              <a:ext cx="2160720" cy="1441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39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0"/>
          <p:cNvSpPr/>
          <p:nvPr/>
        </p:nvSpPr>
        <p:spPr>
          <a:xfrm flipV="1">
            <a:off x="3635280" y="393372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41"/>
          <p:cNvSpPr/>
          <p:nvPr/>
        </p:nvSpPr>
        <p:spPr>
          <a:xfrm flipH="1">
            <a:off x="2771280" y="393372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2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24000" y="1197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4"/>
          <p:cNvSpPr/>
          <p:nvPr/>
        </p:nvSpPr>
        <p:spPr>
          <a:xfrm flipV="1">
            <a:off x="3635280" y="1557000"/>
            <a:ext cx="0" cy="431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2771640" y="1557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084720" y="126828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7"/>
          <p:cNvSpPr/>
          <p:nvPr/>
        </p:nvSpPr>
        <p:spPr>
          <a:xfrm>
            <a:off x="6084720" y="1268280"/>
            <a:ext cx="935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766764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49"/>
          <p:cNvSpPr/>
          <p:nvPr/>
        </p:nvSpPr>
        <p:spPr>
          <a:xfrm flipH="1">
            <a:off x="7019640" y="2421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363528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51"/>
          <p:cNvSpPr/>
          <p:nvPr/>
        </p:nvSpPr>
        <p:spPr>
          <a:xfrm flipH="1">
            <a:off x="2771280" y="573408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6948360" y="189000"/>
            <a:ext cx="0" cy="2519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3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1116000" y="1341360"/>
            <a:ext cx="3600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28652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850840" y="836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75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268360" y="836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500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5659200" y="620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956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659200" y="2131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6948360" y="907560"/>
            <a:ext cx="0" cy="10810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011640" y="90792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V="1">
            <a:off x="212400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2124000" y="134136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63528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29"/>
          <p:cNvSpPr/>
          <p:nvPr/>
        </p:nvSpPr>
        <p:spPr>
          <a:xfrm flipH="1">
            <a:off x="2771640" y="1341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694836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6011640" y="242100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32"/>
          <p:cNvSpPr/>
          <p:nvPr/>
        </p:nvSpPr>
        <p:spPr>
          <a:xfrm flipV="1">
            <a:off x="6012000" y="189000"/>
            <a:ext cx="0" cy="251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5038560" y="144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34"/>
          <p:cNvSpPr/>
          <p:nvPr/>
        </p:nvSpPr>
        <p:spPr>
          <a:xfrm>
            <a:off x="507672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6156360" y="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8492760" y="201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18328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2" name="AutoShape 38"/>
          <p:cNvCxnSpPr/>
          <p:nvPr/>
        </p:nvCxnSpPr>
        <p:spPr>
          <a:xfrm flipV="1">
            <a:off x="1187280" y="4076280"/>
            <a:ext cx="3169440" cy="165672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38160">
            <a:solidFill>
              <a:srgbClr val="00ff00"/>
            </a:solidFill>
            <a:miter/>
          </a:ln>
        </p:spPr>
      </p:cxnSp>
      <p:sp>
        <p:nvSpPr>
          <p:cNvPr id="283" name="Text Box 39"/>
          <p:cNvSpPr/>
          <p:nvPr/>
        </p:nvSpPr>
        <p:spPr>
          <a:xfrm>
            <a:off x="2779560" y="537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1626840" y="4508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340000" y="393372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763640" y="494172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1763640" y="5661000"/>
            <a:ext cx="100800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44"/>
          <p:cNvSpPr/>
          <p:nvPr/>
        </p:nvSpPr>
        <p:spPr>
          <a:xfrm flipV="1">
            <a:off x="3492360" y="422100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45"/>
          <p:cNvSpPr/>
          <p:nvPr/>
        </p:nvSpPr>
        <p:spPr>
          <a:xfrm flipH="1">
            <a:off x="2771640" y="4221000"/>
            <a:ext cx="720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3284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853080" y="35733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48"/>
          <p:cNvSpPr/>
          <p:nvPr/>
        </p:nvSpPr>
        <p:spPr>
          <a:xfrm>
            <a:off x="5111640" y="33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49"/>
          <p:cNvSpPr/>
          <p:nvPr/>
        </p:nvSpPr>
        <p:spPr>
          <a:xfrm>
            <a:off x="518472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50"/>
          <p:cNvSpPr/>
          <p:nvPr/>
        </p:nvSpPr>
        <p:spPr>
          <a:xfrm flipV="1">
            <a:off x="680400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684180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52"/>
          <p:cNvSpPr/>
          <p:nvPr/>
        </p:nvSpPr>
        <p:spPr>
          <a:xfrm>
            <a:off x="85658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532764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7958520" y="5300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Freeform 55"/>
          <p:cNvSpPr/>
          <p:nvPr/>
        </p:nvSpPr>
        <p:spPr>
          <a:xfrm>
            <a:off x="5580000" y="3573360"/>
            <a:ext cx="2664000" cy="2303640"/>
          </a:xfrm>
          <a:custGeom>
            <a:avLst/>
            <a:gdLst/>
            <a:ahLst/>
            <a:rect l="l" t="t" r="r" b="b"/>
            <a:pathLst>
              <a:path w="1224" h="1225">
                <a:moveTo>
                  <a:pt x="0" y="0"/>
                </a:moveTo>
                <a:cubicBezTo>
                  <a:pt x="215" y="374"/>
                  <a:pt x="431" y="749"/>
                  <a:pt x="635" y="953"/>
                </a:cubicBezTo>
                <a:cubicBezTo>
                  <a:pt x="839" y="1157"/>
                  <a:pt x="1031" y="1191"/>
                  <a:pt x="1224" y="122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5867280" y="4005000"/>
            <a:ext cx="0" cy="93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57"/>
          <p:cNvSpPr/>
          <p:nvPr/>
        </p:nvSpPr>
        <p:spPr>
          <a:xfrm>
            <a:off x="5867280" y="4005360"/>
            <a:ext cx="936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58"/>
          <p:cNvSpPr/>
          <p:nvPr/>
        </p:nvSpPr>
        <p:spPr>
          <a:xfrm>
            <a:off x="759636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59"/>
          <p:cNvSpPr/>
          <p:nvPr/>
        </p:nvSpPr>
        <p:spPr>
          <a:xfrm flipH="1">
            <a:off x="6803640" y="573408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6811920" y="37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61"/>
          <p:cNvSpPr/>
          <p:nvPr/>
        </p:nvSpPr>
        <p:spPr>
          <a:xfrm>
            <a:off x="5732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6372360" y="544500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3"/>
          <p:cNvSpPr/>
          <p:nvPr/>
        </p:nvSpPr>
        <p:spPr>
          <a:xfrm>
            <a:off x="7459560" y="4437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rgument funk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jčastěji ji volí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unkční hodnot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a, kterou funkce přiřadí konkrétnímu argument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opočítáváme, pokud volí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ý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ákladní pojmy a značení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71640" y="1341360"/>
            <a:ext cx="489564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16280"/>
            <a:ext cx="4895640" cy="574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7:51Z</dcterms:modified>
  <cp:revision>303</cp:revision>
  <dc:subject/>
  <dc:title>FCE</dc:title>
</cp:coreProperties>
</file>