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AA97-3E6A-4179-96C1-625D614080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7B44-1C29-401B-B33B-AADE4E0973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234-E263-454B-940E-A8D3229E76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4DF-A749-4D57-B675-0102C58DDF3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D82-8638-4013-A5EE-6BEF5E2816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7130-504B-4E7B-AF49-AF2500B019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964-16BE-4CA6-B7D2-5D96D389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B57-0898-4AF4-9388-8B14A07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5E7-2C78-4DD1-83E0-B35B17F5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05F-BB4A-4228-AE3B-7664A852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EB1D-0F77-4730-9FC7-0FE575CA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2040-8D7F-41F2-B8BD-16F05F82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6B44-FBC2-4AB7-926C-1A58A53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AF77-DC5A-4C08-90E9-B808009A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6253-BED4-4193-AAAD-E8C6FBD9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CA6D-BCA9-4472-AAA6-55BEC0B9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41BA-6C4E-4C6E-805A-78CE558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40C-D690-492F-8D7F-7DFD26F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636B-F1DC-47C4-AE53-AB6E4DB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E4F9-D7CF-420F-AB20-1F4891E4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ED22-E5D8-4E08-A177-7E08B654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ADF7-07B9-4F7D-B477-EA0E2B78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BF99-C00E-4EA4-9910-570A685A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13D-F965-49E1-965E-60A69014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74D-1D7E-4157-B132-A6E5901E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4AF-05A0-4FB4-8C69-8653531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CF7-FFA9-4DF7-BD86-4EA74138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59D-F81A-44E8-AE4B-8838633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9A8-C771-43BC-8513-994D3EAC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C51-C7E7-4916-8060-762E4F4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7FF-D00C-4D70-82DB-34CF30451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5DF6-D1AE-4D53-997A-6DD22D61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4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64 = 0  vložte 9 čísel tak, aby s kořeny rovnice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547640" y="2637000"/>
                <a:ext cx="979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1692360" y="3716280"/>
                <a:ext cx="145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2268360" y="458136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3"/>
          <p:cNvSpPr/>
          <p:nvPr/>
        </p:nvSpPr>
        <p:spPr>
          <a:xfrm>
            <a:off x="2268360" y="3645000"/>
            <a:ext cx="3313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 čísel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6084720" y="2781360"/>
                <a:ext cx="2338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227640" y="3556080"/>
                <a:ext cx="2117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211800" y="4132440"/>
                <a:ext cx="1533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427800" y="470844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979640" y="3357720"/>
            <a:ext cx="144360" cy="107928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332000" y="5373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ých devět čísel tvoří množin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1411200" y="4510080"/>
                <a:ext cx="849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547640" y="1268280"/>
                <a:ext cx="2664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8920" y="1916280"/>
                <a:ext cx="2994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427640" y="1916280"/>
                <a:ext cx="2855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32000" y="5950080"/>
                <a:ext cx="52945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0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5 musíme sečíst, aby byl součet  –17 32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836720" y="177336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987640" y="765000"/>
            <a:ext cx="129708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2268360" y="1557360"/>
                <a:ext cx="224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557440" y="1628640"/>
            <a:ext cx="432000" cy="433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2908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5902200" y="1484280"/>
                <a:ext cx="3241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902200" y="90792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5940360" y="1916280"/>
                <a:ext cx="247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5940360" y="2349360"/>
                <a:ext cx="1933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6" name=""/>
          <p:cNvCxnSpPr>
            <a:stCxn id="268" idx="1"/>
          </p:cNvCxnSpPr>
          <p:nvPr/>
        </p:nvCxnSpPr>
        <p:spPr>
          <a:xfrm flipV="1" rot="10800000">
            <a:off x="2071080" y="982440"/>
            <a:ext cx="902160" cy="79128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971640" y="2565360"/>
                <a:ext cx="43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32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5435640" y="2925720"/>
                <a:ext cx="557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900000" y="3492360"/>
                <a:ext cx="3452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900000" y="3933720"/>
                <a:ext cx="32068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11640" y="407664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1258920" y="4508640"/>
                <a:ext cx="3102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3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716360" y="4653000"/>
                <a:ext cx="1744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8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908000" y="5157720"/>
                <a:ext cx="2370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643280" y="5137200"/>
                <a:ext cx="122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940360" y="513720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4572000" y="5713560"/>
                <a:ext cx="1498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5940360" y="572292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6372360" y="4508640"/>
                <a:ext cx="1778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3852720" y="1844640"/>
            <a:ext cx="576360" cy="5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0" idx="0"/>
          </p:cNvCxnSpPr>
          <p:nvPr/>
        </p:nvCxnSpPr>
        <p:spPr>
          <a:xfrm flipH="1" flipV="1" rot="5400000">
            <a:off x="4733640" y="656640"/>
            <a:ext cx="577080" cy="17611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 flipV="1">
            <a:off x="4284720" y="549720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571356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90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6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4  musíme sečíst, aby byl součet  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403280" y="206064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987640" y="76500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835280" y="1881360"/>
                <a:ext cx="216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24000" y="1989000"/>
            <a:ext cx="358920" cy="36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5905440" y="3429000"/>
                <a:ext cx="2774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5867280" y="285264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905440" y="3860640"/>
                <a:ext cx="2478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905440" y="4292640"/>
                <a:ext cx="176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" name=""/>
          <p:cNvCxnSpPr>
            <a:stCxn id="297" idx="1"/>
          </p:cNvCxnSpPr>
          <p:nvPr/>
        </p:nvCxnSpPr>
        <p:spPr>
          <a:xfrm flipV="1" rot="10800000">
            <a:off x="1637640" y="982800"/>
            <a:ext cx="1335600" cy="107820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403280" y="2708280"/>
                <a:ext cx="3240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4643280" y="2997360"/>
                <a:ext cx="557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258920" y="3573360"/>
                <a:ext cx="266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258920" y="4024440"/>
                <a:ext cx="2425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924360" y="414972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1619280" y="4581360"/>
                <a:ext cx="24591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68360" y="5805360"/>
                <a:ext cx="30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248436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3635280" y="5805360"/>
                <a:ext cx="75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28472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348000" y="2133720"/>
            <a:ext cx="576360" cy="57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6"/>
          </p:cNvCxnSpPr>
          <p:nvPr/>
        </p:nvCxnSpPr>
        <p:spPr>
          <a:xfrm>
            <a:off x="3943440" y="2422080"/>
            <a:ext cx="1924560" cy="772200"/>
          </a:xfrm>
          <a:prstGeom prst="curvedConnector5">
            <a:avLst>
              <a:gd name="adj1" fmla="val 59232"/>
              <a:gd name="adj2" fmla="val 50000"/>
              <a:gd name="adj3" fmla="val 59232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 flipH="1">
            <a:off x="2555640" y="5589720"/>
            <a:ext cx="14436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589720"/>
            <a:ext cx="144720" cy="288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6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859280" y="836640"/>
                <a:ext cx="1868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21120" y="1398600"/>
                <a:ext cx="183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5003640" y="177156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5003640" y="2131920"/>
                <a:ext cx="851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7020000" y="836640"/>
                <a:ext cx="1806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"/>
              <p:cNvSpPr txBox="1"/>
              <p:nvPr/>
            </p:nvSpPr>
            <p:spPr>
              <a:xfrm>
                <a:off x="7128000" y="1368360"/>
                <a:ext cx="15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7128000" y="180180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1619280" y="5157720"/>
                <a:ext cx="2662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80000" y="260280"/>
            <a:ext cx="2376360" cy="50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836640"/>
            <a:ext cx="417672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042920" y="1844640"/>
            <a:ext cx="81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trany pravoúhlého trojúhelníka tvoří AP, přičemž delší z odvěsen měří        12 cm. Vypočtěte zbylé strany, obvod   a obsah trojúhelník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trojúhelníka obvykle značíme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protože tvoří AP, přejdeme ke značení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1116000" y="189000"/>
                <a:ext cx="2125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124000" y="4857840"/>
                <a:ext cx="384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763640" y="1486080"/>
            <a:ext cx="1297080" cy="3384360"/>
          </a:xfrm>
          <a:prstGeom prst="rtTriangl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 rostoucí AP je diference kladná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proto seřadíme strany nejlépe od nejkratší (kratší z odvěsen) po nejdelší (přepona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116000" y="3357720"/>
                <a:ext cx="412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95640" y="2278080"/>
                <a:ext cx="412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"/>
          <p:cNvSpPr/>
          <p:nvPr/>
        </p:nvSpPr>
        <p:spPr>
          <a:xfrm>
            <a:off x="1116000" y="189000"/>
            <a:ext cx="802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rojici, která tvoří AP, nejlépe vyjádříme zafixováním prostředního (druhého) členu – viz zadání, protože první pak bude o diferenci menší, poslední (třetí) o diferenci větš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6040" y="525924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kratší = kratší z odvěs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8920" y="184464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delší = přepo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2482920" y="486900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2627280" y="227664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3205080" y="189000"/>
                <a:ext cx="216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00" y="765000"/>
                <a:ext cx="1549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700360" y="692280"/>
                <a:ext cx="13669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3"/>
          <p:cNvSpPr/>
          <p:nvPr/>
        </p:nvSpPr>
        <p:spPr>
          <a:xfrm>
            <a:off x="5219640" y="119700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jprve musíme ovšem určit délky stran, pro které platí Pythagorova vě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5292720" y="1484280"/>
                <a:ext cx="2733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180040" y="2219400"/>
                <a:ext cx="345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560760" y="2781360"/>
                <a:ext cx="5583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6012000" y="3430440"/>
                <a:ext cx="1536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 flipV="1">
            <a:off x="370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9272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94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71236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6300720" y="3933720"/>
                <a:ext cx="855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3780000" y="4869000"/>
                <a:ext cx="707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3851280" y="2276640"/>
                <a:ext cx="855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5153040" y="4495680"/>
                <a:ext cx="23302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7529400" y="449568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3"/>
          <p:cNvSpPr/>
          <p:nvPr/>
        </p:nvSpPr>
        <p:spPr>
          <a:xfrm>
            <a:off x="1116000" y="587700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rany trojúhelníka mají délky 9 cm, 12 cm, 15 cm. Obvod trojúhelníka je 36 cm, obsah 54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148360" y="4869000"/>
                <a:ext cx="16221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6804000" y="508464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1332000" y="443700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8000" y="4653000"/>
            <a:ext cx="71640" cy="71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itmet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042920" y="26028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které AP o deseti členech je součet prostředních dvou členů 55 a součin krajních členů 250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042920" y="2421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 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7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0  a součet prvních tří členů je dvanác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042920" y="1413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5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357336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42920" y="4653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prvních pět členů dává součet 30 a součet jejich čtverců je 220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042920" y="5805360"/>
            <a:ext cx="8101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042920" y="47628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ětičlenné AP je součin druhého a čtvrtého členu roven osmi pětinám součinu krajních členů. Součet druhých mocnin všech členů je 220. Určete tuto posloup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042920" y="234792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3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4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042920" y="429264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AP  30, 27, 24, ... najděte člen, který se rovná jedné osmině součtu všech předcházejíc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042920" y="530064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5;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6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042920" y="40464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Železné roury jsou srovnány v 10 řadách nad sebou tak, že vrchní řada má 15 trubek a každá další řada o 1 více. Kolik je všech trub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042920" y="184464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5 kus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42920" y="3213000"/>
            <a:ext cx="8101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Teplota Země přibývá o 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 na 33 m. Jak velká je teplota v šachtě hluboké 1015 m, je-li v hloubce 25 m stálá teplota +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Teplota tvoří pořadí členů, hloubk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šachty jejich hodno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42920" y="5589720"/>
            <a:ext cx="8101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+39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042920" y="3645000"/>
            <a:ext cx="8101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terý člen posloupnosti přirozených čísel se rovná součtu všech předcházejících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Uvědomte si nejprve vše, co znáte 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i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042920" y="33336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2 = 0  vložte          13 čísel tak, aby s kořeny rovnice tvořila prvních patnáct členů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042920" y="55180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619280" y="1844640"/>
                <a:ext cx="6902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i zadání příkladů pouze s výsledky pro samostatné procvičen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rozměry kvádru, které tvoří tři po sobě jdoucí členy AP a jejichž součet je 18 cm, je-li objem kvádru 120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1042920" y="1773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cm; 6 cm; 10 cm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eb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0 cm; 6 cm; 2 c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42920" y="2997360"/>
            <a:ext cx="810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rany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becného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trojúhelníka, které se dají vyjádřit třemi po sobě jdoucími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m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čísly, je-li obsah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Pro vyjádření obsahu trojúhelníka použijte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eronův vzorec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042920" y="5805360"/>
            <a:ext cx="8101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cm; 6 cm; 7 c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932360" y="4005360"/>
                <a:ext cx="158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205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P – příklady se zamyšlení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474920" y="1341360"/>
                <a:ext cx="166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619280" y="616572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o členů dané AP dává součet 24 8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619280" y="3645000"/>
                <a:ext cx="3433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4292640"/>
                <a:ext cx="310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796000" y="3573360"/>
                <a:ext cx="2557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867280" y="4149720"/>
                <a:ext cx="2482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635280" y="1268280"/>
                <a:ext cx="1403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619280" y="1916280"/>
                <a:ext cx="15667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3635280" y="1844640"/>
                <a:ext cx="1535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1547640" y="2492280"/>
                <a:ext cx="176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635280" y="2492280"/>
                <a:ext cx="1633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651640" y="1844640"/>
                <a:ext cx="1274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867280" y="4653000"/>
                <a:ext cx="1789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8760" y="5013360"/>
                <a:ext cx="2226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1280" y="1484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42920" y="26028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sto přirozených čísel, jejichž zbytek po dělení číslem pět je jedn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900000" y="26028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dvojcifer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6093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všech přirozených dvojciferných čísel je 4 90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5776920" y="3664080"/>
                <a:ext cx="2995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68800" y="5535720"/>
                <a:ext cx="11318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1403280" y="836640"/>
                <a:ext cx="110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1403280" y="134136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403280" y="1916280"/>
                <a:ext cx="1143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2987640" y="1341360"/>
                <a:ext cx="1243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5761080" y="4292640"/>
                <a:ext cx="1898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9" name="Rectangle 3"/>
          <p:cNvSpPr/>
          <p:nvPr/>
        </p:nvSpPr>
        <p:spPr>
          <a:xfrm>
            <a:off x="1187280" y="2852640"/>
            <a:ext cx="352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dvojciferné čísl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411200" y="3267000"/>
                <a:ext cx="1174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474920" y="4508640"/>
                <a:ext cx="292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043000" y="5030640"/>
                <a:ext cx="23385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84720" y="2276280"/>
            <a:ext cx="1582560" cy="3313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98100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900000" y="260280"/>
            <a:ext cx="82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trojciferných čísel, která končí číslicí 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49 5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5746680" y="3573360"/>
                <a:ext cx="3397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492360" y="5516640"/>
                <a:ext cx="11322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467000" y="1123920"/>
                <a:ext cx="127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450800" y="1628640"/>
                <a:ext cx="1336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1467000" y="2203560"/>
                <a:ext cx="1306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3033720" y="1628640"/>
                <a:ext cx="1440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724360" y="4221000"/>
                <a:ext cx="2232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9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1332000" y="292428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číslo dané vlastnost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1457280" y="3338640"/>
                <a:ext cx="1371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4437000"/>
                <a:ext cx="3456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476360" y="5013360"/>
                <a:ext cx="336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1268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7" idx="2"/>
          </p:cNvCxnSpPr>
          <p:nvPr/>
        </p:nvCxnSpPr>
        <p:spPr>
          <a:xfrm flipV="1">
            <a:off x="4624560" y="2096640"/>
            <a:ext cx="1297440" cy="3656880"/>
          </a:xfrm>
          <a:prstGeom prst="curvedConnector5">
            <a:avLst>
              <a:gd name="adj1" fmla="val 50652"/>
              <a:gd name="adj2" fmla="val 49995"/>
              <a:gd name="adj3" fmla="val 506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900000" y="260280"/>
            <a:ext cx="82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čísel, která jsou dělitelná číslem 7 a přitom jsou větší než 1 000, ale zároveň jsou také menší než 1 50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89 964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7165800" y="2347920"/>
                <a:ext cx="13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77080" y="1916280"/>
            <a:ext cx="216000" cy="12236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76360" y="1700280"/>
                <a:ext cx="316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403280" y="2205000"/>
                <a:ext cx="1533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1403280" y="2708280"/>
                <a:ext cx="1536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1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1403280" y="350028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267000" y="509904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403280" y="4149720"/>
                <a:ext cx="334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835280" y="4653000"/>
                <a:ext cx="2859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467160" y="5605560"/>
                <a:ext cx="961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364000" y="4076640"/>
                <a:ext cx="3213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2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435640" y="4724280"/>
                <a:ext cx="37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435640" y="5227560"/>
                <a:ext cx="2081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835280" y="3500280"/>
                <a:ext cx="2836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0" y="1700280"/>
                <a:ext cx="2286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4643280" y="3500280"/>
                <a:ext cx="2381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4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trojciferných přirozených čísel, která jsou dělitelná číslem 9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55 3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532560" y="1844640"/>
                <a:ext cx="1276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227640" y="1484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76360" y="335772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219640" y="4005360"/>
                <a:ext cx="34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292720" y="4653000"/>
                <a:ext cx="348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5310360" y="5227560"/>
                <a:ext cx="2190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476360" y="1268280"/>
                <a:ext cx="27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76360" y="1844640"/>
                <a:ext cx="1338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476360" y="2421000"/>
                <a:ext cx="1308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908000" y="3429000"/>
                <a:ext cx="91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211640" y="1268280"/>
                <a:ext cx="1924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193920" y="502596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403280" y="4076640"/>
                <a:ext cx="3151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763640" y="4579920"/>
                <a:ext cx="2712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390840" y="5459400"/>
                <a:ext cx="1116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 – 5 a 20 vložte 4 čísla tak, aby s danými čísly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1547640" y="148428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82640" y="2187720"/>
                <a:ext cx="2430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2268360" y="3860640"/>
                <a:ext cx="489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3"/>
          <p:cNvSpPr/>
          <p:nvPr/>
        </p:nvSpPr>
        <p:spPr>
          <a:xfrm>
            <a:off x="2330280" y="2690640"/>
            <a:ext cx="3313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čísla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6218280" y="1971720"/>
                <a:ext cx="2082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216480" y="2763720"/>
                <a:ext cx="21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180120" y="3413160"/>
                <a:ext cx="135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6362640" y="405936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041560" y="23320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332000" y="5589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ou čtveřici tvoří čísla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5651640" y="5589720"/>
                <a:ext cx="23000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1476360" y="3789360"/>
                <a:ext cx="750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6:56Z</dcterms:modified>
  <cp:revision>323</cp:revision>
  <dc:subject/>
  <dc:title>Posloupnosti</dc:title>
</cp:coreProperties>
</file>