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A03A-9EED-4AF0-BAB1-755F7D0106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C7FC-F2E8-457F-B1C6-AF0B6E250DF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564D-DE83-43B7-AF51-81472FF1D7A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616A-E0B9-4591-9009-A7938637A8A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E886-B430-4D7C-AEB4-FF6271102B6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C6CE-AD42-4ACD-AD57-AC68EC6A29D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1F53-A06E-4DA1-A2EA-BBD76F8D57E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F326-80BC-41B2-8182-055EB65BA68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E217-823D-4BF5-B307-7383884524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25AF-35A8-414C-AEFB-99134DB4E89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CF98-3190-4849-A88F-C2A0257B0F1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CEC6-8CFC-4477-BAE2-B842FAB80CE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AA3F-F3E4-49DF-A32C-2F21FFF099C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5A22-55F1-402F-AE6E-13E23DF51BB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úročený vklad + 2. zúročený vklad + ... + poslední zúročený vkl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8F6-9EE4-4C58-851E-AFBBDBEB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4D4-D632-4563-8941-37FBFD72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79C-3CB6-4384-9F0A-1BB1638D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920-9D97-441C-A498-2A088244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CF5-94AA-4A90-A179-B792D6D7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F79-25BD-46B0-8D70-C943063C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E9D-8AC5-4A9D-9D82-2B09D51E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BC0-DA07-41D6-A5F3-1EA8ADEA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371-C774-47DF-A32C-0D014157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3B5-E8D4-480A-8AAE-6631889F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000-9627-4FBB-9DD6-4CEBC48A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E2D-CCD8-47F3-8D5D-6F1E2D3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4783-12D8-4DD6-8F70-F9E6961D987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UMOŘOVÁNÍ DLUHU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788000" y="4572000"/>
            <a:ext cx="435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Užití GP v praxi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Ze základního vzor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který vyjadřuje velikost dluhu, jenž můžeme za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et umořit,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dvodím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ční splátka, anuita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čet let, po které dluh splácíme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47636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97080" y="979560"/>
            <a:ext cx="360360" cy="35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3"/>
              <p:cNvSpPr txBox="1"/>
              <p:nvPr/>
            </p:nvSpPr>
            <p:spPr>
              <a:xfrm>
                <a:off x="4788000" y="2276640"/>
                <a:ext cx="633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1258920" y="765000"/>
            <a:ext cx="78850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843280" y="4365720"/>
                <a:ext cx="328608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4716360" y="3068640"/>
                <a:ext cx="1238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0"/>
              <p:cNvSpPr txBox="1"/>
              <p:nvPr/>
            </p:nvSpPr>
            <p:spPr>
              <a:xfrm>
                <a:off x="1476360" y="836640"/>
                <a:ext cx="2160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0"/>
              <p:cNvSpPr txBox="1"/>
              <p:nvPr/>
            </p:nvSpPr>
            <p:spPr>
              <a:xfrm>
                <a:off x="1835280" y="1989000"/>
                <a:ext cx="21603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0"/>
              <p:cNvSpPr txBox="1"/>
              <p:nvPr/>
            </p:nvSpPr>
            <p:spPr>
              <a:xfrm>
                <a:off x="2050920" y="2997360"/>
                <a:ext cx="2403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3618360" y="112536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nejprve zaměníme pro lepší orientac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4716360" y="3141720"/>
                <a:ext cx="11271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1187280" y="765000"/>
                <a:ext cx="187200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Rectangle 3"/>
          <p:cNvSpPr/>
          <p:nvPr/>
        </p:nvSpPr>
        <p:spPr>
          <a:xfrm>
            <a:off x="1403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11280" y="83664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692280"/>
            <a:ext cx="78850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08720" y="4437000"/>
                <a:ext cx="346212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908000" y="1268280"/>
            <a:ext cx="216000" cy="21780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800"/>
              <a:gd name="textAreaBottom" fmla="*/ 207360 h 217800"/>
            </a:gdLst>
            <a:ahLst/>
            <a:rect l="textAreaLeft" t="textAreaTop" r="textAreaRight" b="textAreaBottom"/>
            <a:pathLst>
              <a:path w="21600" h="21780">
                <a:moveTo>
                  <a:pt x="3600" y="0"/>
                </a:moveTo>
                <a:arcTo wR="3600" hR="3600" stAng="16200000" swAng="-5400000"/>
                <a:lnTo>
                  <a:pt x="0" y="18180"/>
                </a:lnTo>
                <a:arcTo wR="3600" hR="3600" stAng="10800000" swAng="-5400000"/>
                <a:lnTo>
                  <a:pt x="18000" y="21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187280" y="1700280"/>
                <a:ext cx="21085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1260360" y="2565360"/>
                <a:ext cx="23972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76720" y="3009960"/>
            <a:ext cx="217440" cy="29052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290520"/>
              <a:gd name="textAreaBottom" fmla="*/ 280080 h 290520"/>
            </a:gdLst>
            <a:ahLst/>
            <a:rect l="textAreaLeft" t="textAreaTop" r="textAreaRight" b="textAreaBottom"/>
            <a:pathLst>
              <a:path w="21600" h="28848">
                <a:moveTo>
                  <a:pt x="3600" y="0"/>
                </a:moveTo>
                <a:arcTo wR="3600" hR="3600" stAng="16200000" swAng="-5400000"/>
                <a:lnTo>
                  <a:pt x="0" y="25248"/>
                </a:lnTo>
                <a:arcTo wR="3600" hR="3600" stAng="10800000" swAng="-5400000"/>
                <a:lnTo>
                  <a:pt x="18000" y="28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7"/>
              <p:cNvSpPr txBox="1"/>
              <p:nvPr/>
            </p:nvSpPr>
            <p:spPr>
              <a:xfrm>
                <a:off x="1332000" y="3500280"/>
                <a:ext cx="2396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700360" y="177156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44720" y="220356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3"/>
              <p:cNvSpPr txBox="1"/>
              <p:nvPr/>
            </p:nvSpPr>
            <p:spPr>
              <a:xfrm>
                <a:off x="3851280" y="3573360"/>
                <a:ext cx="8748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2340000" y="4437000"/>
                <a:ext cx="21081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7"/>
              <p:cNvSpPr txBox="1"/>
              <p:nvPr/>
            </p:nvSpPr>
            <p:spPr>
              <a:xfrm>
                <a:off x="1692360" y="5229360"/>
                <a:ext cx="21081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5148360" y="765000"/>
                <a:ext cx="23446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025280" y="5950080"/>
            <a:ext cx="660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hledáme převrácenou hodnotu pravé strany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je vhodné mít levou stranu také ve tvaru jednoduchého zlomk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6443640" y="1557360"/>
                <a:ext cx="22924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5981760" y="2421000"/>
                <a:ext cx="3162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797440" y="3357720"/>
                <a:ext cx="3346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3"/>
              <p:cNvSpPr txBox="1"/>
              <p:nvPr/>
            </p:nvSpPr>
            <p:spPr>
              <a:xfrm>
                <a:off x="3851280" y="3573360"/>
                <a:ext cx="851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80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ý dluh umořím za 7 let pravidelnými ročními anuitami 15 000,- Kč při 2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8789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7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5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30"/>
              <p:cNvSpPr txBox="1"/>
              <p:nvPr/>
            </p:nvSpPr>
            <p:spPr>
              <a:xfrm>
                <a:off x="1116000" y="5013360"/>
                <a:ext cx="23655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457080" y="357192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0720" y="357336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2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30"/>
              <p:cNvSpPr txBox="1"/>
              <p:nvPr/>
            </p:nvSpPr>
            <p:spPr>
              <a:xfrm>
                <a:off x="3421080" y="5013360"/>
                <a:ext cx="29242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0"/>
              <p:cNvSpPr txBox="1"/>
              <p:nvPr/>
            </p:nvSpPr>
            <p:spPr>
              <a:xfrm>
                <a:off x="6300720" y="5300640"/>
                <a:ext cx="2166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17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802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musí činit každoroční anuity, abychom zaplatili dluh 90 000,- Kč za 10 let při 21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7896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90 000,- Kč</a:t>
            </a:r>
            <a:r>
              <a:rPr b="0" lang="en-US" sz="3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1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2"/>
              <p:cNvSpPr txBox="1"/>
              <p:nvPr/>
            </p:nvSpPr>
            <p:spPr>
              <a:xfrm>
                <a:off x="1042920" y="4581360"/>
                <a:ext cx="25192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1162440" y="5854680"/>
            <a:ext cx="750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Všimněte si, že splátka je vždy větší než část, kterou si „bere“ banka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21 % z 90 000,- Kč, tzn. 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18 9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8360" y="342756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12360" y="342900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21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2"/>
              <p:cNvSpPr txBox="1"/>
              <p:nvPr/>
            </p:nvSpPr>
            <p:spPr>
              <a:xfrm>
                <a:off x="3564000" y="4581360"/>
                <a:ext cx="3308400" cy="11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2"/>
              <p:cNvSpPr txBox="1"/>
              <p:nvPr/>
            </p:nvSpPr>
            <p:spPr>
              <a:xfrm>
                <a:off x="6804000" y="4869000"/>
                <a:ext cx="216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umořím dluh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50 000,- Kč při 15 % p.a. pravidelnými ročními anuitami 9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8789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50 000,- Kč</a:t>
            </a:r>
            <a:r>
              <a:rPr b="0" lang="en-US" sz="19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9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imes New Roman"/>
              </a:rPr>
              <a:t>!!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5 % z 50 000,- Kč, tzn.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7 5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6"/>
              <p:cNvSpPr txBox="1"/>
              <p:nvPr/>
            </p:nvSpPr>
            <p:spPr>
              <a:xfrm>
                <a:off x="1042920" y="5084640"/>
                <a:ext cx="29336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528360" y="285120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12360" y="285264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1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6"/>
              <p:cNvSpPr txBox="1"/>
              <p:nvPr/>
            </p:nvSpPr>
            <p:spPr>
              <a:xfrm>
                <a:off x="3924360" y="5084640"/>
                <a:ext cx="37432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9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6"/>
              <p:cNvSpPr txBox="1"/>
              <p:nvPr/>
            </p:nvSpPr>
            <p:spPr>
              <a:xfrm>
                <a:off x="7596360" y="5734080"/>
                <a:ext cx="1547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umořím dluh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200 000,- Kč při 17 % p.a. pravidelnými ročními anuitami 3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789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00 000,- Kč</a:t>
            </a:r>
            <a:r>
              <a:rPr b="0" lang="en-US" sz="19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7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imes New Roman"/>
              </a:rPr>
              <a:t>!!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7 % z 200 000,- Kč, tzn.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34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5562720"/>
            <a:ext cx="7878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Za daných podmínek dluh nelze splatit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01440" y="29224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85080" y="292428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17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14400" y="60948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aký dluh umořím za 20 let pravidelnými ročními anuitami 60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17 % p.a.,  b) 12 % p.a.,  c) 7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10800"/>
              </a:spcBef>
              <a:buClr>
                <a:srgbClr val="ffff00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 činit každoroční anuity, abychom při 11 % p.a. zaplatili dluh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80 000,- Kč za a) 5 let, b) 7 let, c) 9 let?</a:t>
            </a: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2666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337 666,- Kč, b) 448 167,- Kč, c) 635 641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5791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48 703,- Kč, b) 38 199,- Kč, c) 32 508,- Kč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2640" y="2356920"/>
            <a:ext cx="80010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plácení dluhu a z něho plynoucích úroků pravidelnými, stále stejně velkými částkami, po dobu několika úrokovacích období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umořím dluh 500 000,- Kč při  8 % p.a. pravidelnými ročními anuitami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a) 50 000,- Kč, b) 70 000,- Kč, c) 100 000,- Kč?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10800"/>
              </a:spcBef>
              <a:buClr>
                <a:srgbClr val="ffff00"/>
              </a:buClr>
              <a:buSzPct val="8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umořím dluh 100 000,- Kč pravidelnými ročními anuitami 15 000,- Kč při  a) 17 % p.a., b) 12 % p.a., c) 8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242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20 let a 11 měsíců, b) 11 let, c) 6 let a 8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55166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500" spc="-1" strike="noStrike">
                <a:solidFill>
                  <a:srgbClr val="ffff00"/>
                </a:solidFill>
                <a:latin typeface="Times New Roman"/>
              </a:rPr>
              <a:t>a) dluh nelze splatit, b) 14 let a 2 měsíce, c) 9 let a 11 měsíců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5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78–8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dluh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roční splátka, anuit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6518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Dluh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852480"/>
            <a:ext cx="7556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inanční hodnota, kterou musíme splatit (umořit) za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úrokovacích obdobíc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87280" y="206064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ční splátka, anuit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332000" y="2624040"/>
            <a:ext cx="7556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ě placená částka, vždy koncem úrokovacího obdob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187280" y="386064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332000" y="4354560"/>
            <a:ext cx="7556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ýše odměny vyjádřená v procente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187280" y="515772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2268360" y="5676840"/>
                <a:ext cx="194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456840"/>
            <a:ext cx="80280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116000" y="126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jak dlouho umoříme (splatíme) dluh 5 000,- Kč   při úročení 10 % p.a. ročními anuitami (splátkami)      1 150,- Kč placenými koncem roku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16000" y="270828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1187280" y="342900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1979640" y="342900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000,-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1979640" y="400536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1979640" y="450864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-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3706920" y="4005360"/>
            <a:ext cx="226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4500720" y="4005360"/>
            <a:ext cx="226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,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979640" y="508464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2080"/>
          <a:ext cx="8785080" cy="8632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50920" y="112536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50920" y="198900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50920" y="2852640"/>
          <a:ext cx="8785080" cy="8650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50920" y="3718080"/>
          <a:ext cx="8785080" cy="8632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50920" y="458136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50920" y="5445000"/>
          <a:ext cx="8785080" cy="8650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276720" y="126828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341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.   5 00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134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0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1341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34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6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134136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134136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2000" y="134136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4 3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6237360"/>
            <a:ext cx="817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a daných podmínek umoříme dluh za necelých 6 le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205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.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 3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2205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220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0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1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12000" y="215892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6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20500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220500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30700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.   3 6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30672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3067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6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067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86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3070080"/>
            <a:ext cx="117180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3070080"/>
            <a:ext cx="129528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12000" y="30700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849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933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.  2 849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0920" y="393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393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8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933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86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12000" y="393372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98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393372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393372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97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.   1 98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0920" y="4797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479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98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79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5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0560" y="4797360"/>
            <a:ext cx="1204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79736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12000" y="479736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03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661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6.   1 03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4000" y="566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3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566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047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566100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00720" y="566100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12000" y="566244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127008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213192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299556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3789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472608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558972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134136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220500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1319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3067200"/>
            <a:ext cx="2324160" cy="50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9941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393372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86064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479736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72428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566100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879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32880" y="1341360"/>
            <a:ext cx="11318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45"/>
              <p:cNvSpPr txBox="1"/>
              <p:nvPr/>
            </p:nvSpPr>
            <p:spPr>
              <a:xfrm>
                <a:off x="5867280" y="198900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545"/>
              <p:cNvSpPr txBox="1"/>
              <p:nvPr/>
            </p:nvSpPr>
            <p:spPr>
              <a:xfrm>
                <a:off x="5867280" y="112536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45"/>
              <p:cNvSpPr txBox="1"/>
              <p:nvPr/>
            </p:nvSpPr>
            <p:spPr>
              <a:xfrm>
                <a:off x="5867280" y="2851200"/>
                <a:ext cx="992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545"/>
              <p:cNvSpPr txBox="1"/>
              <p:nvPr/>
            </p:nvSpPr>
            <p:spPr>
              <a:xfrm>
                <a:off x="5867280" y="3718080"/>
                <a:ext cx="992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45"/>
              <p:cNvSpPr txBox="1"/>
              <p:nvPr/>
            </p:nvSpPr>
            <p:spPr>
              <a:xfrm>
                <a:off x="5867280" y="464652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45"/>
              <p:cNvSpPr txBox="1"/>
              <p:nvPr/>
            </p:nvSpPr>
            <p:spPr>
              <a:xfrm>
                <a:off x="5867280" y="544500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r>
                          <m:t xml:space="preserve">1,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50"/>
              <p:cNvSpPr txBox="1"/>
              <p:nvPr/>
            </p:nvSpPr>
            <p:spPr>
              <a:xfrm>
                <a:off x="6804000" y="1054080"/>
                <a:ext cx="8031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50"/>
              <p:cNvSpPr txBox="1"/>
              <p:nvPr/>
            </p:nvSpPr>
            <p:spPr>
              <a:xfrm>
                <a:off x="6804000" y="1916280"/>
                <a:ext cx="9921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50"/>
              <p:cNvSpPr txBox="1"/>
              <p:nvPr/>
            </p:nvSpPr>
            <p:spPr>
              <a:xfrm>
                <a:off x="6804000" y="2781360"/>
                <a:ext cx="103500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50"/>
              <p:cNvSpPr txBox="1"/>
              <p:nvPr/>
            </p:nvSpPr>
            <p:spPr>
              <a:xfrm>
                <a:off x="6804000" y="4508640"/>
                <a:ext cx="8031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550"/>
              <p:cNvSpPr txBox="1"/>
              <p:nvPr/>
            </p:nvSpPr>
            <p:spPr>
              <a:xfrm>
                <a:off x="6804000" y="5373720"/>
                <a:ext cx="7714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53"/>
              <p:cNvSpPr txBox="1"/>
              <p:nvPr/>
            </p:nvSpPr>
            <p:spPr>
              <a:xfrm>
                <a:off x="7164360" y="3933720"/>
                <a:ext cx="2556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7667640" y="260280"/>
            <a:ext cx="1476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luh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(konec roku)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5280" y="304920"/>
            <a:ext cx="2190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kutečná splát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3800" y="304920"/>
            <a:ext cx="7524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ú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(10%)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04920"/>
            <a:ext cx="927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nui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04920"/>
            <a:ext cx="10220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lu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zač. roku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2360" y="304920"/>
            <a:ext cx="5875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260280"/>
            <a:ext cx="3311280" cy="6048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53440" y="6278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umořování dluhu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1258920" y="1125360"/>
                <a:ext cx="60102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luh = součet všech skutečných spláte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1268280"/>
            <a:ext cx="5400720" cy="10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2349360"/>
            <a:ext cx="0" cy="648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2852640"/>
            <a:ext cx="294624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součet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členů G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0"/>
              <p:cNvSpPr txBox="1"/>
              <p:nvPr/>
            </p:nvSpPr>
            <p:spPr>
              <a:xfrm>
                <a:off x="4664160" y="2709720"/>
                <a:ext cx="2520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2792520" y="4821120"/>
                <a:ext cx="37764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771640" y="4941720"/>
            <a:ext cx="3816360" cy="158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99240" y="41497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65560" y="422100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(každý následující sčítanec – člen GP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krát větší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0"/>
              <p:cNvSpPr txBox="1"/>
              <p:nvPr/>
            </p:nvSpPr>
            <p:spPr>
              <a:xfrm>
                <a:off x="2340000" y="3284640"/>
                <a:ext cx="7491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7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5:19Z</dcterms:modified>
  <cp:revision>95</cp:revision>
  <dc:subject/>
  <dc:title>Posloupnosti</dc:title>
</cp:coreProperties>
</file>