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B80E-12D4-4ECB-89BE-882E79D769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AAD5-6A2B-42C1-BFD3-A92D0C4D59D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3700-6111-44D6-8EED-9F152A5D7F6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0FA9-5E35-45F9-AEE8-2CA9C386F1C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8DEB-8903-4F1C-91CC-F11B28B727C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F27-A491-48F5-9328-2E135A71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DE0-58CB-4BED-BEE4-EFA558E3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E3C-D7FD-44D4-951C-89BBC65F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FFD-FB05-4E32-974F-D7A96CD3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FDB4-B3A0-45B5-9252-0D8F43F9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AD00-3378-49A7-9E22-D7BEB43B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D0E5-0039-46FA-BCA0-248FED73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7F05-0C38-4A04-AF6E-E406344F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5BA9-DAE0-457F-9311-61124F23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FCB2-AABE-4739-8240-0D2A2714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F3C8-7D42-4980-A101-4CD5AC6E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C38-1E9C-43D3-8FF5-EE2C5423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F3BF-4146-4132-9EB5-6E0EC3F5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7112-4E85-44FC-9D04-3B6334A8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5484-455C-4A66-A12F-0A31CAF9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EA17-73F2-46F8-9260-4BB7878B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16B7-FDC5-4B3C-84AF-82F06F53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EC9-A3B7-4593-8802-87EB0AC9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216-A80E-4745-9196-9086FC7B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65D-4F32-462F-A96E-69416E45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26D-C7CA-4779-BFF2-4747D68C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AFF-FFE0-4AEE-8186-4E116D78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1A6-DBE1-431A-AD55-8FEBE9C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D15-B95B-4C3D-8C27-F5EE5E6E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2B6A-0F0D-41A5-804F-689FFB18D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1EF2-B0A8-48FC-B5CC-D4C6F46B3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116000" y="765000"/>
                <a:ext cx="3013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1116000" y="2349360"/>
                <a:ext cx="2949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5565600" y="779400"/>
                <a:ext cx="2454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3203640" y="2997360"/>
                <a:ext cx="565776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 8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7"/>
              <p:cNvSpPr txBox="1"/>
              <p:nvPr/>
            </p:nvSpPr>
            <p:spPr>
              <a:xfrm>
                <a:off x="1116000" y="4365720"/>
                <a:ext cx="31449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3206880" y="5300640"/>
                <a:ext cx="54766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900000" y="260280"/>
            <a:ext cx="82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daný počet prvních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1403280" y="1052640"/>
                <a:ext cx="4129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3057480" y="2852640"/>
                <a:ext cx="5765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5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800</m:t>
                    </m:r>
                    <m:r>
                      <m:t xml:space="preserve">/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7164360" y="1341360"/>
                <a:ext cx="1636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7"/>
              <p:cNvSpPr txBox="1"/>
              <p:nvPr/>
            </p:nvSpPr>
            <p:spPr>
              <a:xfrm>
                <a:off x="1403280" y="2276640"/>
                <a:ext cx="4162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4140360" y="4365720"/>
                <a:ext cx="4698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1403280" y="3789360"/>
                <a:ext cx="4327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3635280" y="5877000"/>
                <a:ext cx="5197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7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1403280" y="5300640"/>
                <a:ext cx="4394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hledané členu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187280" y="105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4. vzorce pro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435640" y="1413000"/>
            <a:ext cx="21600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1413000"/>
            <a:ext cx="28728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1413000"/>
            <a:ext cx="21456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971640" y="260280"/>
                <a:ext cx="176688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059280" y="260280"/>
            <a:ext cx="6084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bude platit aritmetický průměr pro pořadí členů, musí platit také pro hodnoty členů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403280" y="3500280"/>
                <a:ext cx="253836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403280" y="4365720"/>
                <a:ext cx="2228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403280" y="5229360"/>
                <a:ext cx="201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3419640" y="5445000"/>
                <a:ext cx="680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5" name="Rectangle 3"/>
          <p:cNvSpPr/>
          <p:nvPr/>
        </p:nvSpPr>
        <p:spPr>
          <a:xfrm>
            <a:off x="1258920" y="6181560"/>
            <a:ext cx="7885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tnáctý člen dané AP má hodnotu 31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292720" y="1989000"/>
                <a:ext cx="11462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6443640" y="2276640"/>
                <a:ext cx="6811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34" idx="2"/>
            <a:endCxn id="250" idx="1"/>
          </p:cNvCxnSpPr>
          <p:nvPr/>
        </p:nvCxnSpPr>
        <p:spPr>
          <a:xfrm rot="5400000">
            <a:off x="5193720" y="1855800"/>
            <a:ext cx="505440" cy="194400"/>
          </a:xfrm>
          <a:prstGeom prst="curvedConnector5">
            <a:avLst>
              <a:gd name="adj1" fmla="val 28296"/>
              <a:gd name="adj2" fmla="val 105194"/>
              <a:gd name="adj3" fmla="val 28296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35" idx="2"/>
            <a:endCxn id="250" idx="3"/>
          </p:cNvCxnSpPr>
          <p:nvPr/>
        </p:nvCxnSpPr>
        <p:spPr>
          <a:xfrm rot="5400000">
            <a:off x="6378480" y="1707120"/>
            <a:ext cx="505440" cy="49140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36" idx="2"/>
            <a:endCxn id="251" idx="0"/>
          </p:cNvCxnSpPr>
          <p:nvPr/>
        </p:nvCxnSpPr>
        <p:spPr>
          <a:xfrm flipH="1" rot="16200000">
            <a:off x="6271200" y="1621080"/>
            <a:ext cx="562680" cy="720000"/>
          </a:xfrm>
          <a:prstGeom prst="curvedConnector5">
            <a:avLst>
              <a:gd name="adj1" fmla="val 25416"/>
              <a:gd name="adj2" fmla="val 49974"/>
              <a:gd name="adj3" fmla="val 25416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5964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1020600" y="260280"/>
                <a:ext cx="166860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1332000" y="3573360"/>
                <a:ext cx="2104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1332000" y="4437000"/>
                <a:ext cx="2228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3635280" y="4653000"/>
                <a:ext cx="773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4" name="Rectangle 3"/>
          <p:cNvSpPr/>
          <p:nvPr/>
        </p:nvSpPr>
        <p:spPr>
          <a:xfrm>
            <a:off x="1258920" y="5734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vanáctý člen dané AP má hodnotu 3,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5369040" y="1989000"/>
                <a:ext cx="9921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6443640" y="2292480"/>
                <a:ext cx="6811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55" idx="2"/>
            <a:endCxn id="269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56" idx="2"/>
            <a:endCxn id="269" idx="3"/>
          </p:cNvCxnSpPr>
          <p:nvPr/>
        </p:nvCxnSpPr>
        <p:spPr>
          <a:xfrm rot="5400000">
            <a:off x="6270120" y="1671480"/>
            <a:ext cx="649800" cy="4183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57" idx="2"/>
            <a:endCxn id="270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74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971640" y="260280"/>
                <a:ext cx="176688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276880" y="1989000"/>
                <a:ext cx="1177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6443640" y="2276640"/>
                <a:ext cx="6811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258920" y="2852640"/>
            <a:ext cx="55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 ne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5" idx="2"/>
            <a:endCxn id="285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6" idx="2"/>
            <a:endCxn id="285" idx="3"/>
          </p:cNvCxnSpPr>
          <p:nvPr/>
        </p:nvCxnSpPr>
        <p:spPr>
          <a:xfrm rot="5400000">
            <a:off x="6306480" y="1634760"/>
            <a:ext cx="649800" cy="49140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77" idx="2"/>
            <a:endCxn id="286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90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6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3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258920" y="5950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řicátý člen dané AP má hodnotu 15,2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1476360" y="3500280"/>
                <a:ext cx="2666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1692360" y="4149720"/>
                <a:ext cx="2336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1692360" y="4654440"/>
                <a:ext cx="1535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1620720" y="5230800"/>
                <a:ext cx="124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8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5364000" y="3500280"/>
                <a:ext cx="252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4"/>
              <p:cNvSpPr txBox="1"/>
              <p:nvPr/>
            </p:nvSpPr>
            <p:spPr>
              <a:xfrm>
                <a:off x="5435640" y="4076640"/>
                <a:ext cx="2739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5435640" y="4581360"/>
                <a:ext cx="2558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5435640" y="5157720"/>
                <a:ext cx="1716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5964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1020600" y="260280"/>
                <a:ext cx="166860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4"/>
              <p:cNvSpPr txBox="1"/>
              <p:nvPr/>
            </p:nvSpPr>
            <p:spPr>
              <a:xfrm>
                <a:off x="1332000" y="3429000"/>
                <a:ext cx="21366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5867280" y="5013360"/>
                <a:ext cx="2259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8099280" y="5013360"/>
                <a:ext cx="681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9" name="Rectangle 3"/>
          <p:cNvSpPr/>
          <p:nvPr/>
        </p:nvSpPr>
        <p:spPr>
          <a:xfrm>
            <a:off x="1258920" y="5950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vacátý člen dané AP má hodnotu 1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5354640" y="1989000"/>
                <a:ext cx="1022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6443640" y="2292480"/>
                <a:ext cx="6811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00" idx="2"/>
            <a:endCxn id="314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1" idx="2"/>
            <a:endCxn id="314" idx="3"/>
          </p:cNvCxnSpPr>
          <p:nvPr/>
        </p:nvCxnSpPr>
        <p:spPr>
          <a:xfrm rot="5400000">
            <a:off x="6270120" y="1671480"/>
            <a:ext cx="649800" cy="4183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2" idx="2"/>
            <a:endCxn id="315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19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8360" y="3933720"/>
            <a:ext cx="12970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5651640" y="3716280"/>
                <a:ext cx="21985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4859280" y="4221000"/>
                <a:ext cx="24145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4067280" y="3500280"/>
                <a:ext cx="4334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1042920" y="549360"/>
                <a:ext cx="4291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5003640" y="907920"/>
                <a:ext cx="34513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7"/>
              <p:cNvSpPr txBox="1"/>
              <p:nvPr/>
            </p:nvSpPr>
            <p:spPr>
              <a:xfrm>
                <a:off x="971640" y="1844640"/>
                <a:ext cx="4160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5003640" y="2421000"/>
                <a:ext cx="31640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1042920" y="3645000"/>
                <a:ext cx="4094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4756320" y="4186080"/>
                <a:ext cx="29509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1042920" y="4869000"/>
                <a:ext cx="46515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4"/>
              <p:cNvSpPr txBox="1"/>
              <p:nvPr/>
            </p:nvSpPr>
            <p:spPr>
              <a:xfrm>
                <a:off x="5003640" y="5516640"/>
                <a:ext cx="35578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2" name="Object 7"/>
              <p:cNvSpPr txBox="1"/>
              <p:nvPr/>
            </p:nvSpPr>
            <p:spPr>
              <a:xfrm>
                <a:off x="1187280" y="333360"/>
                <a:ext cx="38656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5219640" y="1125360"/>
                <a:ext cx="2952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7"/>
              <p:cNvSpPr txBox="1"/>
              <p:nvPr/>
            </p:nvSpPr>
            <p:spPr>
              <a:xfrm>
                <a:off x="1116000" y="1844640"/>
                <a:ext cx="4095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7"/>
              <p:cNvSpPr txBox="1"/>
              <p:nvPr/>
            </p:nvSpPr>
            <p:spPr>
              <a:xfrm>
                <a:off x="1076400" y="3643200"/>
                <a:ext cx="40273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5202360" y="4221000"/>
                <a:ext cx="2562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1187280" y="5084640"/>
                <a:ext cx="4030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5219640" y="2421000"/>
                <a:ext cx="3059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5219640" y="5734080"/>
                <a:ext cx="3237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3878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u pro součet několika prvních členů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čet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prvních padesát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1872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součet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187280" y="189000"/>
                <a:ext cx="17686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2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Line 5"/>
          <p:cNvSpPr/>
          <p:nvPr/>
        </p:nvSpPr>
        <p:spPr>
          <a:xfrm>
            <a:off x="1692360" y="1339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619280" y="2276640"/>
                <a:ext cx="28814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601640" y="3571920"/>
                <a:ext cx="32022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713560" y="2781360"/>
                <a:ext cx="325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5580000" y="3429000"/>
                <a:ext cx="2594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5580000" y="4005360"/>
                <a:ext cx="3105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5580000" y="4581360"/>
                <a:ext cx="2849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580000" y="5157720"/>
                <a:ext cx="2009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601640" y="4579920"/>
                <a:ext cx="3557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619280" y="5229360"/>
                <a:ext cx="24908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619280" y="5877000"/>
                <a:ext cx="2241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2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995640" y="3787920"/>
            <a:ext cx="649440" cy="647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4144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571640" y="4365720"/>
            <a:ext cx="1079640" cy="1008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258920" y="1268280"/>
            <a:ext cx="3744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součet 50 čl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5219640" y="126828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 součtu potřebujeme první a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ed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042920" y="333360"/>
                <a:ext cx="15400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Line 5"/>
          <p:cNvSpPr/>
          <p:nvPr/>
        </p:nvSpPr>
        <p:spPr>
          <a:xfrm>
            <a:off x="1619280" y="1484280"/>
            <a:ext cx="108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598760" y="3772080"/>
                <a:ext cx="31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5797440" y="3770280"/>
                <a:ext cx="25210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5796000" y="4508640"/>
                <a:ext cx="3106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5775480" y="5159520"/>
                <a:ext cx="22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5738760" y="5807160"/>
                <a:ext cx="1754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598760" y="4543560"/>
                <a:ext cx="34160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1546200" y="5192640"/>
                <a:ext cx="2595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1509840" y="5894280"/>
                <a:ext cx="18856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0" name="Rectangle 3"/>
          <p:cNvSpPr/>
          <p:nvPr/>
        </p:nvSpPr>
        <p:spPr>
          <a:xfrm>
            <a:off x="3780000" y="189000"/>
            <a:ext cx="536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musíme určit samotnou A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3852720" y="1035000"/>
                <a:ext cx="21924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4159080" y="1717560"/>
                <a:ext cx="1679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3851280" y="2133720"/>
                <a:ext cx="14619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3924360" y="2565360"/>
                <a:ext cx="12049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6732720" y="1052640"/>
                <a:ext cx="21542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7021440" y="1700280"/>
                <a:ext cx="16066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6877080" y="2133720"/>
                <a:ext cx="1168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1116000" y="549360"/>
                <a:ext cx="27846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1116000" y="2349360"/>
                <a:ext cx="3341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5796000" y="549360"/>
                <a:ext cx="19922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5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419640" y="2997360"/>
                <a:ext cx="554976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3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1116000" y="4365720"/>
                <a:ext cx="3243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402000" y="5300640"/>
                <a:ext cx="50864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prvních sto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1042920" y="260280"/>
                <a:ext cx="1865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Line 5"/>
          <p:cNvSpPr/>
          <p:nvPr/>
        </p:nvSpPr>
        <p:spPr>
          <a:xfrm>
            <a:off x="1808280" y="135720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619280" y="1484280"/>
                <a:ext cx="2739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384200" y="2779560"/>
                <a:ext cx="3594240" cy="10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796000" y="1700280"/>
                <a:ext cx="3105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580000" y="234936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5580000" y="2924280"/>
                <a:ext cx="33624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5580000" y="350028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580000" y="4076640"/>
                <a:ext cx="2082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380960" y="3859200"/>
                <a:ext cx="3808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5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1403280" y="4581360"/>
                <a:ext cx="28814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403280" y="5373720"/>
                <a:ext cx="24559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4121280" y="2960640"/>
            <a:ext cx="718920" cy="720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85800" y="24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88000" y="3499920"/>
            <a:ext cx="792000" cy="792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7"/>
              <p:cNvSpPr txBox="1"/>
              <p:nvPr/>
            </p:nvSpPr>
            <p:spPr>
              <a:xfrm>
                <a:off x="1042920" y="260280"/>
                <a:ext cx="19303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Line 5"/>
          <p:cNvSpPr/>
          <p:nvPr/>
        </p:nvSpPr>
        <p:spPr>
          <a:xfrm>
            <a:off x="1692360" y="141300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547640" y="3068640"/>
                <a:ext cx="334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5799240" y="3067200"/>
                <a:ext cx="2628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5818320" y="3840120"/>
                <a:ext cx="28494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5781600" y="449100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5729400" y="5138640"/>
                <a:ext cx="1827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509840" y="3840120"/>
                <a:ext cx="3416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455840" y="4489560"/>
                <a:ext cx="2311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9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438200" y="5191200"/>
                <a:ext cx="2027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635280" y="260280"/>
                <a:ext cx="23367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3811680" y="942840"/>
                <a:ext cx="2082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3851280" y="1519200"/>
                <a:ext cx="13161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3975120" y="2095560"/>
                <a:ext cx="9856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6697800" y="241200"/>
                <a:ext cx="21906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6856560" y="942840"/>
                <a:ext cx="1971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6659640" y="1519200"/>
                <a:ext cx="1350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52Z</dcterms:modified>
  <cp:revision>321</cp:revision>
  <dc:subject/>
  <dc:title>Posloupnosti</dc:title>
</cp:coreProperties>
</file>