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CFAE-CC76-44C4-B7D2-D434F8633C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1A72-F309-4C06-ADEB-E027C4E75D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6D4A-6BE7-461C-8DD9-42454C56B6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4FD-CECE-4D71-9133-347588256F5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329-C376-4757-B0DA-3864080326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ED5-C172-40C5-9E84-8DDD5922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D06-FA43-4C02-869D-F76D2E7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4EF-5333-464B-9B86-AA3F034A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EEA-F23F-4144-B494-B51DD9BB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BFB-4934-4B92-A801-AD17AADF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697-7607-4E8B-81A4-E62D9FE8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D62C-C3AB-47A9-BE94-EC5C8F9B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6C0B-C535-4B6C-BE2A-0DE0BD5F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1224-81E1-4157-B946-874E25DA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4360-3BD4-4ACF-AD7A-A1D4ED9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5A1-FF48-447A-B1EB-BB236F2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4E3-FFA0-4118-A6A9-9064CDCC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B4BB-39A6-49EA-AF07-58AA27D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0E37-CD29-42D6-A722-1B951E9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7611-0514-46FF-822B-D9DCCEB1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9309-2862-4BF3-879E-59E87F4F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C9BF-E209-4C04-8D4C-E1F6FDED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3FB-EB26-478F-A803-A7D124A2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BAA-B6DC-406C-9212-FA6BC32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500-C1D9-46DF-A89A-721D0F53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31C-118D-43FF-910B-FAEC8988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63C-D0E6-4FC2-86D9-15F32A1F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B77-4D45-4724-AB59-AED6082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059-7DD5-47F6-89DC-B509B6A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F15F-CCFC-4E7E-9A81-08173098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1C60-B201-43ED-BC37-036AE833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187280" y="155736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1; b) 3                                             členy posloupnosti                 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027760" y="2637000"/>
                <a:ext cx="18334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16000" y="260280"/>
                <a:ext cx="18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3"/>
          <p:cNvSpPr/>
          <p:nvPr/>
        </p:nvSpPr>
        <p:spPr>
          <a:xfrm>
            <a:off x="1619280" y="907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924360" y="3573360"/>
                <a:ext cx="2422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221440" y="4797360"/>
                <a:ext cx="186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437080" y="5516640"/>
                <a:ext cx="11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372360" y="2060640"/>
                <a:ext cx="753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805440" y="5516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10"/>
          <p:cNvSpPr/>
          <p:nvPr/>
        </p:nvSpPr>
        <p:spPr>
          <a:xfrm>
            <a:off x="1611000" y="6021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187280" y="3789360"/>
                <a:ext cx="189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677556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5076720" y="1413000"/>
                <a:ext cx="163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5292720" y="2060640"/>
                <a:ext cx="85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17"/>
          <p:cNvSpPr/>
          <p:nvPr/>
        </p:nvSpPr>
        <p:spPr>
          <a:xfrm>
            <a:off x="1468080" y="2565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je 1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780000" y="189000"/>
                <a:ext cx="2355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3"/>
          <p:cNvSpPr/>
          <p:nvPr/>
        </p:nvSpPr>
        <p:spPr>
          <a:xfrm>
            <a:off x="1763640" y="44388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 079; b) – 53                                              členy posloupnosti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932360" y="2060640"/>
                <a:ext cx="2576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0" name="Text Box 17"/>
          <p:cNvSpPr/>
          <p:nvPr/>
        </p:nvSpPr>
        <p:spPr>
          <a:xfrm>
            <a:off x="2124000" y="350028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079 je 41. členem dané posloupnosti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124000" y="4292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53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20; b) – 4                                              členy posloupnosti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4932360" y="1773360"/>
                <a:ext cx="18064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20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4 je 28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; b) 17                                               členy posloupnosti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32360" y="1773360"/>
                <a:ext cx="2174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je 21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17 je 3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66372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řadí členů 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55736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500; b) 223                      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4365720"/>
            <a:ext cx="79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41360" indent="-442800">
              <a:lnSpc>
                <a:spcPct val="110000"/>
              </a:lnSpc>
              <a:spcBef>
                <a:spcPts val="35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 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41360" indent="-44280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je dané číslo členem posloupnost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nalezneme jeho pořadí, tudíž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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187280" y="26028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284720" y="26028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796000" y="9079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012000" y="1484280"/>
                <a:ext cx="1376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244000" y="4941720"/>
                <a:ext cx="753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524720" y="177336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1683000" y="249228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5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187280" y="3500280"/>
                <a:ext cx="22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Line 12"/>
          <p:cNvSpPr/>
          <p:nvPr/>
        </p:nvSpPr>
        <p:spPr>
          <a:xfrm>
            <a:off x="1619280" y="41180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691848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284720" y="347040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796000" y="41497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012000" y="4653000"/>
                <a:ext cx="2195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7"/>
          <p:cNvSpPr/>
          <p:nvPr/>
        </p:nvSpPr>
        <p:spPr>
          <a:xfrm>
            <a:off x="1609560" y="587700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je 4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87280" y="1557360"/>
            <a:ext cx="795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289; b) 223; c) 361; d) 1 000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+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1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1187280" y="33336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"/>
          <p:cNvSpPr/>
          <p:nvPr/>
        </p:nvSpPr>
        <p:spPr>
          <a:xfrm>
            <a:off x="1619280" y="98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325760" y="3274920"/>
                <a:ext cx="2034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92360" y="112536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195640" y="184644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92720" y="2494080"/>
                <a:ext cx="259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195640" y="3718080"/>
                <a:ext cx="2358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885080" y="3573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172360" y="4581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682640" y="5805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89 je 1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00720" y="3286080"/>
                <a:ext cx="26208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3573360"/>
                <a:ext cx="785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7093080" y="4581360"/>
                <a:ext cx="1014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7885080" y="2565360"/>
                <a:ext cx="105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87280" y="404640"/>
                <a:ext cx="2291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3"/>
          <p:cNvSpPr/>
          <p:nvPr/>
        </p:nvSpPr>
        <p:spPr>
          <a:xfrm>
            <a:off x="1635120" y="1052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341960" y="334656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08200" y="119700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11480" y="191772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164200" y="2637000"/>
                <a:ext cx="271764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39840" y="3573360"/>
                <a:ext cx="27831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24560" y="4005360"/>
                <a:ext cx="1508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1322640" y="580536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7827840" y="2709720"/>
                <a:ext cx="878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4"/>
          <p:cNvSpPr/>
          <p:nvPr/>
        </p:nvSpPr>
        <p:spPr>
          <a:xfrm>
            <a:off x="3940200" y="3573360"/>
            <a:ext cx="934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23120" y="3213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ení celé čísl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075120" y="3213000"/>
            <a:ext cx="244944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plné kvadratické rovnice můžete řešit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ždy pomocí vzorce s diskriminantem (a,b),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pro zajímavost uvádím i jinou možnost řešení (c,d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87480" y="1628640"/>
                <a:ext cx="222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3"/>
          <p:cNvSpPr/>
          <p:nvPr/>
        </p:nvSpPr>
        <p:spPr>
          <a:xfrm>
            <a:off x="1403280" y="2276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476360" y="2276640"/>
                <a:ext cx="3732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87640" y="2852640"/>
                <a:ext cx="2260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1466640" y="6021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61 je 18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780160" y="2820960"/>
                <a:ext cx="785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348000" y="3573360"/>
                <a:ext cx="1704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812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364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17"/>
          <p:cNvSpPr/>
          <p:nvPr/>
        </p:nvSpPr>
        <p:spPr>
          <a:xfrm>
            <a:off x="3564000" y="40784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Rectangle 74"/>
          <p:cNvSpPr/>
          <p:nvPr/>
        </p:nvSpPr>
        <p:spPr>
          <a:xfrm>
            <a:off x="5105160" y="36464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5240160" y="4653000"/>
            <a:ext cx="3902040" cy="520560"/>
            <a:chOff x="5240160" y="4653000"/>
            <a:chExt cx="3902040" cy="520560"/>
          </a:xfrm>
        </p:grpSpPr>
        <p:sp>
          <p:nvSpPr>
            <p:cNvPr id="201" name="Line 61"/>
            <p:cNvSpPr/>
            <p:nvPr/>
          </p:nvSpPr>
          <p:spPr>
            <a:xfrm>
              <a:off x="5240160" y="4724640"/>
              <a:ext cx="3713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62"/>
            <p:cNvSpPr/>
            <p:nvPr/>
          </p:nvSpPr>
          <p:spPr>
            <a:xfrm>
              <a:off x="87832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7"/>
          <p:cNvGrpSpPr/>
          <p:nvPr/>
        </p:nvGrpSpPr>
        <p:grpSpPr>
          <a:xfrm>
            <a:off x="6756120" y="4581360"/>
            <a:ext cx="511200" cy="757080"/>
            <a:chOff x="6756120" y="4581360"/>
            <a:chExt cx="511200" cy="757080"/>
          </a:xfrm>
        </p:grpSpPr>
        <p:sp>
          <p:nvSpPr>
            <p:cNvPr id="204" name="Line 64"/>
            <p:cNvSpPr/>
            <p:nvPr/>
          </p:nvSpPr>
          <p:spPr>
            <a:xfrm>
              <a:off x="6899040" y="4581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6756120" y="4817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70"/>
          <p:cNvSpPr/>
          <p:nvPr/>
        </p:nvSpPr>
        <p:spPr>
          <a:xfrm>
            <a:off x="56736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5086440" y="4795920"/>
            <a:ext cx="137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81234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603560" y="4795920"/>
            <a:ext cx="1103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8051400" y="4653000"/>
            <a:ext cx="144720" cy="142920"/>
            <a:chOff x="8051400" y="4653000"/>
            <a:chExt cx="144720" cy="142920"/>
          </a:xfrm>
        </p:grpSpPr>
        <p:sp>
          <p:nvSpPr>
            <p:cNvPr id="211" name="Line 30"/>
            <p:cNvSpPr/>
            <p:nvPr/>
          </p:nvSpPr>
          <p:spPr>
            <a:xfrm>
              <a:off x="80517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 flipH="1">
              <a:off x="80514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29"/>
          <p:cNvGrpSpPr/>
          <p:nvPr/>
        </p:nvGrpSpPr>
        <p:grpSpPr>
          <a:xfrm>
            <a:off x="5601960" y="4653000"/>
            <a:ext cx="144720" cy="142920"/>
            <a:chOff x="5601960" y="4653000"/>
            <a:chExt cx="144720" cy="142920"/>
          </a:xfrm>
        </p:grpSpPr>
        <p:sp>
          <p:nvSpPr>
            <p:cNvPr id="214" name="Line 30"/>
            <p:cNvSpPr/>
            <p:nvPr/>
          </p:nvSpPr>
          <p:spPr>
            <a:xfrm>
              <a:off x="56023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H="1">
              <a:off x="56019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6" name="Arc 66"/>
          <p:cNvSpPr/>
          <p:nvPr/>
        </p:nvSpPr>
        <p:spPr>
          <a:xfrm flipH="1">
            <a:off x="5673600" y="450864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rc 68"/>
          <p:cNvSpPr/>
          <p:nvPr/>
        </p:nvSpPr>
        <p:spPr>
          <a:xfrm flipH="1">
            <a:off x="6897600" y="451008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73160" y="260280"/>
                <a:ext cx="2487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49880" y="387828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606680" y="971640"/>
                <a:ext cx="3987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078000" y="1676520"/>
                <a:ext cx="2513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7"/>
          <p:cNvSpPr/>
          <p:nvPr/>
        </p:nvSpPr>
        <p:spPr>
          <a:xfrm>
            <a:off x="1466280" y="544500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0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996160" y="1668600"/>
                <a:ext cx="785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3419640" y="3357720"/>
                <a:ext cx="2411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Rectangle 17"/>
          <p:cNvSpPr/>
          <p:nvPr/>
        </p:nvSpPr>
        <p:spPr>
          <a:xfrm>
            <a:off x="3732120" y="39607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5924160" y="34574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683400" y="345744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3419640" y="2492280"/>
                <a:ext cx="24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25Z</dcterms:modified>
  <cp:revision>304</cp:revision>
  <dc:subject/>
  <dc:title>Posloupnosti</dc:title>
</cp:coreProperties>
</file>