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1C5F-0BEA-45B8-854B-D0D14E847D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9AD7-D41E-4774-ACF7-0F97C74A351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9BC6-874E-4F8B-9AA1-7759D258C25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332B-77DB-4CD9-9768-BE3B076C51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1936-4B5F-494B-84A7-141B46D334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6D65-853D-419C-BD1B-2B7D33852A5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129-FCAD-4DA2-83A3-DB13F945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60F-3AF5-4519-B9FE-FE61646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7A8-A623-4453-BE8A-63AFA2FC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C77-E5BE-41CC-8C38-D2B65670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4BD0-23F2-44C1-84AB-4ED0A3D3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C7D8-21E4-4FC5-8F43-1492D79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F3C3-9F3F-44B1-AEB5-EB174F7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A9E4-61C0-4075-BEBE-A926745A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8E6-CFA1-446E-843B-4A46B4F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130E-49DD-4915-94BE-68173FCF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3241-1737-490B-84D9-6AC6954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BD7-B2DF-4685-9AEC-BAB410F4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11CF-644B-4ACF-BBE0-F1DC9A42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1040-401F-41F4-896F-941929C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E24A-579F-4CFF-B533-59FF59A7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4F94-ACE5-4A48-821E-61178EEC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ADD2-762F-4232-B46B-E12F2F8E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214-F593-4EF2-BF72-C7FFD433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FCE-E72A-4037-B752-2418CD8D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775-5192-4A23-A1B9-A049D941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E7C-9864-4FB0-9B56-379F5B6E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FEF-0AC8-4D64-932A-FD38DD38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13A-A6F9-45FF-B4A3-06A51BC5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699-93BF-4567-A2A2-3B265A47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8B70-577E-488C-A805-D63622AFE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3DC-3CB9-4E14-9C65-9CB271A4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987480" y="263520"/>
                <a:ext cx="2577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708360" y="404640"/>
                <a:ext cx="4800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2843280" y="1052640"/>
                <a:ext cx="17524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843280" y="1555920"/>
                <a:ext cx="18986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2843280" y="2060640"/>
                <a:ext cx="204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2843280" y="2637000"/>
                <a:ext cx="20448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938920" y="1052640"/>
                <a:ext cx="760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643280" y="1052640"/>
                <a:ext cx="1287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4786200" y="1555920"/>
                <a:ext cx="7588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4930920" y="206064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930920" y="263700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2"/>
          <p:cNvSpPr/>
          <p:nvPr/>
        </p:nvSpPr>
        <p:spPr>
          <a:xfrm>
            <a:off x="1042920" y="3860640"/>
            <a:ext cx="81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8240760" y="5229360"/>
                <a:ext cx="903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708360" y="4437000"/>
                <a:ext cx="404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1581120" y="5197320"/>
                <a:ext cx="3747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5335560" y="5227560"/>
                <a:ext cx="2981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075280" y="1484280"/>
            <a:ext cx="649080" cy="1873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1873440"/>
              <a:gd name="textAreaBottom" fmla="*/ 1841760 h 1873440"/>
            </a:gdLst>
            <a:ahLst/>
            <a:rect l="textAreaLeft" t="textAreaTop" r="textAreaRight" b="textAreaBottom"/>
            <a:pathLst>
              <a:path w="21600" h="62322">
                <a:moveTo>
                  <a:pt x="3600" y="0"/>
                </a:moveTo>
                <a:arcTo wR="3600" hR="3600" stAng="16200000" swAng="-5400000"/>
                <a:lnTo>
                  <a:pt x="0" y="58722"/>
                </a:lnTo>
                <a:arcTo wR="3600" hR="3600" stAng="10800000" swAng="-5400000"/>
                <a:lnTo>
                  <a:pt x="18000" y="62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18640" y="1844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99640" y="242712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98100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675480" y="5877000"/>
                <a:ext cx="2259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2843280" y="1052640"/>
                <a:ext cx="1519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843280" y="1557360"/>
                <a:ext cx="105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2062080"/>
                <a:ext cx="119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2843280" y="2637000"/>
                <a:ext cx="1342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427640" y="105264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427640" y="155736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427640" y="206208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4427640" y="263700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2"/>
          <p:cNvSpPr/>
          <p:nvPr/>
        </p:nvSpPr>
        <p:spPr>
          <a:xfrm>
            <a:off x="1042920" y="386064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8483760" y="5229360"/>
                <a:ext cx="660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635280" y="4437000"/>
                <a:ext cx="4418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1619280" y="5229360"/>
                <a:ext cx="4116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651640" y="5229360"/>
                <a:ext cx="2914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4500720" y="1052640"/>
            <a:ext cx="649080" cy="208908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94">
                <a:moveTo>
                  <a:pt x="3600" y="0"/>
                </a:moveTo>
                <a:arcTo wR="3600" hR="3600" stAng="16200000" swAng="-5400000"/>
                <a:lnTo>
                  <a:pt x="0" y="65894"/>
                </a:lnTo>
                <a:arcTo wR="3600" hR="3600" stAng="10800000" swAng="-5400000"/>
                <a:lnTo>
                  <a:pt x="18000" y="69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1640" y="1700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72640" y="2282760"/>
            <a:ext cx="26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971640" y="260280"/>
                <a:ext cx="2709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3780000" y="333360"/>
                <a:ext cx="3396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6657840" y="5877000"/>
                <a:ext cx="2293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161928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690560" y="1628640"/>
                <a:ext cx="1051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690560" y="2131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690560" y="263700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90560" y="3213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843280" y="1628640"/>
                <a:ext cx="105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2857680" y="2133720"/>
                <a:ext cx="102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857680" y="26384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28880" y="3213000"/>
                <a:ext cx="13716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4211640" y="1628640"/>
                <a:ext cx="555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4211640" y="213372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4211640" y="263844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4211640" y="321300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2"/>
          <p:cNvSpPr/>
          <p:nvPr/>
        </p:nvSpPr>
        <p:spPr>
          <a:xfrm>
            <a:off x="1547640" y="4581360"/>
            <a:ext cx="75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1628640"/>
            <a:ext cx="649080" cy="208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440"/>
              <a:gd name="textAreaBottom" fmla="*/ 2057760 h 2089440"/>
            </a:gdLst>
            <a:ahLst/>
            <a:rect l="textAreaLeft" t="textAreaTop" r="textAreaRight" b="textAreaBottom"/>
            <a:pathLst>
              <a:path w="21600" h="69506">
                <a:moveTo>
                  <a:pt x="3600" y="0"/>
                </a:moveTo>
                <a:arcTo wR="3600" hR="3600" stAng="16200000" swAng="-5400000"/>
                <a:lnTo>
                  <a:pt x="0" y="65906"/>
                </a:lnTo>
                <a:arcTo wR="3600" hR="3600" stAng="10800000" swAng="-5400000"/>
                <a:lnTo>
                  <a:pt x="18000" y="69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74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54120" y="2859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1117440" y="404640"/>
                <a:ext cx="2416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5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Rectangle 2"/>
          <p:cNvSpPr/>
          <p:nvPr/>
        </p:nvSpPr>
        <p:spPr>
          <a:xfrm>
            <a:off x="1258920" y="422100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1403280" y="472428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3851280" y="5516640"/>
                <a:ext cx="649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3851280" y="4581360"/>
                <a:ext cx="27986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588000" y="4581360"/>
                <a:ext cx="235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1762200" y="5516640"/>
                <a:ext cx="2147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42920" y="189000"/>
                <a:ext cx="23511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3635280" y="260280"/>
                <a:ext cx="31021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6804000" y="5589720"/>
                <a:ext cx="20527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8"/>
          <p:cNvSpPr/>
          <p:nvPr/>
        </p:nvSpPr>
        <p:spPr>
          <a:xfrm>
            <a:off x="1979640" y="1125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1979640" y="1413000"/>
                <a:ext cx="10508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979640" y="191628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1979640" y="2421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979640" y="2997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340000" y="3500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1427040"/>
                <a:ext cx="555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132000" y="1932120"/>
                <a:ext cx="5558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132000" y="242244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3132000" y="2997360"/>
                <a:ext cx="700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"/>
          <p:cNvSpPr/>
          <p:nvPr/>
        </p:nvSpPr>
        <p:spPr>
          <a:xfrm>
            <a:off x="1835280" y="4221000"/>
            <a:ext cx="73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5080" y="1413000"/>
            <a:ext cx="649440" cy="208908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55">
                <a:moveTo>
                  <a:pt x="3600" y="0"/>
                </a:moveTo>
                <a:arcTo wR="3600" hR="3600" stAng="16200000" swAng="-5400000"/>
                <a:lnTo>
                  <a:pt x="0" y="65855"/>
                </a:lnTo>
                <a:arcTo wR="3600" hR="3600" stAng="10800000" swAng="-5400000"/>
                <a:lnTo>
                  <a:pt x="18000" y="6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95280" y="2060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4480" y="2643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209600" y="333360"/>
                <a:ext cx="1992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8"/>
          <p:cNvSpPr/>
          <p:nvPr/>
        </p:nvSpPr>
        <p:spPr>
          <a:xfrm>
            <a:off x="1647720" y="15159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692360" y="184320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1692360" y="2565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692360" y="3429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698480" y="4292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124000" y="49417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843280" y="170028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2843280" y="249408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2849400" y="3286080"/>
                <a:ext cx="675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843280" y="4076640"/>
                <a:ext cx="700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843280" y="1700280"/>
            <a:ext cx="936720" cy="331308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313080"/>
              <a:gd name="textAreaBottom" fmla="*/ 3267360 h 3313080"/>
            </a:gdLst>
            <a:ahLst/>
            <a:rect l="textAreaLeft" t="textAreaTop" r="textAreaRight" b="textAreaBottom"/>
            <a:pathLst>
              <a:path w="21600" h="76376">
                <a:moveTo>
                  <a:pt x="3600" y="0"/>
                </a:moveTo>
                <a:arcTo wR="3600" hR="3600" stAng="16200000" swAng="-5400000"/>
                <a:lnTo>
                  <a:pt x="0" y="72776"/>
                </a:lnTo>
                <a:arcTo wR="3600" hR="3600" stAng="10800000" swAng="-5400000"/>
                <a:lnTo>
                  <a:pt x="18000" y="76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944640" y="189000"/>
                <a:ext cx="27097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359160" y="260280"/>
                <a:ext cx="3656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993480" y="29242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3040" y="350676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619280" y="5734080"/>
            <a:ext cx="75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8"/>
          <p:cNvSpPr/>
          <p:nvPr/>
        </p:nvSpPr>
        <p:spPr>
          <a:xfrm>
            <a:off x="1692360" y="14842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Rectangle 2"/>
          <p:cNvSpPr/>
          <p:nvPr/>
        </p:nvSpPr>
        <p:spPr>
          <a:xfrm>
            <a:off x="1258920" y="429264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1403280" y="4795920"/>
                <a:ext cx="2376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4827600" y="5594400"/>
                <a:ext cx="649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3851280" y="4651200"/>
                <a:ext cx="324468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1763640" y="5589720"/>
                <a:ext cx="3009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42920" y="189000"/>
                <a:ext cx="2613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3711600" y="260280"/>
                <a:ext cx="35272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6804000" y="5575320"/>
                <a:ext cx="2052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187280" y="476280"/>
                <a:ext cx="255132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5132520" y="882720"/>
                <a:ext cx="2305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135080" y="1989000"/>
                <a:ext cx="265572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1082520" y="3537000"/>
                <a:ext cx="27622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1187280" y="5373720"/>
                <a:ext cx="251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5148360" y="213372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148360" y="371628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5148360" y="5445000"/>
                <a:ext cx="22352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00280"/>
          <a:ext cx="7416720" cy="4192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aritmetická posloupnost, diference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; Diferen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vztahu mezi dvěma po sobě jdoucími členy rozlišuje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2060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díl dvou sousedních členů je konstantní (stálý, stejný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lineár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íl dvou sousedních členů j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exponenciál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ritmet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71640" y="62064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700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ylo uloženo 15 000 Kč. Po prvním měsíci se začalo k této částce ukládat měsíčně    500 Kč. Jaká byla cílová částka po 3 letech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900000" y="26028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částku za 3 roky a 1 měsíc, což je 37 měsíc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0000" y="1771560"/>
            <a:ext cx="7956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měsí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7. měsíc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900000" y="5877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ylo naspořeno 33 000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292720" y="98100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21440" y="1771560"/>
            <a:ext cx="14032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68360" y="98100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spořená částka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K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1771560"/>
            <a:ext cx="2881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1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2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3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4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36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564000" y="177156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 0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219640" y="1773360"/>
            <a:ext cx="14032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1916280"/>
            <a:ext cx="792000" cy="381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3816360"/>
              <a:gd name="textAreaBottom" fmla="*/ 3777840 h 3816360"/>
            </a:gdLst>
            <a:ahLst/>
            <a:rect l="textAreaLeft" t="textAreaTop" r="textAreaRight" b="textAreaBottom"/>
            <a:pathLst>
              <a:path w="21600" h="104045">
                <a:moveTo>
                  <a:pt x="3600" y="0"/>
                </a:moveTo>
                <a:arcTo wR="3600" hR="3600" stAng="16200000" swAng="-5400000"/>
                <a:lnTo>
                  <a:pt x="0" y="100445"/>
                </a:lnTo>
                <a:arcTo wR="3600" hR="3600" stAng="10800000" swAng="-5400000"/>
                <a:lnTo>
                  <a:pt x="18000" y="104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916280"/>
            <a:ext cx="720720" cy="3816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3816360"/>
              <a:gd name="textAreaBottom" fmla="*/ 3781440 h 3816360"/>
            </a:gdLst>
            <a:ahLst/>
            <a:rect l="textAreaLeft" t="textAreaTop" r="textAreaRight" b="textAreaBottom"/>
            <a:pathLst>
              <a:path w="21600" h="114330">
                <a:moveTo>
                  <a:pt x="3600" y="0"/>
                </a:moveTo>
                <a:arcTo wR="3600" hR="3600" stAng="16200000" swAng="-5400000"/>
                <a:lnTo>
                  <a:pt x="0" y="110730"/>
                </a:lnTo>
                <a:arcTo wR="3600" hR="3600" stAng="10800000" swAng="-5400000"/>
                <a:lnTo>
                  <a:pt x="18000" y="114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804000" y="2060640"/>
            <a:ext cx="2087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4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6445080" y="4338720"/>
                <a:ext cx="2232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H="1">
            <a:off x="8027640" y="4797360"/>
            <a:ext cx="431640" cy="1224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92360" y="587700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iferen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5732640"/>
            <a:ext cx="187344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574524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ásobek diference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72360" y="2131920"/>
            <a:ext cx="720720" cy="28814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2881440"/>
              <a:gd name="textAreaBottom" fmla="*/ 2846520 h 2881440"/>
            </a:gdLst>
            <a:ahLst/>
            <a:rect l="textAreaLeft" t="textAreaTop" r="textAreaRight" b="textAreaBottom"/>
            <a:pathLst>
              <a:path w="21600" h="86325">
                <a:moveTo>
                  <a:pt x="3600" y="0"/>
                </a:moveTo>
                <a:arcTo wR="3600" hR="3600" stAng="16200000" swAng="-5400000"/>
                <a:lnTo>
                  <a:pt x="0" y="82725"/>
                </a:lnTo>
                <a:arcTo wR="3600" hR="3600" stAng="10800000" swAng="-5400000"/>
                <a:lnTo>
                  <a:pt x="18000" y="86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feren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708360" y="4292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aritmetická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971640" y="260280"/>
                <a:ext cx="2676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1" name="Line 8"/>
          <p:cNvSpPr/>
          <p:nvPr/>
        </p:nvSpPr>
        <p:spPr>
          <a:xfrm>
            <a:off x="1547640" y="98100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3851280" y="401760"/>
                <a:ext cx="3068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54764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547640" y="155592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54764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547640" y="263700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2700360" y="105264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2700360" y="155592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2700360" y="20606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2700360" y="2637000"/>
                <a:ext cx="1316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908000" y="313992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924360" y="1052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3924360" y="155592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3924360" y="2060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4067280" y="263700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2"/>
          <p:cNvSpPr/>
          <p:nvPr/>
        </p:nvSpPr>
        <p:spPr>
          <a:xfrm>
            <a:off x="1187280" y="3860640"/>
            <a:ext cx="795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365720"/>
                <a:ext cx="2376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6659640" y="5877000"/>
                <a:ext cx="2292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780000" y="4437000"/>
                <a:ext cx="4116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1692360" y="5229360"/>
                <a:ext cx="381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5508720" y="5229360"/>
                <a:ext cx="2779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067280" y="1052640"/>
            <a:ext cx="649080" cy="21603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160360"/>
              <a:gd name="textAreaBottom" fmla="*/ 2128680 h 2160360"/>
            </a:gdLst>
            <a:ahLst/>
            <a:rect l="textAreaLeft" t="textAreaTop" r="textAreaRight" b="textAreaBottom"/>
            <a:pathLst>
              <a:path w="21600" h="71864">
                <a:moveTo>
                  <a:pt x="3600" y="0"/>
                </a:moveTo>
                <a:arcTo wR="3600" hR="3600" stAng="16200000" swAng="-5400000"/>
                <a:lnTo>
                  <a:pt x="0" y="68264"/>
                </a:lnTo>
                <a:arcTo wR="3600" hR="3600" stAng="10800000" swAng="-5400000"/>
                <a:lnTo>
                  <a:pt x="18000" y="71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656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080" y="24145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8292960" y="5229360"/>
                <a:ext cx="635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46Z</dcterms:modified>
  <cp:revision>316</cp:revision>
  <dc:subject/>
  <dc:title>Posloupnosti</dc:title>
</cp:coreProperties>
</file>