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3035-E67A-4176-9FAA-D64F7E9F585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39A7-9F32-423E-BE47-E7EAB0BC7AD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0060-C770-4AE0-B88D-F20CECD8D55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5300-3A78-492A-8AE7-2B2118207B1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C0D2-5FC9-4890-BCF4-550262EC239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EEBC-8105-49D5-AC79-445AA335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327B-DE52-464C-BA2E-E21FB714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EBD-7BB7-44CD-B5A7-4017CCD5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0B27-19E1-445C-A9AD-6243CE67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EF2A-7509-4B7B-9F12-D3EC2903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72E5-737A-4002-9C7C-63A88935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DA2B-9B89-436D-A073-1209EC55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6EFF-5790-4063-9890-B4568B6B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15DA-14C3-4F24-8B1A-1330A3A2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F9B6-9032-4984-973E-3FDA6BBB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9F42-5296-4361-86A1-5350B345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715-212D-4629-BCEA-B74CF7D7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01E2-D922-4324-82CC-74C117ED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E648-E261-4EDE-99B9-241BA2F2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09A7-5DFB-4080-8B51-3E316951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F5BC-B7D9-4B7C-82DD-9621CD33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0273-F418-4EDC-BE54-F1BD1B52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BA9C-5F86-47F2-B3C9-15C67638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2D2-8AAE-4AD4-AB26-B24FD687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9178-4BB6-4581-BB88-07571439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3D15-DBF5-41EF-B5EB-3E99BDBF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ECE-1CB3-44B3-9139-13CE2890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0FB-F141-4C8F-B5E0-4F9BF34A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CEBB-6FB4-4BD4-8C02-2F9115E8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8B4E-B3D6-4C87-B925-6A5BD12C7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CB15-2E38-4917-94AB-C1FE9426E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 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5295600" cy="1295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1042920" y="189000"/>
                <a:ext cx="3175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Line 5"/>
          <p:cNvSpPr/>
          <p:nvPr/>
        </p:nvSpPr>
        <p:spPr>
          <a:xfrm>
            <a:off x="1619280" y="1341360"/>
            <a:ext cx="266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4932360" y="189000"/>
            <a:ext cx="421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AP lze vyjádřit pomocí prvního a diferen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5419800" y="1521000"/>
                <a:ext cx="3251160" cy="58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5796000" y="5877000"/>
                <a:ext cx="30686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7"/>
              <p:cNvSpPr txBox="1"/>
              <p:nvPr/>
            </p:nvSpPr>
            <p:spPr>
              <a:xfrm>
                <a:off x="1403280" y="2492280"/>
                <a:ext cx="5270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403280" y="3645000"/>
            <a:ext cx="525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1403280" y="3716280"/>
                <a:ext cx="1932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403280" y="4797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19640" y="3860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708360" y="386064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419640" y="457992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2720" y="421956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780000" y="4076640"/>
            <a:ext cx="28872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7"/>
              <p:cNvSpPr txBox="1"/>
              <p:nvPr/>
            </p:nvSpPr>
            <p:spPr>
              <a:xfrm>
                <a:off x="1835280" y="4941720"/>
                <a:ext cx="1309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7"/>
              <p:cNvSpPr txBox="1"/>
              <p:nvPr/>
            </p:nvSpPr>
            <p:spPr>
              <a:xfrm>
                <a:off x="2268360" y="5516640"/>
                <a:ext cx="10796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7"/>
              <p:cNvSpPr txBox="1"/>
              <p:nvPr/>
            </p:nvSpPr>
            <p:spPr>
              <a:xfrm>
                <a:off x="6156360" y="3716280"/>
                <a:ext cx="2160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7"/>
              <p:cNvSpPr txBox="1"/>
              <p:nvPr/>
            </p:nvSpPr>
            <p:spPr>
              <a:xfrm>
                <a:off x="7381800" y="4292640"/>
                <a:ext cx="982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3995640" y="3933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492360" y="4005000"/>
            <a:ext cx="2592360" cy="16556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1212840" y="239760"/>
                <a:ext cx="2455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1" name="Line 5"/>
          <p:cNvSpPr/>
          <p:nvPr/>
        </p:nvSpPr>
        <p:spPr>
          <a:xfrm>
            <a:off x="1763640" y="1413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7"/>
              <p:cNvSpPr txBox="1"/>
              <p:nvPr/>
            </p:nvSpPr>
            <p:spPr>
              <a:xfrm>
                <a:off x="1763640" y="1628640"/>
                <a:ext cx="360036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763640" y="2781360"/>
            <a:ext cx="36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7"/>
              <p:cNvSpPr txBox="1"/>
              <p:nvPr/>
            </p:nvSpPr>
            <p:spPr>
              <a:xfrm>
                <a:off x="1835280" y="3068640"/>
                <a:ext cx="2095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1835280" y="4221000"/>
            <a:ext cx="208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3108240" y="4309920"/>
                <a:ext cx="819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3"/>
          <p:cNvSpPr/>
          <p:nvPr/>
        </p:nvSpPr>
        <p:spPr>
          <a:xfrm>
            <a:off x="3059280" y="4797360"/>
            <a:ext cx="60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4140360" y="5589720"/>
            <a:ext cx="50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P není jednoznačně určena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95640" y="321300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284720" y="321300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995640" y="393228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29080" y="357192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356000" y="342900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211640" y="6093000"/>
            <a:ext cx="4681440" cy="72720"/>
            <a:chOff x="4211640" y="6093000"/>
            <a:chExt cx="4681440" cy="72720"/>
          </a:xfrm>
        </p:grpSpPr>
        <p:sp>
          <p:nvSpPr>
            <p:cNvPr id="275" name=""/>
            <p:cNvSpPr/>
            <p:nvPr/>
          </p:nvSpPr>
          <p:spPr>
            <a:xfrm>
              <a:off x="4211640" y="6165720"/>
              <a:ext cx="468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11640" y="6093000"/>
              <a:ext cx="468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7" name="Rectangle 3"/>
          <p:cNvSpPr/>
          <p:nvPr/>
        </p:nvSpPr>
        <p:spPr>
          <a:xfrm>
            <a:off x="4067280" y="4797360"/>
            <a:ext cx="50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oustava – nekonečně mnoho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Line 5"/>
          <p:cNvSpPr/>
          <p:nvPr/>
        </p:nvSpPr>
        <p:spPr>
          <a:xfrm>
            <a:off x="1763640" y="1341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1692360" y="1557360"/>
                <a:ext cx="36320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692360" y="2781360"/>
            <a:ext cx="3671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7"/>
              <p:cNvSpPr txBox="1"/>
              <p:nvPr/>
            </p:nvSpPr>
            <p:spPr>
              <a:xfrm>
                <a:off x="1619280" y="2997360"/>
                <a:ext cx="1539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1908000" y="407664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7"/>
              <p:cNvSpPr txBox="1"/>
              <p:nvPr/>
            </p:nvSpPr>
            <p:spPr>
              <a:xfrm>
                <a:off x="2050920" y="4365720"/>
                <a:ext cx="10494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Rectangle 3"/>
          <p:cNvSpPr/>
          <p:nvPr/>
        </p:nvSpPr>
        <p:spPr>
          <a:xfrm>
            <a:off x="3203640" y="4365720"/>
            <a:ext cx="5940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u prvního členu pomocí soustavy rovnic není možné dopočíta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484360" y="5877000"/>
            <a:ext cx="66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P: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– 1,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nelze jednoznačně určit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1214280" y="239760"/>
                <a:ext cx="2489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3492360" y="2924280"/>
                <a:ext cx="11509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4"/>
              <p:cNvSpPr txBox="1"/>
              <p:nvPr/>
            </p:nvSpPr>
            <p:spPr>
              <a:xfrm>
                <a:off x="3492360" y="3605040"/>
                <a:ext cx="648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9" name=""/>
          <p:cNvGrpSpPr/>
          <p:nvPr/>
        </p:nvGrpSpPr>
        <p:grpSpPr>
          <a:xfrm>
            <a:off x="2556000" y="6453360"/>
            <a:ext cx="6408360" cy="72720"/>
            <a:chOff x="2556000" y="6453360"/>
            <a:chExt cx="6408360" cy="72720"/>
          </a:xfrm>
        </p:grpSpPr>
        <p:sp>
          <p:nvSpPr>
            <p:cNvPr id="290" name=""/>
            <p:cNvSpPr/>
            <p:nvPr/>
          </p:nvSpPr>
          <p:spPr>
            <a:xfrm>
              <a:off x="2556000" y="6526080"/>
              <a:ext cx="6408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56000" y="6453360"/>
              <a:ext cx="6408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1157400" y="239760"/>
                <a:ext cx="2685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Line 5"/>
          <p:cNvSpPr/>
          <p:nvPr/>
        </p:nvSpPr>
        <p:spPr>
          <a:xfrm>
            <a:off x="1835280" y="141300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1835280" y="1700280"/>
                <a:ext cx="39607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1835280" y="2852640"/>
            <a:ext cx="388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1835280" y="3068640"/>
                <a:ext cx="2259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4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835280" y="414972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2987640" y="4508640"/>
                <a:ext cx="1082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4284720" y="3716280"/>
                <a:ext cx="1025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7"/>
              <p:cNvSpPr txBox="1"/>
              <p:nvPr/>
            </p:nvSpPr>
            <p:spPr>
              <a:xfrm>
                <a:off x="6516720" y="3068640"/>
                <a:ext cx="2128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7"/>
              <p:cNvSpPr txBox="1"/>
              <p:nvPr/>
            </p:nvSpPr>
            <p:spPr>
              <a:xfrm>
                <a:off x="7308720" y="3571920"/>
                <a:ext cx="11779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7524720" y="4076640"/>
                <a:ext cx="981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5364000" y="5445000"/>
                <a:ext cx="3032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1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4211640" y="3357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211640" y="3429000"/>
            <a:ext cx="2089080" cy="1295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7"/>
              <p:cNvSpPr txBox="1"/>
              <p:nvPr/>
            </p:nvSpPr>
            <p:spPr>
              <a:xfrm>
                <a:off x="1187280" y="260280"/>
                <a:ext cx="2259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Line 5"/>
          <p:cNvSpPr/>
          <p:nvPr/>
        </p:nvSpPr>
        <p:spPr>
          <a:xfrm>
            <a:off x="1692360" y="1413000"/>
            <a:ext cx="1798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1692360" y="1700280"/>
                <a:ext cx="35668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1692360" y="2852640"/>
            <a:ext cx="36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7"/>
              <p:cNvSpPr txBox="1"/>
              <p:nvPr/>
            </p:nvSpPr>
            <p:spPr>
              <a:xfrm>
                <a:off x="1763640" y="3068640"/>
                <a:ext cx="199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1763640" y="4149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7"/>
              <p:cNvSpPr txBox="1"/>
              <p:nvPr/>
            </p:nvSpPr>
            <p:spPr>
              <a:xfrm>
                <a:off x="2916360" y="4292640"/>
                <a:ext cx="9572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4"/>
              <p:cNvSpPr txBox="1"/>
              <p:nvPr/>
            </p:nvSpPr>
            <p:spPr>
              <a:xfrm>
                <a:off x="3924360" y="3716280"/>
                <a:ext cx="6112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7"/>
              <p:cNvSpPr txBox="1"/>
              <p:nvPr/>
            </p:nvSpPr>
            <p:spPr>
              <a:xfrm>
                <a:off x="6156360" y="2852640"/>
                <a:ext cx="16732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7"/>
              <p:cNvSpPr txBox="1"/>
              <p:nvPr/>
            </p:nvSpPr>
            <p:spPr>
              <a:xfrm>
                <a:off x="6804000" y="3645000"/>
                <a:ext cx="13748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7"/>
              <p:cNvSpPr txBox="1"/>
              <p:nvPr/>
            </p:nvSpPr>
            <p:spPr>
              <a:xfrm>
                <a:off x="6948360" y="4508640"/>
                <a:ext cx="11937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4067280" y="5516640"/>
                <a:ext cx="303372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3924360" y="3357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995640" y="3429000"/>
            <a:ext cx="2016360" cy="15127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1187280" y="260280"/>
                <a:ext cx="3438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1" name="Line 5"/>
          <p:cNvSpPr/>
          <p:nvPr/>
        </p:nvSpPr>
        <p:spPr>
          <a:xfrm>
            <a:off x="1835280" y="1341360"/>
            <a:ext cx="280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7"/>
              <p:cNvSpPr txBox="1"/>
              <p:nvPr/>
            </p:nvSpPr>
            <p:spPr>
              <a:xfrm>
                <a:off x="1692360" y="1557360"/>
                <a:ext cx="5465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763640" y="2708280"/>
            <a:ext cx="54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1763640" y="2781360"/>
                <a:ext cx="2457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1763640" y="386064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7"/>
              <p:cNvSpPr txBox="1"/>
              <p:nvPr/>
            </p:nvSpPr>
            <p:spPr>
              <a:xfrm>
                <a:off x="2771640" y="5157720"/>
                <a:ext cx="11811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4284720" y="2852640"/>
                <a:ext cx="6112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7"/>
              <p:cNvSpPr txBox="1"/>
              <p:nvPr/>
            </p:nvSpPr>
            <p:spPr>
              <a:xfrm>
                <a:off x="6804000" y="3933720"/>
                <a:ext cx="1801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7"/>
              <p:cNvSpPr txBox="1"/>
              <p:nvPr/>
            </p:nvSpPr>
            <p:spPr>
              <a:xfrm>
                <a:off x="7451640" y="4508640"/>
                <a:ext cx="1376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5651640" y="5877000"/>
                <a:ext cx="3251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7"/>
              <p:cNvSpPr txBox="1"/>
              <p:nvPr/>
            </p:nvSpPr>
            <p:spPr>
              <a:xfrm>
                <a:off x="1763640" y="3933720"/>
                <a:ext cx="2227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835280" y="5013360"/>
            <a:ext cx="237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4"/>
              <p:cNvSpPr txBox="1"/>
              <p:nvPr/>
            </p:nvSpPr>
            <p:spPr>
              <a:xfrm>
                <a:off x="4140360" y="3933720"/>
                <a:ext cx="10080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7"/>
              <p:cNvSpPr txBox="1"/>
              <p:nvPr/>
            </p:nvSpPr>
            <p:spPr>
              <a:xfrm>
                <a:off x="2987640" y="5661000"/>
                <a:ext cx="8859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5145120" y="40784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433840" y="4078080"/>
            <a:ext cx="0" cy="718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78560" y="44370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505480" y="4294080"/>
            <a:ext cx="28872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4365000"/>
            <a:ext cx="0" cy="1429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45120" y="4797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1" name="Object 7"/>
              <p:cNvSpPr txBox="1"/>
              <p:nvPr/>
            </p:nvSpPr>
            <p:spPr>
              <a:xfrm>
                <a:off x="1116000" y="333360"/>
                <a:ext cx="317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2" name="Line 5"/>
          <p:cNvSpPr/>
          <p:nvPr/>
        </p:nvSpPr>
        <p:spPr>
          <a:xfrm>
            <a:off x="1706400" y="1434960"/>
            <a:ext cx="259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1633680" y="1577880"/>
                <a:ext cx="52686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1633680" y="2730600"/>
            <a:ext cx="532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1633680" y="2801880"/>
                <a:ext cx="2063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1633680" y="388296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7"/>
              <p:cNvSpPr txBox="1"/>
              <p:nvPr/>
            </p:nvSpPr>
            <p:spPr>
              <a:xfrm>
                <a:off x="2425680" y="3954600"/>
                <a:ext cx="13431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7"/>
              <p:cNvSpPr txBox="1"/>
              <p:nvPr/>
            </p:nvSpPr>
            <p:spPr>
              <a:xfrm>
                <a:off x="2124000" y="5300640"/>
                <a:ext cx="1670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7"/>
              <p:cNvSpPr txBox="1"/>
              <p:nvPr/>
            </p:nvSpPr>
            <p:spPr>
              <a:xfrm>
                <a:off x="2627280" y="5805360"/>
                <a:ext cx="91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5729400" y="5894280"/>
                <a:ext cx="2739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4"/>
              <p:cNvSpPr txBox="1"/>
              <p:nvPr/>
            </p:nvSpPr>
            <p:spPr>
              <a:xfrm>
                <a:off x="3865680" y="2801880"/>
                <a:ext cx="973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871880" y="294804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160960" y="2947680"/>
            <a:ext cx="0" cy="718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05320" y="33066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232240" y="316404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78400" y="3234600"/>
            <a:ext cx="0" cy="1429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7"/>
              <p:cNvSpPr txBox="1"/>
              <p:nvPr/>
            </p:nvSpPr>
            <p:spPr>
              <a:xfrm>
                <a:off x="2714760" y="4459320"/>
                <a:ext cx="8524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4871880" y="366696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1190520" y="239760"/>
                <a:ext cx="2552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: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0" name="Line 5"/>
          <p:cNvSpPr/>
          <p:nvPr/>
        </p:nvSpPr>
        <p:spPr>
          <a:xfrm>
            <a:off x="1763640" y="1341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7"/>
              <p:cNvSpPr txBox="1"/>
              <p:nvPr/>
            </p:nvSpPr>
            <p:spPr>
              <a:xfrm>
                <a:off x="1763640" y="1413000"/>
                <a:ext cx="359892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1763640" y="3141720"/>
            <a:ext cx="367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7"/>
              <p:cNvSpPr txBox="1"/>
              <p:nvPr/>
            </p:nvSpPr>
            <p:spPr>
              <a:xfrm>
                <a:off x="1763640" y="3213000"/>
                <a:ext cx="32749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r>
                          <m:t xml:space="preserve">8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7"/>
              <p:cNvSpPr txBox="1"/>
              <p:nvPr/>
            </p:nvSpPr>
            <p:spPr>
              <a:xfrm>
                <a:off x="2700360" y="5661000"/>
                <a:ext cx="1311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5219640" y="3213000"/>
                <a:ext cx="6667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7"/>
              <p:cNvSpPr txBox="1"/>
              <p:nvPr/>
            </p:nvSpPr>
            <p:spPr>
              <a:xfrm>
                <a:off x="5364000" y="4437000"/>
                <a:ext cx="17370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7"/>
              <p:cNvSpPr txBox="1"/>
              <p:nvPr/>
            </p:nvSpPr>
            <p:spPr>
              <a:xfrm>
                <a:off x="5940360" y="4869000"/>
                <a:ext cx="1212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6156360" y="6095880"/>
                <a:ext cx="2813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7"/>
              <p:cNvSpPr txBox="1"/>
              <p:nvPr/>
            </p:nvSpPr>
            <p:spPr>
              <a:xfrm>
                <a:off x="1979640" y="4437000"/>
                <a:ext cx="19987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 flipV="1">
            <a:off x="3994200" y="4654080"/>
            <a:ext cx="28728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282920" y="4654440"/>
            <a:ext cx="180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427640" y="5013360"/>
            <a:ext cx="142920" cy="144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354560" y="4870440"/>
            <a:ext cx="28872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00720" y="4941000"/>
            <a:ext cx="1440" cy="1429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7"/>
              <p:cNvSpPr txBox="1"/>
              <p:nvPr/>
            </p:nvSpPr>
            <p:spPr>
              <a:xfrm>
                <a:off x="2916360" y="6165720"/>
                <a:ext cx="9842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7"/>
              <p:cNvSpPr txBox="1"/>
              <p:nvPr/>
            </p:nvSpPr>
            <p:spPr>
              <a:xfrm>
                <a:off x="6084720" y="5300640"/>
                <a:ext cx="852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1763640" y="436572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79640" y="558972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994200" y="5374800"/>
            <a:ext cx="28728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619280" y="2781360"/>
            <a:ext cx="576360" cy="5047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7"/>
              <p:cNvSpPr txBox="1"/>
              <p:nvPr/>
            </p:nvSpPr>
            <p:spPr>
              <a:xfrm>
                <a:off x="1042920" y="58680"/>
                <a:ext cx="23893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2" name="Line 5"/>
          <p:cNvSpPr/>
          <p:nvPr/>
        </p:nvSpPr>
        <p:spPr>
          <a:xfrm>
            <a:off x="1619280" y="106668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7"/>
              <p:cNvSpPr txBox="1"/>
              <p:nvPr/>
            </p:nvSpPr>
            <p:spPr>
              <a:xfrm>
                <a:off x="1547640" y="1139760"/>
                <a:ext cx="3600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1619280" y="2147760"/>
            <a:ext cx="352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7"/>
              <p:cNvSpPr txBox="1"/>
              <p:nvPr/>
            </p:nvSpPr>
            <p:spPr>
              <a:xfrm>
                <a:off x="1619280" y="2205000"/>
                <a:ext cx="22939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7"/>
              <p:cNvSpPr txBox="1"/>
              <p:nvPr/>
            </p:nvSpPr>
            <p:spPr>
              <a:xfrm>
                <a:off x="1476360" y="4076640"/>
                <a:ext cx="36734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7"/>
              <p:cNvSpPr txBox="1"/>
              <p:nvPr/>
            </p:nvSpPr>
            <p:spPr>
              <a:xfrm>
                <a:off x="1619280" y="3284640"/>
                <a:ext cx="33591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8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7"/>
              <p:cNvSpPr txBox="1"/>
              <p:nvPr/>
            </p:nvSpPr>
            <p:spPr>
              <a:xfrm>
                <a:off x="4068720" y="2205000"/>
                <a:ext cx="2190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5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1692360" y="328464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4"/>
              <p:cNvSpPr txBox="1"/>
              <p:nvPr/>
            </p:nvSpPr>
            <p:spPr>
              <a:xfrm>
                <a:off x="5076720" y="3573360"/>
                <a:ext cx="500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7"/>
              <p:cNvSpPr txBox="1"/>
              <p:nvPr/>
            </p:nvSpPr>
            <p:spPr>
              <a:xfrm>
                <a:off x="3995640" y="4581360"/>
                <a:ext cx="32655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6443640" y="1989000"/>
                <a:ext cx="21607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7"/>
              <p:cNvSpPr txBox="1"/>
              <p:nvPr/>
            </p:nvSpPr>
            <p:spPr>
              <a:xfrm>
                <a:off x="7632720" y="4724280"/>
                <a:ext cx="15112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6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7"/>
              <p:cNvSpPr txBox="1"/>
              <p:nvPr/>
            </p:nvSpPr>
            <p:spPr>
              <a:xfrm>
                <a:off x="7380360" y="5157720"/>
                <a:ext cx="1249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 flipH="1">
            <a:off x="4571640" y="2722680"/>
            <a:ext cx="2305080" cy="79200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7"/>
              <p:cNvSpPr txBox="1"/>
              <p:nvPr/>
            </p:nvSpPr>
            <p:spPr>
              <a:xfrm>
                <a:off x="1547640" y="5359320"/>
                <a:ext cx="18720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t xml:space="preserve">∓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V="1">
            <a:off x="3419640" y="5648040"/>
            <a:ext cx="288720" cy="1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19640" y="5864400"/>
            <a:ext cx="288720" cy="14256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80" idx="1"/>
          </p:cNvCxnSpPr>
          <p:nvPr/>
        </p:nvCxnSpPr>
        <p:spPr>
          <a:xfrm flipH="1" flipV="1" rot="10800000">
            <a:off x="1618920" y="3033360"/>
            <a:ext cx="2160" cy="714960"/>
          </a:xfrm>
          <a:prstGeom prst="curvedConnector5">
            <a:avLst>
              <a:gd name="adj1" fmla="val -14400000"/>
              <a:gd name="adj2" fmla="val 49974"/>
              <a:gd name="adj3" fmla="val -144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00" name="Object 7"/>
              <p:cNvSpPr txBox="1"/>
              <p:nvPr/>
            </p:nvSpPr>
            <p:spPr>
              <a:xfrm>
                <a:off x="3708360" y="5300640"/>
                <a:ext cx="16066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1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7"/>
              <p:cNvSpPr txBox="1"/>
              <p:nvPr/>
            </p:nvSpPr>
            <p:spPr>
              <a:xfrm>
                <a:off x="3708360" y="5805360"/>
                <a:ext cx="184644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2: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7"/>
              <p:cNvSpPr txBox="1"/>
              <p:nvPr/>
            </p:nvSpPr>
            <p:spPr>
              <a:xfrm>
                <a:off x="5580000" y="5373720"/>
                <a:ext cx="11685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5580000" y="5805360"/>
                <a:ext cx="172872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4" name=""/>
          <p:cNvGrpSpPr/>
          <p:nvPr/>
        </p:nvGrpSpPr>
        <p:grpSpPr>
          <a:xfrm>
            <a:off x="3708360" y="5734080"/>
            <a:ext cx="3024360" cy="72720"/>
            <a:chOff x="3708360" y="5734080"/>
            <a:chExt cx="3024360" cy="72720"/>
          </a:xfrm>
        </p:grpSpPr>
        <p:sp>
          <p:nvSpPr>
            <p:cNvPr id="405" name=""/>
            <p:cNvSpPr/>
            <p:nvPr/>
          </p:nvSpPr>
          <p:spPr>
            <a:xfrm>
              <a:off x="3708360" y="5806800"/>
              <a:ext cx="3024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08360" y="5734080"/>
              <a:ext cx="3024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708360" y="6669000"/>
            <a:ext cx="3600360" cy="72720"/>
            <a:chOff x="3708360" y="6669000"/>
            <a:chExt cx="3600360" cy="72720"/>
          </a:xfrm>
        </p:grpSpPr>
        <p:sp>
          <p:nvSpPr>
            <p:cNvPr id="408" name=""/>
            <p:cNvSpPr/>
            <p:nvPr/>
          </p:nvSpPr>
          <p:spPr>
            <a:xfrm>
              <a:off x="3708360" y="6669000"/>
              <a:ext cx="3600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08360" y="6741720"/>
              <a:ext cx="3600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484280"/>
          <a:ext cx="7416720" cy="51069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příklady 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ů: mezi dvěma sousedními členy AP, mezi prvním a libovolným členem AP, mezi dvěma libovolnými členy A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tah mezi dvěma sousedními členy AP; Vztah mezi prvním a libovolným členem AP; Vztah mezi dvěma libovolnými členy A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220356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AP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3068640"/>
            <a:ext cx="7956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523880" indent="-6238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zn. určete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de AP začíná  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 kolik se členy liší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8728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ů 1. – 3. pro A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5"/>
          <p:cNvSpPr/>
          <p:nvPr/>
        </p:nvSpPr>
        <p:spPr>
          <a:xfrm>
            <a:off x="1692360" y="141300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7"/>
              <p:cNvSpPr txBox="1"/>
              <p:nvPr/>
            </p:nvSpPr>
            <p:spPr>
              <a:xfrm>
                <a:off x="1116000" y="260280"/>
                <a:ext cx="1766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Rectangle 3"/>
          <p:cNvSpPr/>
          <p:nvPr/>
        </p:nvSpPr>
        <p:spPr>
          <a:xfrm>
            <a:off x="1187280" y="1557360"/>
            <a:ext cx="3745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po sobě jdoucí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1619280" y="2637000"/>
                <a:ext cx="25192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1979640" y="3357720"/>
                <a:ext cx="21906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908000" y="4078440"/>
                <a:ext cx="2044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1908000" y="4726080"/>
                <a:ext cx="1387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3"/>
          <p:cNvSpPr/>
          <p:nvPr/>
        </p:nvSpPr>
        <p:spPr>
          <a:xfrm>
            <a:off x="5219640" y="1557360"/>
            <a:ext cx="374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5364000" y="2637000"/>
                <a:ext cx="35071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5364000" y="3357720"/>
                <a:ext cx="26672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5651640" y="4005360"/>
                <a:ext cx="28857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5508720" y="5229360"/>
                <a:ext cx="13888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5651640" y="4581360"/>
                <a:ext cx="20080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403280" y="5877000"/>
                <a:ext cx="36165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5364000" y="260280"/>
                <a:ext cx="2095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5"/>
          <p:cNvSpPr/>
          <p:nvPr/>
        </p:nvSpPr>
        <p:spPr>
          <a:xfrm>
            <a:off x="1692360" y="1413000"/>
            <a:ext cx="129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7"/>
              <p:cNvSpPr txBox="1"/>
              <p:nvPr/>
            </p:nvSpPr>
            <p:spPr>
              <a:xfrm>
                <a:off x="1116000" y="260280"/>
                <a:ext cx="183348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1619280" y="1628640"/>
                <a:ext cx="21542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781280" y="2403360"/>
                <a:ext cx="18986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924200" y="2906640"/>
                <a:ext cx="9493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1619280" y="3645000"/>
                <a:ext cx="24480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1403280" y="4797360"/>
                <a:ext cx="1535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1762200" y="4292640"/>
                <a:ext cx="2081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332000" y="5734080"/>
                <a:ext cx="3251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8" name="Line 5"/>
          <p:cNvSpPr/>
          <p:nvPr/>
        </p:nvSpPr>
        <p:spPr>
          <a:xfrm>
            <a:off x="5940360" y="1413000"/>
            <a:ext cx="151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5796000" y="1628640"/>
                <a:ext cx="22636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5580000" y="2349360"/>
                <a:ext cx="211788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,5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5508720" y="2852640"/>
                <a:ext cx="1533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,5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724360" y="3645000"/>
                <a:ext cx="27403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940360" y="4797360"/>
                <a:ext cx="1243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6156360" y="4292640"/>
                <a:ext cx="24462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5364000" y="5734080"/>
                <a:ext cx="3543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5"/>
          <p:cNvSpPr/>
          <p:nvPr/>
        </p:nvSpPr>
        <p:spPr>
          <a:xfrm>
            <a:off x="1835280" y="162864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7"/>
              <p:cNvSpPr txBox="1"/>
              <p:nvPr/>
            </p:nvSpPr>
            <p:spPr>
              <a:xfrm>
                <a:off x="1258920" y="404640"/>
                <a:ext cx="170172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Rectangle 3"/>
          <p:cNvSpPr/>
          <p:nvPr/>
        </p:nvSpPr>
        <p:spPr>
          <a:xfrm>
            <a:off x="4500720" y="331920"/>
            <a:ext cx="3744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zadaný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4716360" y="2278080"/>
                <a:ext cx="2592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5003640" y="3068640"/>
                <a:ext cx="1862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5003640" y="3789360"/>
                <a:ext cx="1241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4572000" y="1484280"/>
                <a:ext cx="3506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676520" y="5445000"/>
                <a:ext cx="30686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6516720" y="3860640"/>
                <a:ext cx="649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5076720" y="4508640"/>
                <a:ext cx="1022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5"/>
          <p:cNvSpPr/>
          <p:nvPr/>
        </p:nvSpPr>
        <p:spPr>
          <a:xfrm>
            <a:off x="1692360" y="1484280"/>
            <a:ext cx="129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1116000" y="260280"/>
                <a:ext cx="1866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476360" y="1916280"/>
                <a:ext cx="23763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1476360" y="3284640"/>
                <a:ext cx="16448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1619280" y="2708280"/>
                <a:ext cx="20448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1258920" y="5084640"/>
                <a:ext cx="336060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3419640" y="3316320"/>
                <a:ext cx="64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1403280" y="3787920"/>
                <a:ext cx="15350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Line 5"/>
          <p:cNvSpPr/>
          <p:nvPr/>
        </p:nvSpPr>
        <p:spPr>
          <a:xfrm>
            <a:off x="5724360" y="148428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5219640" y="331920"/>
                <a:ext cx="1670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5651640" y="1916280"/>
                <a:ext cx="2266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5580000" y="3284640"/>
                <a:ext cx="14986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5796000" y="2708280"/>
                <a:ext cx="20448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5508720" y="5084640"/>
                <a:ext cx="332568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7308720" y="3316320"/>
                <a:ext cx="648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5508720" y="3787920"/>
                <a:ext cx="135072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1619280" y="907920"/>
            <a:ext cx="374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libovolné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1619280" y="907920"/>
            <a:ext cx="237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1042920" y="333360"/>
                <a:ext cx="2943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1709640" y="2743200"/>
                <a:ext cx="23367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1908000" y="3444840"/>
                <a:ext cx="1899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2124000" y="4092480"/>
                <a:ext cx="11318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3"/>
          <p:cNvSpPr/>
          <p:nvPr/>
        </p:nvSpPr>
        <p:spPr>
          <a:xfrm>
            <a:off x="5398920" y="907920"/>
            <a:ext cx="374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5670720" y="2023920"/>
                <a:ext cx="3251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5634000" y="2743200"/>
                <a:ext cx="24843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5994360" y="3246480"/>
                <a:ext cx="22287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5597640" y="4813200"/>
                <a:ext cx="1352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5940360" y="4237200"/>
                <a:ext cx="1825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3224160" y="5587920"/>
                <a:ext cx="310356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1746360" y="2023920"/>
                <a:ext cx="3287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3708360" y="4113360"/>
                <a:ext cx="6476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2033640" y="4545000"/>
                <a:ext cx="102240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5"/>
          <p:cNvSpPr/>
          <p:nvPr/>
        </p:nvSpPr>
        <p:spPr>
          <a:xfrm>
            <a:off x="1619280" y="1339920"/>
            <a:ext cx="12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7"/>
              <p:cNvSpPr txBox="1"/>
              <p:nvPr/>
            </p:nvSpPr>
            <p:spPr>
              <a:xfrm>
                <a:off x="1042920" y="189000"/>
                <a:ext cx="1898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1547640" y="1557360"/>
                <a:ext cx="21909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1258920" y="2205000"/>
                <a:ext cx="24462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1258920" y="2708280"/>
                <a:ext cx="16430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1401840" y="3933720"/>
                <a:ext cx="226512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690560" y="5014800"/>
                <a:ext cx="1060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1401840" y="4510080"/>
                <a:ext cx="2154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1114560" y="5878440"/>
                <a:ext cx="3068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1403280" y="3213000"/>
                <a:ext cx="1278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2987640" y="2787480"/>
                <a:ext cx="5763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Line 5"/>
          <p:cNvSpPr/>
          <p:nvPr/>
        </p:nvSpPr>
        <p:spPr>
          <a:xfrm>
            <a:off x="5437080" y="134136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5076720" y="189000"/>
                <a:ext cx="1965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,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5364000" y="1557360"/>
                <a:ext cx="23371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5797440" y="2205000"/>
                <a:ext cx="22273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4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5508720" y="2708280"/>
                <a:ext cx="1423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5435640" y="3933720"/>
                <a:ext cx="222876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5146560" y="5014800"/>
                <a:ext cx="16462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5146560" y="451008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5075280" y="5950080"/>
                <a:ext cx="36162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0,8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0,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5437080" y="3213000"/>
                <a:ext cx="1278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7308720" y="2787480"/>
                <a:ext cx="576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4:30Z</dcterms:modified>
  <cp:revision>318</cp:revision>
  <dc:subject/>
  <dc:title>Posloupnosti</dc:title>
</cp:coreProperties>
</file>