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882C-7A53-43ED-9B91-E43DFE75EC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9AE3-507F-4C5E-B6E3-A477963392F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6427-F012-4F4C-94BF-2DA87F5384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A043-4141-42B6-BDFD-1608D4FABF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C23E-928D-46DA-ACF9-80311884EEC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BDD2-3FDD-4566-B53F-3C4F42FE8F7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1DF-9BC3-48DF-BBAC-F95C2459E3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7EB4-7CD0-4FD8-93C7-ABC2CE40E3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6B2E-F66F-44A0-9936-8AE88B57B7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0E5F-1DE6-4A39-8426-F7FAAE1AF5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2A65-07ED-4822-850B-5256773C86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3258-8755-4E0E-9921-E0E6E2B4F3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709-EECA-494E-9164-6B872BBECA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DD8-E21E-483A-A653-D1BEEFA6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A3F-122F-4C22-B0CF-6504E2EE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4AC-DCE0-4B0C-9569-2DBC2D52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DA8-3FAA-4249-ACE3-1805BEF6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39E-0311-4D68-9C36-7CA37C18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C51-1649-449E-A478-40B9DAD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31C-D619-433B-BC75-F0956C25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35E-92C6-476F-B743-EF54D38B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E4C-8C2B-44B2-9986-D9A16F57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3B7-8C14-4E5A-812F-BD62D0AC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987-853F-421F-B6F3-67B59574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C1F-73DA-4AF3-8B1D-9BC254A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FC59-80DB-4CA1-8D82-87A92A3B7C8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8 – Ostatní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ek na stravování, který převyšuje 55 % z hodnoty stravné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– 528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zaměst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společ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ákonné soc. a zdr.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do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nad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hrubá mzda, sociální pojištění, sociální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1 – Mzdové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(zaměstnancům) ze závislé či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zaměstnanců – 521/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22 – Příjmy společníků a členů družstva ze      závislé činnost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ze závislé činnosti společníkům (pracující ve společ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společníků – 522/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4 – Zákonné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dravotní a sociální pojištění, které je povinen hradit zaměstnavatel za své zaměst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oc. a zdrav. poj. – 524/3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soc. a zdrav. poj. – 33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5 – Ostatní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ky na penzijní připojištění a zdravotní pojištění, které zaměstnavatel poskytuje svým zaměstnanc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26 – Sociální náklady individuálního podnikate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náklady na zdravotní a sociální pojištění podnikat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účet používá OSV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zdrav. poj. za OSVČ – 52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7 – Zákonné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náklady, které byly vynaloženy za účelem vytvoření pracovních a sociálních podmínek a péče o zdraví zaměstnanc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např. o příspěvek na stravování       (a to do výše 55 % z hodnoty strav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-  527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55Z</dcterms:modified>
  <cp:revision>16</cp:revision>
  <dc:subject/>
  <dc:title>Účtování nákladů</dc:title>
</cp:coreProperties>
</file>