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CB49-056B-4C67-8CC5-1A51CFCCDCF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FD4E-0694-4478-929A-2FD07E3EA19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79F4-69B5-4989-9ECF-0101ABB9C5A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1E32-6789-4881-8A05-7C7C62639E5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948D-F2D3-4B38-AC6C-40AB31C5D1AC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1C8E-E3FD-43B4-9342-C02E1ADF3A11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77C1-0E0C-4A66-B1F9-A07792DCBA8A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D761-8906-4EC3-B39A-EC825A725F1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C4F6-9E06-41BF-916C-CE435807A2A5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F854-2849-45A4-B008-359A252B83EE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4E6B-ACF8-43C4-8501-69EF68D4CE7A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750-AC16-47E8-AD0A-AB8F0392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62F-6DBE-4E34-BA91-C118B6B3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6C276-C5BE-4694-A84E-8B8876E4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4CDD2-7E14-4BEB-89D8-E95632E7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C6560-524D-4735-BB88-B31FB83C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5D24C-9900-440B-8DB0-28E24453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9AFA3-10FB-40AD-8614-D19966E4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C61A1-ADC6-410E-8468-BDDBCEFB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3687D-B3F0-45B2-A71F-BD2CDC78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DDB27-546F-4246-B394-B2B6FC0C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8F44B-40BB-4E08-AB07-BF044CBF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0BFC7-AC6B-43C9-92AB-ECF54277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1C6-AC9D-42C6-B6AA-6D09B642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DAD7E-806E-45AD-9E04-74186419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75CB5-0C3E-416B-806F-53932B01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74F8C-9A73-4694-8645-5EED588B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9D9B5-D313-4227-A626-65AB1C9F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781AA-B2E5-4D1A-AA09-CB7FB9FD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952E3-E339-48E4-AAAF-68BB3802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68097-B63C-43C1-B47F-A1DC1162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B927C-F1CE-4E0D-9556-01234730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4038D-AD22-45DE-A8BE-96614B04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354B6-1D75-4E5D-878B-2FE42D23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FE9-C83A-46D8-9260-0652FFE3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4849C-4E27-40C0-A804-0F993970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9DD48-0778-4B47-96B9-F38C461C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D0B95-2685-444D-9D11-B1BE929F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DD0AF-AFD3-45F6-96C8-075AE38D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8E6F4-9F4C-4D77-A419-D0D1BE99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6FC6D-3EB7-4C1C-835A-D72C09BB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21841-8E56-43EA-BF6E-FED9D1E8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62A60-A10A-4876-BD85-34B94B50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277FD-E30D-4A39-8261-BCD98841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0BC8F-5ECC-46EA-ACAF-F17D60E8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7FDF-5B5D-4758-8FED-7E6F6C68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C29AA-B97A-46E6-B8AB-DA8578D7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4121F-1F9F-409D-8015-856027B9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3971B-AE8D-4D6B-A208-3358B4A3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B78D3-9A89-43EA-8D92-727676DF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18AE6-A202-4439-8DD6-B3BA59AA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AEFA6-41C6-47A7-9B65-EA932320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089CF-D465-4018-90D6-C1A91086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4CC1E-F96E-4C18-8FB7-007D8D7F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0CACD-5C56-4E8A-A97E-5904E47C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0F184-5FC5-4114-A795-49ED51B1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6F7E-C7DB-408E-BDFE-BA6B38F5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81D24-91CA-41CE-9223-9AC2B6ED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43D88-87FB-4F7A-94AE-799D0DE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BD735-E61C-47D5-AF26-E2AD7A14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03DB5-3E4C-4286-9E5B-2D947C8A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0BAF0-CC5A-4B35-974B-9EB7F4DD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DFC91-861D-48AF-9967-1183425F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3B6DA-173F-4CEF-AA40-99ED4F49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822FE-6A58-40F4-B330-84505BE5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2B562-EFD4-45F3-96F8-B6C1E5A3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B3011-C742-43E8-BB06-1ED9559E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F055-D309-4276-B681-C5713531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74512-D4AB-4884-A01C-0E76E837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94403-2236-42CA-B779-0F28CF4B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EF55C-0482-40E2-9142-024FBF4D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3D739-421B-48D5-84B6-A7C9834A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94E66-7E51-4D4B-8E4C-2549850D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87E15-99B5-4527-8D4D-BC077BE2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175A6-5DDD-4FA8-B32B-317CCFB3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347D8F-C3BC-4266-892E-078A0A13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AB8B2E-7435-4DF9-94E1-905FC0C2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B2D6CA-09CD-418E-A555-310DF169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D301-3E62-4EED-956C-352F4B6E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8C5054-1F18-4A9E-8BD6-645CE7C4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808510-464D-4B85-9EEA-A0511BE9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1717C1-B758-4077-9B74-6BE14EC6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90D398-A104-4A69-BED8-27C3FA7F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8BD94E-E6EA-410B-B02E-FF8748E1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189802-67B7-4BAA-8E56-A0050D5D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832531-9CDA-4D79-9A30-2C99FC5D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842D86-CCEE-4E98-B547-A508D6F9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9ADFCF-00C9-4B4A-AEAC-B6631D97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5BC9F0-9568-4DBB-8CC1-C0C9A7E9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C6AD-7A1D-42EB-AB83-E488FFDA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77198-1B4B-4C60-B283-37D94176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98CD3-FBF1-49A1-8269-DE7E43C5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41AE3-99B1-4BA8-B2A3-A5B1B2B9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EECD84-A6C5-400A-8FAF-8A032AE9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EE46B-5A82-46A7-A7E7-1904618C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0DF4E-1EDC-49D5-BF16-6D22CD13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9547A-A9BF-495F-8066-BA1DAE6D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7A1FB-171E-4AF9-A2E7-365BAAF3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F2B50B-9353-48E3-A48F-B2D01D5C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B25C4-E634-46C8-9ED2-8E3EC449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77FD-7C78-4B97-B418-15964CED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D0F17-0B47-47B0-AFA3-A27D4453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BD5F8-2931-4D69-93E7-7F851C99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F8579-E902-4797-955E-A1225344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865B1-7E7C-47EB-A2C9-1A60E67A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EFB9F-2B3F-4E26-8118-6B941EE5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50E83-5BC4-476D-858E-29B86760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94B63-2B7E-487A-95AC-C5EF04DC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EEDF3B-65C0-4783-970E-4300E06B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96AE6E-464F-40AA-96DB-1C5FB636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F3773-F957-466C-97A3-7FC3B989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4C16-5CF4-4875-A059-6F89ACFC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9E72B-D547-44F4-8DCB-81026618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5648DC-6210-4FBD-89BB-F614B719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44BB2-42EA-4C76-A920-C1D50B7C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B765F9-517D-40C1-8B25-93B82172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B1F3E-A49C-4364-819F-071E6D54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8D09CF-F4C2-4C79-9CB1-5133E11D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75BD0-039C-4EBB-96EB-89D9525E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976A3-8315-42F7-B680-916CEB9B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321405-40CB-494E-BAD8-224AE0DC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A4B85-0181-4733-A2A4-A6429CFC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044-20FF-489F-A76B-84C713F9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D9A1-91D9-418B-85D8-76E26343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0E84D-5187-4B3B-ADEB-3AA3E314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19977-85BE-4F9F-8D12-98C906D8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1EE46-44E2-4829-B958-F296D148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10597D-0491-42CF-A375-8D23402B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060769-00C8-4DAC-B3FF-9DE08A96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8E6E5A-8E61-4525-B417-57BE6FA1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02A6D-FB61-40DA-8BD0-AADBDADC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95FE3-830C-48AC-BC39-BAC43367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DFC8C7-3A10-4672-8781-248EE407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192BA-70D0-4255-88B4-545AD21D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C2A6-0B25-4373-B808-E95755CD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924090-85B7-4946-A62A-1D5F8CC0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AC335-D84B-48E7-8A12-844D7D7C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3225C0-ABE7-45A4-B3FA-DBC1707A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0F03C0-FFCE-4996-AE5C-81A46A86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37B67-CDF4-46B1-B344-8ECAED51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CC5462-CF55-49A9-8911-5799909A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923313-C2F6-4327-81F5-ECD28661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9E2ECA-5BE8-4F21-885B-626D3BCB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0B82F9-64D8-4B00-B6D0-72AA8766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724B81-BBDB-4DAE-BC31-609F6550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16B6-A7FF-4367-B13C-A4134F42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E1DA23-2094-4C93-9A12-DF2E2448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E1D6F-D9FA-4DAC-AC6C-BB6A0B2A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CCCDF2-8112-4B49-AF37-8EB08360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C83C8-9D92-4F9B-A9D5-8B87A1C7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D6288-A376-4BD2-A574-6B6A5C9E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4D9FE0-E425-4026-A035-E935F67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21B94B-8D9D-46B1-8C44-A86D2345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C3073D-0C80-481E-8F28-14E27D78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131E12-7F1D-4AFC-ADD5-162D0CB2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C4AFF3-C4EC-40C4-B086-57B77367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7A3A-2553-4406-80C4-0B5C49D4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300D90-606C-4795-9DA6-75AB7E39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B27A51-9CBF-465E-89D5-9FBAE040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57851E-4523-4A62-8633-E7F8CF51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7C348-C65F-4FC9-9D78-25C52D91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B96E4A-60BB-4F6C-914F-90D06967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AF498F-68DB-4E27-B9C0-49527B01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FED5A-334E-45CA-9536-4B27D25E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323CF-6A9A-4B25-B936-79671F72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27A1B3-4F63-42D5-A80F-CF26BEA7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E23E1E-917F-457F-B6C1-42EE8AEB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EC5B-2679-473C-9C4B-54EE9A73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17BE1D-22CC-4CDD-8466-0CB52AEF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368F01-4EDD-4C4F-BA1A-0309308A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5710A1-6C18-4782-9AEA-03F73770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0137A7-9B27-46B5-BD4F-94721C79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213A6-16CC-40B2-AFF8-74CCA799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36CFC9-A6F6-4BEB-AF97-FDCA73BD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9CBDC5-8494-43B3-9280-7634EBB1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05476A-802F-4EB8-96EC-52C9D702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8AFE92-7203-4E4A-95D3-CAC1EC39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AA0274-EE75-4CE9-BE63-0B2C4D1C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C0858-E798-4A68-AA6D-3E000ADB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B66652-4B28-48EE-9492-4D34C732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40C500-473D-4E2D-A46B-7EF41A51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464B7B-0946-49C0-AEA7-6BF2ED09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7EF4E1-1A14-4745-A350-54673DA3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3851BF-3B8E-4414-BC37-F80D3178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73E42E-6D49-49ED-A7BC-E7901FD3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CF2A79-F46B-4F59-BDC0-51E3D4A9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28B8E3-5A32-4D4B-BCAE-FD149CA8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5D10A9-DA6E-4C65-91DE-58EB2D00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2668B3-D5E5-42CE-A10E-F55C6CEC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66A6-0F7D-44EC-B1EB-4BEF716F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0F35E7-D890-48D4-AC4F-42C09CE8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B844F0-88C0-4F74-BCC1-B657ECEB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2CC2F1-AD3A-4B50-BA13-68077609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E6F54C-4A24-492F-83BB-5ED24821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EEF0A7-A66D-493C-AF2F-A46692A0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F477B7-30CF-4E69-B48E-87613119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826752-830A-424E-8417-CA3D9014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6E7D46-7C11-4551-92CE-3731E3BF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07FA7C-57A8-4C7A-BCB4-2128ECD3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71FEF3-C861-4AD2-A88D-36523CDF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A9DF-9DED-4C1A-8C67-B40EE214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08B056-18DA-4AC0-B8C2-FBF91147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D124EE-9F43-460C-8F46-6D161378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143094-5A26-4128-BB27-3FEBC14B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07ECDE-3B7B-4585-AB3D-B2630C8F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D321B3-F912-454A-A834-89CF99F1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5C3F74-1143-45DA-9383-55052AB7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D18996-0B7A-4E23-AD3C-9AFA5E3F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377DFA-0F15-4F1A-85FD-54F30B12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AE12DB-6B01-4F5E-912B-85F24B66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38BB67-8707-423D-8369-6173B98B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AD490-EEF4-4BD6-9C25-6E3B4A82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DCEEB5-AA72-44DD-A919-89AB6F27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0400A6-D363-4132-94D5-D743E05B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C2BD65-1123-4F01-99D0-11DEF065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E1B34F-D242-40EF-8421-E563F22F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13C57B-BBFA-4C65-B031-FA8376B8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800CB9-2AD8-4362-B503-6CD5A85C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3C5A64-FB2E-4E3B-89C2-7F26508A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D813C7-9A9F-4491-89A1-69EF03E2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7201CD-CB4A-45BA-8E4B-6F6DD4E3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A7BF7D-05A4-445F-980E-0D9A4B8F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771C-EE86-4A65-AE3B-6277739A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89B81C-7731-4F97-A3B5-3F318D72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567CCE-AA79-4C30-9ACB-01A3DB3E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8686D9-019A-492D-8DCE-A014D9F4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5FFC22-BA4A-4E94-9809-0B1C72CC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AEFFFB-D4F2-4FC3-A944-17E272B2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DDE211-9F3C-4AB8-B940-F16BC461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1B341A-C081-47F3-8142-8BC41C37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2A05A5-122E-4CB0-97FE-D87F7A6D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45572B-70DA-47A4-B2E6-76BEEFF6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86B915-AEC6-4F6F-8A6A-4DEB91E5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963-4F45-427F-B3C8-C1013B70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96302-B0E2-4DD4-9211-A710E8B5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729D71-5DDB-41CE-A0D0-27FC99AB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5F9352C-488A-4EEA-B5CE-DEA5CB5F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DD6E4E8-5008-46C8-B805-AF454903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B96A0CE-3750-4253-AA87-F7AA3E4F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5DAF1E0-B712-481C-96DE-4B42928A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0671490-39A6-49C3-BF89-DAA0E23E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DA6F7D0-AA52-4133-BEFA-60C884E9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D1DE94C-CF9F-4E46-91CF-427E272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9E33A97-2E56-4AAD-BD94-67837EEF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86896D5-E46D-4233-8804-AC939597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265C-507B-4470-913F-0A2E10CF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6B85CD7-B180-44A6-A0E2-B4CED581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9F25B9D-D338-487F-921E-F097EB95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170E1F9-922E-4FE6-A0A8-A99EB9B0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575B-714E-4A14-B46F-62121BBE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C46A-3559-448E-9AF6-E51D2E8E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A1FE-55A4-4649-95DE-68EBFF18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961F3-020B-4ECD-B164-8431B3CC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F77FB-2FA2-4494-B1AD-75AF9062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A3F3-6CF7-4F53-845B-A8D5AC22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65DDC-3836-45F7-BC42-D2D88F0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8D45E-AA19-4DCE-91A0-BC2BFDF8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535-FDC0-41A1-BE97-D23D5FB1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B0A2F-1FA7-4261-BD60-0DD00D1C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1EE82-715F-4DF0-B483-7C024C2C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A8810-6C25-442E-8096-BA9C65FF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8F1D6-E4F3-4B6C-9429-D57E6E9C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C8824-D7FF-4E51-B195-9016D864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F82BB-0641-459F-AB90-79ECD297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68125-8497-4107-9444-00A4B6B4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2876-20FA-410F-8F76-A4738BCD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82136-6D3E-41D8-B96D-C2F67951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7E180-D108-47CE-A092-26BA2A16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342-0EE4-4107-9615-CB7B9F06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A6C4E-FAC1-4548-813A-1A463ACE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57FAE-4AE1-4C15-9BA0-AD3CD33C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DAE9-5B64-4740-8008-3DA968F5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2BFA-7239-4FB4-915A-280EE730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66C83-C2E9-40D3-A197-AE365506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CA768-3B67-49DC-A9B7-6A6631CE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0BEDF-5F01-4375-8F0B-A064E6B2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9F2FA-9BF8-4E3A-A355-414A3968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2217E-3915-4863-A149-AB9D4682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9FCF2-EBF6-495F-BB57-13D24E4F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5EF-6C27-4D01-8070-528A7C7D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A4130-8F5E-4EC4-9B91-5A2D98D7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0A160-3A77-4504-9745-1E5E8E02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B393B-C7BB-4BCE-AF1B-DFA8781F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BD67D-9BEE-4ACA-ACBD-9E81B2D4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CB26D-B148-4B80-B25F-E3F99592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A21DC-18FF-4210-AB25-DD3D1991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56FBE-1752-43DA-B37C-7207E1CE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2A23F-2E7B-4953-BD01-35ED2F8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2BF9D-D5AD-4448-9ED7-3F180A70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D0B7F-27BB-4FDD-BBF2-DC446179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D5C-B1E0-4BEA-BBBA-03E384F9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1F344-9229-45EE-81D9-13251CC1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9BDB0-5905-4D0F-91C5-AC1909EC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733AD-3A87-4B35-AB81-8B540409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34D94-462D-49DF-AF08-53921786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068E0-693B-4FE5-8649-9635BB2E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A921B-D0EB-4FEE-AAC2-2752F538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8F0D4-AB21-4D63-B3DE-4E8F1804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788E9-D603-411D-8671-C07AFBCA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26E0B-E9F5-4624-86CF-72286964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6AFF6-25B6-4C24-8AF1-16503EA3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FF3-E612-4D20-9223-1C69B92C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480DF-EBB1-40A1-87F0-8241D104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7E186-E493-4214-B2AF-EF487A4C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9BB28-93F0-461A-B430-3EE9AC4A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364DC-4A85-4EC1-9F26-BC705EF6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2D43F-CFA8-4A85-9955-8BCA170B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4975C-5741-49B5-9A8A-FE726418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2F652-D3A1-454A-A1D3-53A4152D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C24B1-BE4C-4C3C-8778-7E3157D7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F280A-804F-48A2-A369-8C7558D7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BA621-0A04-4E60-BD8E-7DD8859C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78D-8A70-4A70-87EF-9856CA02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E1EB2-245A-4D47-9692-71AAF060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44D4C-7EFD-4E45-B8E0-6FDB8DFA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60EF8-259F-4DDE-94AE-507DA59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E12C8-C0C5-4768-A2D6-ED42774D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BF2F3-2E24-447B-B0C4-D89663C8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39FAF-4DFC-48BB-9D4B-73196AEB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2EFF1-8D77-408C-8C4B-7D3DC4C4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835F4-D16D-4A7B-B1DB-64E56459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C8062-C949-4DB2-AB9A-C93734C7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74AE8-A98B-4908-BB89-45C7C6C9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EC61-D56C-4DB5-A213-DF9E942328F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7B61-EC34-4B30-A314-AED6797EB1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84ED-7E85-4F31-A110-4F27D4E4AE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6E40-F640-41B6-B189-724C3F7551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331E-C8C7-4A8D-90EC-71D795763F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6AD6-2980-404B-B235-CE67F704B2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0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1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2653-0B7D-48ED-8935-9FA09520D1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6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7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7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8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8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9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9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0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8522-565F-47D1-9898-91BBCB6D1C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3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FB8D-A2CE-45D7-B326-0EC8217F81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4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4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4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3BB3-0991-4BFF-A5B7-7F40E2F5DF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2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3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3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4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55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5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5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6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C3D3-A1C6-4312-AD0E-43ADAB5CBA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D34A-B787-477B-AF56-A418C5D8D9A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2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2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2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63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3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4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4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4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5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0B47-490C-4B4F-9F1E-F3CD0B9A51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7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DF2A-646B-448B-9039-E5A289EA47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1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C079-1DBA-47EA-A5CB-9A678372C1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860F-D0C9-4B88-9923-685C357F1F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9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6722-5AA9-444D-8034-57BFA93D89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4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5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5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6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6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6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0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7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7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7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8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3159-4A50-4DF1-9663-0599754C4B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3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4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14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5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5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1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7119-7A9C-49C7-99CC-F4D6A7F494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B9E2-75C1-44D8-81F1-6308FCDB6C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9293-041B-4C5B-B33B-0DA0D3E44F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3AC2-C9EA-4DD5-98DE-30CAC2D634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67C3-584A-4DAD-97C3-3BBB7DDDE0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67A8-B73B-49C9-A1DC-9EA31D71DF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4D29-6F08-47A6-BD1A-2667666854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BE02-6586-421B-9FDF-9137996F59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225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6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8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tržby,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Účtování provozních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tování výnosů – učtová sk. 6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55280" y="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1 – Tržby z prodeje dlouhodobého nehmotného a 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prodáváme náš DHM a DNM, který prodáváme např. z důvodu nevyužití (pořídili jsme nové auto a staré prodám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podnik. vozidla – 311/64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stroje v hotovosti – 211/64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42 – Tržby z prodeje materiál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685800" y="1828800"/>
            <a:ext cx="769608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v případě prodeje materiálu (např. z důvodu nadměrného množství zásob materiálu, nebo v případě, že přecházíme na jinou výrobu a tento materiál se stává pro nás nepoužitelný atd.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materiálu – 311/6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materiálu v hotovosti – 211/6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4 – Smluvní pokuty a úroky z prodle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fakturujeme svým odběratelům smluvní pokutu a úroky z prodl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za nesplnění podmínek vyplývající z kupní smlouvy (např. neuhradili včas naši faktur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Smluvní pokuta odběrateli – 311/64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6 – Výnosy z odepsaných pohledáv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tují se zde úhrady pohledávek, které již byly odepsané (v minulosti jsme je již zaúčtovali do nákladů na účet 546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hrada od odběratele – 221/6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8 – Ostatní provozní výno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ento účet účtujeme např. čerpání dotace na úhradu provozních nákladů (dotace na mzdu absolventa), výnosy z prodeje cenin, přebytky zásob při inventarizačních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bytek na materiálu – 112/64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Dotace na mzdu absolventa – 346/648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aúčtuj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V – Smluvní pokuta odběrate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Dotace na mzdu absolv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V – Prodej vyřazeného au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PD – Prodej materiál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9:27Z</dcterms:modified>
  <cp:revision>24</cp:revision>
  <dc:subject/>
  <dc:title>Účtování výnosů</dc:title>
</cp:coreProperties>
</file>