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954C-730F-4328-BCB2-041701ECCA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784D-74C9-41E7-BE83-6254FF0A0D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B100-A466-43E2-B72B-71C2911498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9D99-1349-4426-9AD5-727B10A87D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3C5A-BACA-4604-9E35-729D81DC85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942B-30E0-43E5-B1BF-DA08DE6281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6B86-638E-4BDF-B120-B2000DB050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61FB-7522-4421-A3CC-BE5436B309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F83F-7878-4715-A5C6-71E763BDDC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3CD3-8767-4EE8-9013-5A8252BB1F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4D2A-56EF-4CCD-AB6F-1593F8CDAE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4C7-8B52-4912-B3D1-F0E430E9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E57-D0FC-4270-8D4E-8D1686CD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F8E-6634-462C-9335-B4B19EA8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E36-54E9-4CD0-B4AC-1976429D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F4F-BB65-42B4-973F-B2C48E59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97C-467B-4224-A1B5-4F0067E4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2C7-D5B5-4C1F-9A5D-F239B6BE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E83-85FB-4A98-8B9D-42E42C6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6A5-2E87-49C4-944E-48BC118C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5DB-32C5-470E-89CC-F045F5C5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95A-EB1C-4B93-97BB-04317A5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D8F-35FF-434F-BE35-41DAB6A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8CA-28D5-4D64-9C65-C7C722AE0BA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otřeba, prodej, manko, přirozený úby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sk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 spotřeba základ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né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oz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hradních dí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ncelářských potře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obné nákupy za hot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up odborných čas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agační předměty, které jsou opatřeny obchodním jménem firmy, jejichž hodnota nepřesáhne 500,-- Kč bez DPH a nepodléhají spotřební da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úbytek u materiál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 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do normy u základního materiálu (přirozený úbytek)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 - 50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2 – Spotřeba energi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elektrické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lynu, páry a vody, které jsou určeny k energetickým úč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Spotřebovaná elektrická energie - 502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4 – Prodané zboží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úbytek prodaného zboží, a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řizovacích ce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Manko do normy u zboží (přirozený úbyt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ýdej zboží ze skladu   504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Dodávk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rozený úbytek u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30Z</dcterms:modified>
  <cp:revision>20</cp:revision>
  <dc:subject/>
  <dc:title>Účtování nákladů</dc:title>
</cp:coreProperties>
</file>