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03B1-083B-479F-8BF3-2AB2D6B0BA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8003-D5F8-4EF4-ADD3-89C3AF6C5F3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0B6-2DC7-4188-8BCD-613F2414D18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73EF-F0CA-4F60-A1FB-A88CB2861E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81B4-A103-4850-8737-3191002687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817D-EE07-4884-8B57-8B66CE4900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C929-1459-48B5-B6A6-428BE673BC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A532-F25C-4FE8-837A-EAD1D4DF50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0044-2B5F-490B-AF2F-83F20B24D59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613-BDFE-4561-91C0-3E27A4C4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45D-3C54-4AD3-84B7-83F0344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1A7-6221-4B45-8E9A-37ED57C5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7B0-8D27-4C87-B58A-9C52AD0C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964-2653-4008-804A-BD7749EA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CC3-F979-4536-BF08-EF9F4EE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F4D-EEC9-4EDC-A6D8-442973F7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822-B481-4560-A0A2-86BFD740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5A0-D67B-4B72-8C99-F5A8C9FA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CA4-D70F-4F59-81F4-857EB749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B5C-9A1B-467D-A408-2B82FA84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8A1-20A3-44E2-AE81-BF6B2AD0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FF80-7E42-47BF-A1DD-F703E9742F7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ně silniční, z nemovitosti, z převodu nemovitosti, po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1 – Silniční da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silniční daň, kterou má povinnost platit účetní jednotka, pokud v podnikání používá motorov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musí zaplatit silniční daň i za své zaměstnance, kteří využili pro služební cesty svá soukrom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ilniční daně – 531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2 – Daň z nemov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daň se účtuje, jestli-že má účetní jednotka vlastní nemovit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daně z nemovitosti – 532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8 – Ostatní daně a poplat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třeba kol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lniční zná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 převodu nemov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ická da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ovací daň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dálničních známek – 538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PD – Nákup kolků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úD – Předpis silniční da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PD – Úhrada daně z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VúD – Předpis daně z převodu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5:51Z</dcterms:modified>
  <cp:revision>18</cp:revision>
  <dc:subject/>
  <dc:title>Účtování nákladů</dc:title>
</cp:coreProperties>
</file>