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8481-9F46-468D-9D67-94722FFB93C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804C-CF26-43B1-8F58-466C28FA438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76CE-4BC0-4FA0-A50C-47B25AA366D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1129-7F9A-4947-9CC3-5D434087F04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DA7C-8C35-4A78-8ECB-42613CD3F3F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A49A-20F1-448B-BBF4-89CE8B8D486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B040-F070-43D8-83B7-053911A3E65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2FA2-5749-4A9C-8A9C-F33D4CE768A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A848-C8C3-422D-B1B0-B0EFF69F91B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AFAC-B9D8-40FF-B90B-85F2600DC5E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CD49-A283-4B70-A5C3-20069A5AABE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89FE-4FCE-46A0-8FFF-02024EA92D0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63E9-4ECC-4E28-805E-2B77C12D4D2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274D-B01D-4052-A072-BAFB4E81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36C-AA4A-491F-A800-F8803EC5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BFC-76BC-419C-BA96-D87C2CF4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2B4-D5F7-425B-BB57-335D685A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A86B-FB1B-428A-B763-D8015CDF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2914-B2B0-412E-9DED-6148F7E3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6CD5-3AB4-4E0C-A7D9-37106B02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B79A-CBF6-404F-8BDF-2AC08EDC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2E06-5E35-4F6B-8704-84697067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3B9F-DEF5-4124-9C54-5320B9AB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1DDC-C472-41C9-BE42-018F1A63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E83-ED8F-46B4-BFD8-83B827CB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A102-8F34-400C-9609-47E22060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CE65-7E6F-4775-A4A8-05566A50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7AA6-CA78-4756-B5D4-E190A14F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9723-3D77-427A-B7DE-2A09ECB5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C347-F9B6-43A2-8173-6A36FAF9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17A28-5650-41F8-89AC-C2FF689D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FD45D-191A-44B1-AEDB-0A96429B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06D7C-BF1D-471D-8E66-F3A78230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78EBC-1518-495F-B3AF-870FA95E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B52C7-47A7-437A-A742-0C19A679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B67-898C-41D5-8AFF-B485AF93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CC691-7209-4A69-88BF-E461A620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42818-0CB3-432F-86FF-605AF636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80FE5-6B02-4116-9D21-7A6D94B5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4FC7D-CDD9-4712-AC6C-E51EE454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0E862-C721-4C44-9AC0-63C1ECBC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F148E-64D2-479A-BDAC-2A1AC23D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64932-EFBA-4DE0-9FEE-ECCBAB2C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16FE0-56BF-40CA-858A-D692FB32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47506-24CC-427D-BD9B-38477C60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20C99-7B62-4BAD-9CF6-A02768AE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E0F-99D9-44D3-8E74-123C1D7C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CD03C-A308-41E8-BEC5-CB982388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A1FAE-9944-4A0B-8396-141E3BBB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0F08F-526B-44C4-8A00-4257CE3A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4C064-43BC-46D3-994C-118E634C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70E2E-5FF2-4D14-A981-C9D02095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FD69C-A9DD-4355-9A61-432DDB2E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C5573-652E-48F2-91B2-2D97F6F0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42DE1-1A93-4D96-B489-D4D06F60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43C06-C389-45D7-B255-E1E92F2B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D652A3-4224-48A6-BE43-48985EF4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9F30-430A-4748-AAFD-DB7E0BF7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BBEB02-53FA-49D9-9725-90D31D94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D9513-A852-4E48-A0E8-906C70FA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92E5A6-D6E2-4D5B-8993-A7828ADE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FE546-B47A-4EA3-94B9-E01752BD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81EE52-F737-4FB7-81C3-F09447CF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229FC-DBEC-4F75-B56C-671B557A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1EFE5E-DE7D-4C75-8ECF-4DBDDC11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F47DCF-6C6F-4F4F-96B8-AF33DE59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1E714-1F5A-4B38-84E5-815B518C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7F9732-BA45-4C9C-8784-AC153863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04D7-29BC-4A4B-BED5-AB95AE97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064049-FA47-495A-9D41-A3182638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19A-F6CB-4FFA-B0D8-5807F64A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3F35-49E6-497A-BE61-6704AB3A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2FBD-B31A-4FF5-92F1-59FD6D32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73C2-77C2-4E55-B37F-8F7A025E62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1476-D3C1-4AE0-A9C9-F356D20293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DFCF-8F38-4CC6-8E48-5BAC457FB6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4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5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5643-569D-47A0-A196-5C35ED16E9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0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1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1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3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3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3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3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4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60DB-5743-494F-9186-56C6820B37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39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3. Podle místa vz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jedná se o členění výnosů podle hospodářských středis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o to jsou provoz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o představují mimořádné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nosy provozní, finanční výnosy a mimořádné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Členění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Členění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ýnosy můžeme členit podle několika krité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1. Podle výnosových druhů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jde o rozdělení podle stejnorodých účtových skupin výnosů, dle účtové osno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dle směrné účtové osnovy si účetní jednotka sestaví účtový rozvrh, kde bude mít např. tyto skupi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092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 – Tržba za vlastní výkony a zbož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1 – Tržba za vlastní výrobk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2 – Tržba z prodeje služ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4 – Tržba za zbož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 – Změna stavu zásob vlastní čin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1 – Změna stavu nedokončené výro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2 – Změna stavu polotov. vlastní výro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3 – Změna stavu výrobků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2. Podle vykazování hospodářského      výsled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voz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nanč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Mimořádné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omic Sans MS"/>
              </a:rPr>
              <a:t>Provozní výnos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1992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nikají z hlavní činnosti, např. prodejem výrobků, zboží, služeb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výnosy, které jsou uvedeny v účtových skupinách 60.-6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PD – Prodej zboží – 211/6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Finanční výno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126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nikají při pohybu peněz, např. přijaté úroky z vkladů, dividendy z akcií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výnosy, které jsou uvedeny v účtové skupině 6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roky z vkladů – 211/66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Mimořádné výno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6981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nikají nenadále, např. přijaté náhrady od pojišťovny ze šk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výnosy, které jsou uvedeny v účtové skupině 6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náhrady za škodu od pojišťovny – 378/68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6:10:22Z</dcterms:created>
  <dc:creator>mirek</dc:creator>
  <dc:description/>
  <dc:language>en-US</dc:language>
  <cp:lastModifiedBy>Igor</cp:lastModifiedBy>
  <dcterms:modified xsi:type="dcterms:W3CDTF">2014-09-13T15:47:34Z</dcterms:modified>
  <cp:revision>15</cp:revision>
  <dc:subject/>
  <dc:title>Výnosy</dc:title>
</cp:coreProperties>
</file>