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C66C-DB21-4C1F-993D-4178F9F283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84D5-A7BC-49B4-9B7D-0A6C4845E5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FB42-FC4F-4D8B-A278-B66D619E9AB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BAA-CF4F-4BC7-A71E-67F50D33B0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D2DC-CCF3-4A6C-91ED-5810D672EF0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59A-A0DB-408D-AA52-2FA4A0690F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1AD-1925-4483-B1BF-D0A0A0E97B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8262-DD4F-4087-A538-A6482143EF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204D-7040-4D38-94CF-2C7269A26F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01DD-CE6D-44FA-A451-DF346E0645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E39B-6ACA-42BF-BBB5-F18CAAC757B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DEF4-582E-4D7C-9623-DB146256585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5ED-E5DE-4B0E-A056-46284D155B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8292-8AFD-4F6B-9434-0BF84CADBAA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8E1-B258-4575-BE56-31A0A68369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F2B-05A3-4615-9A64-A4071856AB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0725-F8EF-4CDF-B400-BFA4ADE0D0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8B3-249B-4A96-8867-0413A824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562-339E-4462-B3BF-C976C2FF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899-C921-4771-956A-50ABA014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FEB-0CC4-4812-AE8E-75899CB8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295-1225-42A0-AED7-4D3DC2E9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8622-A4E0-4D71-8C1B-B071ADD0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1113-59C5-47DB-9AC6-4A91E5DE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9D1-A215-4951-874D-E5D8123D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9E1B-A9C7-464E-873B-69423F5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704-1924-4513-8E7B-2D77925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8EFA-674D-4C3B-AC60-D6CD9F4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620-D44F-4B4A-B436-BA6B19E6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A680-10CA-42C5-A82B-B2EF283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2794-3336-4543-BF83-8369564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BD7B-0259-4A33-A36F-A0BEF605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7BC2-9968-4CA8-B6F0-6C882C10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3C8C-E25A-457B-B553-834D2A36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7AF72-FFC5-4021-B4CA-6A60195A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7EFDC-321A-4DB8-92F2-4481D19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2F1FD-C918-4CFD-8679-E455793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3B736-6735-42D0-AE4E-CBF2E6D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71949-3026-4A86-A41F-01FCCF6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ABE-92A7-4E78-B3E6-90F124FE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38CED-90AD-4C6D-A88E-3A5A1BD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0F863-97B4-4252-9594-BFED875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D8E9E-23AC-4C1A-B820-EA04DB92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437CE-58E2-4FF3-88EF-C89E8FD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C4680-E16A-409B-9B72-180CE07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439F2-CF0C-4036-920D-3E2A18A1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4258D-9EE2-4820-8794-40E68E68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E94-83D9-4DD7-AEB1-9DB01A65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5E0-7FC0-441C-9DE3-3487688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BE5-B430-4932-9DC9-8555312C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365-F54F-49FC-8B4C-1C94646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E29-C73D-4E3A-A674-3FAD6FA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A3D-498A-40E6-A9A7-9966009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D4F-EA40-439D-9089-80D0358F9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A1D-EDB7-41D3-9CF9-B603F12DD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5391-3C18-437F-B222-CBC3B5720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4. Podle kalku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Přímé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lze přesně určit spotřebu na kalkulační jedn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u základního materiálu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kolová mzda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Nepřímé náklady (režijní)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nelze přímo určit na jednici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energie (osvětlení)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. Podle místa vzni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edná se o členění nákladů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odle hospodářských středis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é středisko je relativně samostatně hospodařící vnitropodnikový útvar, který sleduje své náklady, výnosy a zjišťuje výsledek hospoda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 vnitropodnikových útvarů (HS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sprá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výro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dopra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odbytu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 základě těchto informací se provádí hodnocení hospodárnosti a efektivnosti jednotlivých výkon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áklady hospodářského střediska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ze rozdělit n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rvot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převzaté z finančního účetnictv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druhotné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vznikající ze styků s ostatními středi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Daňově účinné nákl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jsou dle ZDP daňově uznatelné (slouží na dosažení a zajištění příjmů „výnosů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a zaměstnanců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21/3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1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2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8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hrada silniční daně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1/21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daňově neúčinné nákl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ZDP neuznává jako daňově účin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robněji budeme řešit pří výpočtu dan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kup občerstve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3/2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ta od FÚ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5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ovací daň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8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3/22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 členíme náklady podle vztahu k objemu výrob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é máme náklady podle vykazování hospodářského výsledk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Členění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můžeme členit podle několika kritérií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1. Podle nákladových druh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náklad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e účtové osno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 Na základě účtové osnovy si účetní jednotka sestaví účtový rozvr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 – Spotřebované nákup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1 – 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2 – Spotřeba e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3 – Spotřeba ostatních neskladovatelných dodáve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4 – Prodané zbož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 –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2 – Cestovn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3 – Náklady na reprezenta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8 – Ostatní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2. Podle vykazování hospodářského výsled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voz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é skupiny 50 až 5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atří zde náklady, které souvisí s běžnou podnikatelskou činností (souvisí se  zajištěním provozu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stov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dpisy D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ové nákla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ištění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Finanč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á skupiny 56 až 5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se týkají finančního majet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ceni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roky z úvěrů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ankovní poplat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rz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ztrát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ladní schod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řizovací ceny prodaných C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) Mimořádné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jsou neočekávané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nepředvídateln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kody v důsledku živelných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ro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na změnu met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orba mimořádných rezer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3. Podle vztahu k objemu výrob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fixní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neměnné) - nejsou závislé na objemu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atří zde např.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aňové 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držba a správa budov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ilní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proměnlivé) - mění se s objemem výkonu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mzdy výrobních dělní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oc. a zdrav. pojištění, které hradí firma za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yto dělník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41Z</dcterms:modified>
  <cp:revision>26</cp:revision>
  <dc:subject/>
  <dc:title>Náklady</dc:title>
</cp:coreProperties>
</file>