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DF6A7-6D98-437B-B742-9B20E7C0EE98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F8776-D3CC-4BEF-8DCF-082F50716A4D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52DF3-7205-41EB-A2D4-F5930E6EB7B1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8D74C-AFB9-42FD-AAA7-314149739D01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57DA7-6236-4F9B-AB05-66E894ADEF5C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EE997-27D4-415F-A8E2-D11BAF6A48C4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6E122-18A3-4906-93EE-F34BFA5478BC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4B230-C444-4F5E-AF35-F1A097B06F77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BCF35-5230-4E4A-9718-9056C0667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5D711-9B24-4D43-B560-FD91DE4AB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DBF2A-590D-4AFC-B277-740229FF0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99354-F909-44AD-9C72-B41A4C1F8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ADB48-4993-4CE4-B91C-78A620673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65D28-F9FE-431C-93FA-4AAAF7BD8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8BEAC-0ED0-4C0C-AECB-B7EDE4E61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6CFE5-11BB-4E04-874F-6757DA510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BEF97-B9C8-4EA1-B90C-4B2E0DD1B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1A7D0-FB5D-4512-A41E-2969A6F1E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777E1-5DC9-4B88-BD01-F8AF42227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42CFD-F8D3-4586-9473-15A9CEA9B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C889C-3F3A-4097-A839-338411D6CF5E}" type="slidenum">
              <a:rPr b="0" lang="cs-CZ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0" y="2060640"/>
            <a:ext cx="91440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Výukový materiál zpracován v rámci projekt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EU peníze školá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Registrační číslo projektu: CZ.1.07/1.5.00/34.02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3" descr=""/>
          <p:cNvPicPr/>
          <p:nvPr/>
        </p:nvPicPr>
        <p:blipFill>
          <a:blip r:embed="rId1"/>
          <a:stretch/>
        </p:blipFill>
        <p:spPr>
          <a:xfrm>
            <a:off x="1258920" y="333360"/>
            <a:ext cx="6083280" cy="1487520"/>
          </a:xfrm>
          <a:prstGeom prst="rect">
            <a:avLst/>
          </a:prstGeom>
          <a:ln w="0">
            <a:noFill/>
          </a:ln>
          <a:effectLst>
            <a:outerShdw dist="45929" dir="2028877" blurRad="0" rotWithShape="0">
              <a:srgbClr val="330033"/>
            </a:outerShdw>
          </a:effectLst>
        </p:spPr>
      </p:pic>
      <p:graphicFrame>
        <p:nvGraphicFramePr>
          <p:cNvPr id="56" name=""/>
          <p:cNvGraphicFramePr/>
          <p:nvPr/>
        </p:nvGraphicFramePr>
        <p:xfrm>
          <a:off x="539640" y="3573360"/>
          <a:ext cx="7561440" cy="736560"/>
        </p:xfrm>
        <a:graphic>
          <a:graphicData uri="http://schemas.openxmlformats.org/drawingml/2006/table">
            <a:tbl>
              <a:tblPr/>
              <a:tblGrid>
                <a:gridCol w="1890720"/>
                <a:gridCol w="917640"/>
                <a:gridCol w="1655640"/>
                <a:gridCol w="3097440"/>
              </a:tblGrid>
              <a:tr h="73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Šablona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III/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Č. materiál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Y_32_INOVACE_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539640" y="4724280"/>
          <a:ext cx="7561440" cy="1190880"/>
        </p:xfrm>
        <a:graphic>
          <a:graphicData uri="http://schemas.openxmlformats.org/drawingml/2006/table">
            <a:tbl>
              <a:tblPr/>
              <a:tblGrid>
                <a:gridCol w="3781440"/>
                <a:gridCol w="3780000"/>
              </a:tblGrid>
              <a:tr h="402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Jméno autora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Mgr. Miroslav Hrušk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2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řída/ročník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4. roční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2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atum vytvoření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/20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2108160" y="365040"/>
            <a:ext cx="6404040" cy="816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9" name=""/>
          <p:cNvGraphicFramePr/>
          <p:nvPr/>
        </p:nvGraphicFramePr>
        <p:xfrm>
          <a:off x="468360" y="1413000"/>
          <a:ext cx="7991280" cy="4113000"/>
        </p:xfrm>
        <a:graphic>
          <a:graphicData uri="http://schemas.openxmlformats.org/drawingml/2006/table">
            <a:tbl>
              <a:tblPr/>
              <a:tblGrid>
                <a:gridCol w="3995640"/>
                <a:gridCol w="3995640"/>
              </a:tblGrid>
              <a:tr h="784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zdělávací oblast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Finanční účetnictv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ématická oblast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Náklady a výnos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ředmět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Účetnictv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ýstižný popis způsobu využití, případně metodické pokyny: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zentace k seznámení studentů s náklad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Klíčová slova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Účet, škody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mimořádné náklad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ruh učebního materiálu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zenta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330033"/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330033"/>
                </a:solidFill>
                <a:latin typeface="Times New Roman"/>
              </a:rPr>
              <a:t>Účtování mimořádných nákladů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785960" y="4352400"/>
            <a:ext cx="6092640" cy="12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Účtování nákladů – účtová sk. 5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330033"/>
                </a:solidFill>
                <a:latin typeface="Times New Roman"/>
              </a:rPr>
              <a:t>582 - Škody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Účtujeme zde škody, které nám vznikly v důsledku mimořádných situací. Například škody na majetku v důsledku živelných pohro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říkla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VúD – Škoda na materiálu v důsledku záplav – 582/11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330033"/>
                </a:solidFill>
                <a:latin typeface="Times New Roman"/>
              </a:rPr>
              <a:t>588 – Ostatní mimořádné náklady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 tento účet účtujeme opravy nákladů z minulých období (účtuje se pouze u významných částek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př.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Špatně odhadneme částku spotřebované energie za minulý rok a skutečná spotřeba bude vyšší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aúčtujeme: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558/321 (38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330033"/>
                </a:solidFill>
                <a:latin typeface="Times New Roman"/>
              </a:rPr>
              <a:t>Zaúčtujte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úD – Škoda na zboží v důsledku požár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úD – Poškození stroje v důsledku zápla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(stroj nebyl zcela odepsá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468360" y="1700280"/>
            <a:ext cx="784872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droj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Ing. Pavel Štohl – Učebnice účetnictví 2. díl pro střední školy a veřejnost, vydavatel vzdělávací středisko Ing. Pavel Štohl, 20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6T09:48:29Z</dcterms:created>
  <dc:creator>Ing. David Holzbauer</dc:creator>
  <dc:description/>
  <dc:language>en-US</dc:language>
  <cp:lastModifiedBy>Igor</cp:lastModifiedBy>
  <dcterms:modified xsi:type="dcterms:W3CDTF">2014-09-13T15:45:38Z</dcterms:modified>
  <cp:revision>17</cp:revision>
  <dc:subject/>
  <dc:title>Účtování nákladů</dc:title>
</cp:coreProperties>
</file>