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132F-6E0B-4F78-B81E-9F6E9150A40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A7B1-29E8-428A-922D-74E0916EDE4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3B82-9760-4A58-B41D-2F60D9B2918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0246-45B4-4A55-98B0-13267D74BBC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5ED9-FFA6-4D78-9BDA-D193E1C46E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7E77-E633-43C7-9A00-B1D5996347A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9A67-BBCA-45BB-8FC7-D4BE1A7565B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FCDD-2299-4CF6-ACF6-6A8A36610F8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B6A1-15ED-40F5-9A7A-B773BC6F4D5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C423-542B-40B0-B3C4-C86E34575C2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8650-A79E-4C12-AFCB-54B18B2A3CB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2E68-BE4B-4D51-BC88-07A612E3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0D97-4E66-492D-BF31-EE43020E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E5A7-99C6-49F8-B15E-786CAFBE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521A-2C28-4303-9C06-1EAFFCD4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D4DE-4DFA-4D46-8DCD-D5742822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5240-EBA1-4C76-8C45-8FF41548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7762-9188-4639-8058-BB8BC859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4B75-C5DD-44F2-965B-21B0ED55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7C0B-989C-4C82-9581-2DB5798A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8996-3D12-4A2B-A1EC-960B109B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7957-B8CB-4F8A-B716-17004A1E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389-0393-4F0B-B0E2-5F969910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B562-9897-4215-A3EF-357887C8C0DD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dpisy, rezervy, opravné polo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sk.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51 – Odpisy dlouhodobého HM a NM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za zachycu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účet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odpisy DHM a DN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dpis výrobního stroje – 551/0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dpis zřizovacích výdajů – 551/0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52 – Tvorba a zúčtování zákonných rezerv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účtujeme tvorbu (zrušení) rezerv, a to např. na opravu DHM (od 2. odpisové skupiny), dle Z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na opravu střechy – 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 (po opravě střechy)– 451/5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54 – Tvorba a zúčtování ostatních rezerv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to účet používáme pro tvorbu a čerpání rezerv, které nesplňují podmínky Z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říkl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ezerva na opravu majetku, který se nachází v            1. odpisové skupině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ezerva na splatnou daň z příjm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ezerva na záruční oprav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 účtov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tvorba rezervy na opravu počítače – 554/4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čerpání rezervy – 459/5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58 – Tvorba a zúčtování zákonných opravných položek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uží k zachycení tvorby a zrušení opravných položek k pohledávkám (viz. neuhrazené pohledávky), které splňují podmínky Z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Tvorba opravné položky k pohledávce, která je 6. měsíců po splatnosti – 558/3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59 – Tvorba a zúčtování opravných položek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uží k zachycení tvorby a zrušení opravných položek k zásobám, DM, pohledávkám, které nesplňují podmínky Z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opravné položky k materiálu – 559/1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Tvorba zákonné rezer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pravná položka k materi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dpis výrobního 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dpis účetního progr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Čerpání zákonné rezer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6:17Z</dcterms:modified>
  <cp:revision>18</cp:revision>
  <dc:subject/>
  <dc:title>Účtování nákladů</dc:title>
</cp:coreProperties>
</file>