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A5BC-7651-46AC-9F7A-BF17EC2CF6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24FB-B18D-4908-8DA0-87F3DE06CC0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732C-7685-4C73-ACEA-77A7D414EA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A616-D3E4-4528-8B0D-AECF9EDE72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4FDF-5169-40AE-A9DF-F13E1F7D1F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C0C3-90EF-4254-8D26-FC9CA2F69E3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5704-269B-4D23-ACB7-6F82B65491F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2280-6103-422E-88F6-F8A6084667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3318-6C1F-45FA-B108-523A9B0FE8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D491-2535-414B-A6D6-98445F6F82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EB4F-3105-461B-8414-03D709BAD4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A9A8-2A75-43A8-B898-41C11E081F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CB28-D0F1-425D-BFE4-7C2AD34184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87C0-9998-403F-97B9-BB2E0495F6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3C8-63F1-4A02-90D9-36913899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0C3-836E-4C6C-8FAD-D3A5B07E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97B-EAC2-48A1-84E0-C2EE5531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B7B-720A-4FBC-A2C4-BEBCC226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005-D18F-45CA-B712-F5EC2F41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076-0915-469E-BBD1-F46C9CBE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FD5-C5B0-4494-B881-13C2D638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6F4-08DD-40C5-979A-695DCC0E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64D-27E9-4851-826C-FCD300A0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73C-605B-49B0-B111-4E03AFB6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F99-D637-4785-A044-2E824023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BB6-7890-4FFA-9BED-26FEE5C1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29A7-C6AC-42D1-93D0-CA10184EE68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8 – Ostatní provozní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é zhodnocení u DHM, jehož částka nepřesáhne Kč 40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odpovědnosti za šk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majetk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Instalace klimatizace do služebního auta – (15 000,-- Kč) – 548/2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9 – Manka a ško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manka a škody u provozního majetku (dlouhodobý majetek, zásob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 inventarizaci bylo zjištěno manko u zboží – 549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u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Klimatizace do auta – 18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pohledávky za odběr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Smluvní pokuta od dod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C prodané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ý 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zůstatková cena, dary, pokuty a pená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Times New Roman"/>
              </a:rPr>
              <a:t>541 – Zůstatková cena prodaného DHM a DNM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C prodávaného DHM a DNM. U odpisovaného majetku se zde účtuje rozdíl mezi vstupní cenou a jeho oprávk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ůstatková cena prodávaného stroje 541/0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U neodpisovaného majetku účtujem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ozemek 541/0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2 – Prodaný materiál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 se zde úbytek materiálu, který byl prodán. Úbytek se zaúčtuje (v případě nákupu materiálu) v pořizovacích cená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řebytečný materiál – 542/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3 - Da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dary, které účetní jednotka poskytla jinému subjek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y mohou mít peněžní formu, ale může se jednat i o věcné dary, např. počítače , auto, zbož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Peněžní dar zdrav. zařízení – 54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44 – Smluvní pokuty a pená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smluvní pokuty a úroky z prodlení a penále, které vyplývají ze smluvních vztahů. Například musíme uhradit úroky z prodlení, pokud nezaplatíme dodavateli včas dlužnou čás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hrada smluvní pokuty – 544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5 – Ostatní pokuty a penál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okuty a penále, které nám udělili státní instituce, např. FÚ, zdravotní pojišťovny, správa sociálního zabezpečen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pokuty od FÚ za nedostatky v účetnictví – 545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6 – Odpis pohledávek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např. nedobytnou pohledáv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Odpis pohledávky za odběrateli – 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04Z</dcterms:modified>
  <cp:revision>18</cp:revision>
  <dc:subject/>
  <dc:title>Účtování nákladů</dc:title>
</cp:coreProperties>
</file>