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36D2-6A0F-4613-A1C3-E60DF6DE2AB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830D-7502-45D3-9AE1-B36EC768905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3902-C2B8-4C9C-B5AA-56C6CE25937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A4D2-FBCD-47F7-9D0C-665A24E064F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89C6-0ABA-4102-8DD2-4CBEE8E4421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33FC-F7E1-4B6B-B57F-3611ADB8705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CDE2-F2DE-4893-A35F-FEA4B9B69EE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5E14-5722-4CB1-9C0E-19A2D2E17BF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8416-4EC6-452B-8A46-3EDF5C32A57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D806-E46A-48A9-96D8-48B59F4CC61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903A-2450-43C8-8279-1F0C4DDE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037A-B9E8-4301-9FE4-3A1BE3B3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3766F3-6F70-48E1-98DC-FA7A5217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C804DA-8BAD-4C71-8DF9-72C7BEC0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8CE7B4-4246-4D1B-BEFE-86F83258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D48336-C593-4C9D-9CE6-5FA575D2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D4FF52-A6C9-47C7-9757-66083F06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37F71A-E0C4-469B-A086-26793BF6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6AD0B2-18C1-4FDF-916F-E7DAFBF5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D7ED14-6C8B-4929-940F-7EFF3C06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346497-74E9-491A-8E06-DD4A0FC3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9AE11-35C6-4FCB-9D8E-7A80310D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A69E-05AD-4214-A134-889DC259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CFDFD-0239-459B-B24B-A0EF5FA5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006D8-0E95-47A0-B214-29C07ACC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D2167-0736-4303-BF71-E6EF0C78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485A8-B915-4938-8FAE-964FE0CA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4FB1F-5478-4719-AA48-775FD853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2ED57-BC33-4A1B-A3BE-7B141BD6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4026E-F115-4F77-BE15-1240EBFD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EE93B-9E70-4BBF-B70D-82DDE01C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70269-B8D4-4212-9D51-51F2808C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65D91-8FC5-4613-A4A0-6282DCF5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24EF-FBF0-4D5F-94A5-95C6005C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ABB16-1E5A-4FC2-B421-236F091E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615F-1793-4310-A619-83F2CD52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EFC3-2FF8-4263-83F6-F2B25340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3A90-C6BD-4BDC-AAD5-274710CD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807E-BCD2-4BE9-886B-EA1D2CFE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6D35-F704-49EB-BB6E-4E3CBFEB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6F7E-33B7-4CC0-95E8-72429B14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64EE-F5A3-47BF-B4DD-EC59C50A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CA7A-B996-4773-BFD9-672341F4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4E47-B629-4C66-95F3-8A112EE7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039A-DD7F-4366-9D78-60BCEE2C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3EE2-CE09-4C29-A22D-0B578B77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EC59-C6C3-4DF3-B6C8-6D868F87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546A-0A99-4383-8E48-5ECCE6A8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4559B-C3AE-492A-8720-48ACD9DC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C167F-6DFB-4345-B0A9-FE0B2759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62BE1-DD12-456B-948C-0D8C84B0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DCD86-0F84-4FC1-8499-DBDCBC40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1A28D-6D9D-46AD-8461-3A83B999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2C63-D7D9-45AE-AE0F-1F74AADD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426BA-9E7F-42F6-8A7A-A4AB95F5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C4037-55E9-459E-8289-BD5485F4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B16A4-BB64-4CA5-AD43-90DABAC1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FAC0B-567B-49C1-858C-055E776A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8F75F-976B-44E9-9B43-E31A425C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94729-55F3-4A8A-96ED-0914E67A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1C4C5-538C-4494-9169-690D1FDA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2C283-07BE-424E-8B70-9E62739D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C3516-9367-43B2-81F3-30A1CC9B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579CC-747A-44E2-8B04-04459D2B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B599-13B2-4F26-84F2-72A96B8F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0C4D9-5C4F-4A41-86CF-B1B39954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180F4-306A-43C9-AC63-6E8DE012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4918F-4F06-4610-98E8-B6258A6C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C096D-78C0-4425-B3E7-EA3C5DEF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61887-7C00-452C-AA84-1D00D6B4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4C1A7-07D2-4203-ACA8-E16AA164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C2962-AF29-44CB-A8FE-74F90822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06863-9291-4F02-BD45-D7F4B964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8C539-0172-48D9-ACE6-E62AD9F5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7931C-1D6F-4A2D-9D35-D8DBAB45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BC88-1D80-4602-BB7D-4E0FA022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29F91-B96D-407E-BDA7-8E81F09D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7A760-740A-47DF-8B42-75310A7F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08DC6-EBBA-4D61-A739-006C64EC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E422E-5927-4FB8-86DE-F62E5E21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DA89B-8336-4B47-94EE-D8A31618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11671-0CD0-402D-B291-80753CEE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3EE55-29B7-44A8-98E4-D2C2B97E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4F00E-52F4-4A93-833D-4DF24A8E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8CCB3-1EF0-44B1-946A-F88147FB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7E2B3-4A4E-414D-B6FD-9B76AFA3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94FF-6740-4C94-AAFE-8159AE01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2C708-1DE6-42D8-B6BD-9A725A48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5D1F7-85D5-446C-A62E-13B41F21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FA664-0142-4A0C-B9A4-DD55CCA8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346A7-DCDC-408C-BF3F-BF707861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22A6E-F309-4231-82B6-DDBA494E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B570F-1466-48EB-9D64-C988948A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F16F4-59FD-4DBA-B700-0B0C45C0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B1EAE-052D-43AE-8F10-A33C8DF6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1A326-BC24-4DB1-9A7C-559902BA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A0F74-E093-4885-BD5F-C3F5583E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8501-E78D-4389-A99F-E063F385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60A7F-BAA8-49F2-A4AA-4C743C8C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64CF7-AA35-479A-B365-670A2AE9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5317B-BF1C-440D-8C6D-CD0CE1E9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7FC5DE-C2AC-4DD0-B732-4011B14F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2D7F65-D5BD-4C1E-A85D-A613960A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4B6C28-1030-4CDD-BAC2-D3B12852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5CE169-127C-49D3-A69B-7553AAE6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614BED-9724-4BBB-B44D-1B19C64C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5E80C9-E626-4D42-88A7-2BB15F51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3EFB5E-98BE-4635-8BCD-B2A49FB9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DC42-27D4-485A-B6C0-594ED917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0D9A5B-50FF-4B0E-BC63-58CC4BBB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5A2B9C-1810-46E4-A1CF-611A1270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3E6FCA-E97C-48A6-8F13-7A3DB08E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67F000-C2F1-4479-AE29-4BD65D894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DE75EB-80E6-4A84-9178-FD72416E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37AB4-1DCE-4A86-8B83-E2410D02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61636-8B15-4FCD-9AAD-BAF4D00E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BBC68-FC2D-4806-A2A8-0ABD4759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B0426-5D37-411E-9C28-76B120C8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66745-9A7E-4309-87B1-9E34E67E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6AD4-2B4A-4493-9B37-4CF0177E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EA46B-E956-44D9-B93B-AAE51F9B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AD5F1-B290-4D5B-9666-C44EAA1D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8047F-6DE3-42CB-AAAF-8115EEDB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2A6EF-E0BC-45F6-B0E5-42223672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5764A-C39E-4AF3-9CFF-62D369ED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04B73-A5F6-4E22-BAE4-FC13CBA0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60A0A-1DE8-4677-A8EB-06150134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27095C-8732-4DF4-A148-FC9C8677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D2E086-88D3-4723-9CA2-AD614655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23D226-D292-4F65-9F78-E6ED36F0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AB0C-B395-4993-94C8-D5BFE178B0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1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1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1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2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2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72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2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73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3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FBD6-F503-4CD4-BD7B-BE106DB2DE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255C-BA6E-4956-9314-2B2AB2F41F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0C73-3164-4C90-B8E7-E29DCB133D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0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0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1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1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1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1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2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875C-5880-4BE1-B2A0-2CEB39389A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7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8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8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8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8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8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9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9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0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0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0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0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1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5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6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6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3070-AA39-4372-8012-CB50AF4EE2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1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1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1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23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24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7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28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3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64EB-C68E-43DA-9490-14AABE086A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8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9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9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9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0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0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0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2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19EC-86EB-43AB-95E5-A6630C266F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6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6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6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7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7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7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7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8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736F-73C5-4D83-99D1-FE9C2A4B3E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3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4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4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4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4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4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4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5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5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6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6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6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6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6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7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4857-AEA5-47F0-9EED-C83500CE82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78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8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íjem, vý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omic Sans MS"/>
              </a:rPr>
              <a:t>Charakteristika výno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mic Sans MS"/>
              </a:rPr>
              <a:t>Výnos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nosy představují výkony podnik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lavní složku výnosů tvoří tržby z prodeje výrobků, zboží či služe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Musíme rozlišovat výnosy a příjm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říjmy představují přírůstky peněžních prostředk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omic Sans MS"/>
              </a:rPr>
              <a:t>Pozor na záměnu pojmů výnos, tržba, příjem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75596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Může nastat situace, kdy všechny t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 pojmy splývají ve stejném okamžik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VPD -Tržba inkasovaná v hotovosti za služb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Zaúčtujeme:  211/6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Jedná se současně o výnos, příjem a taktéž tržb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Comic Sans MS"/>
              </a:rPr>
              <a:t>Pozor na záměnu pojmů výnos, tržba, příjem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Může ale nastat situace, kdy každý z těchto pojmů nastává v jiném časovém okamž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omic Sans MS"/>
              </a:rPr>
              <a:t>vyrobením výrobku vzniká firmě výnos – 123/613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omic Sans MS"/>
              </a:rPr>
              <a:t>tržba vzniká až v okamžiku prodeje – 311/60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omic Sans MS"/>
              </a:rPr>
              <a:t>příjem vzniká v okamžiku platby od odběratele – 211/3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Vysvětle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ujte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Rozdíl mezi výnosy a příjm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6:10:22Z</dcterms:created>
  <dc:creator>mirek</dc:creator>
  <dc:description/>
  <dc:language>en-US</dc:language>
  <cp:lastModifiedBy>Igor</cp:lastModifiedBy>
  <dcterms:modified xsi:type="dcterms:W3CDTF">2014-09-13T15:47:47Z</dcterms:modified>
  <cp:revision>18</cp:revision>
  <dc:subject/>
  <dc:title>Výnosy</dc:title>
</cp:coreProperties>
</file>