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21A4-2B24-4DA5-9210-3ABF61E55A1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0413-19FD-4FD7-8FB6-038F2F0E62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056E-561A-414A-B83D-4E1AA801D88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EAFC-FDAC-4C5F-93E1-E3F3BA65185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1D6F-5966-4468-BFF1-3D10014FD05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EC01-A968-4979-8217-8BB3D46B8D5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9B99-4371-48BC-8D05-4A9A23F920EA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4F40-C606-4809-8271-D736745B1CD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B0B-F139-4D9F-9A42-652DC707E07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FDC-329F-46C4-A1F2-0F9AEE7E92A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520B-21C9-4854-B6C0-7DD4535F427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9939-0E41-4EC3-B47F-479E0E6232D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5C0-7201-43FC-A6EA-6310C46F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3A5-63ED-432C-9185-1AF4F164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B8B-562A-473A-AAEE-B0B83B40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AC2-7454-4FC5-B70F-FC3E8A46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ED85-EC2C-4C10-91FA-799C5D62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1F6D-E9CC-4924-8009-663DAC27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9A10-A241-47CE-A5D1-4E952EA6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EFDE-6E70-4183-85A4-C02362F4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3C02-AB38-45BF-A855-35D66BE6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9D1-C935-4322-B097-A7C86B5E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2CC3-350E-4162-8E4A-DB5B34A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644-02C0-4749-9236-1390C4C4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B41B-BDB0-4086-9389-C8C83B5A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B100-5B0B-4864-9291-6C7B5F75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5BD-DD88-4A70-B834-8DB6069A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17B-5598-45A4-8005-9B6D4665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75C4-B90E-4DEE-AC76-3459CD87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FF8-5945-49E4-834B-5BE28E52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149-A021-457D-A897-C5AC799C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EE8-3E96-4944-8AE2-E5DE47F6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941-232C-4E3B-85BD-3C76DA7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3CF-613E-47B1-A8C9-14F1FC3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15E-1233-435E-9248-048E5EBA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6B7-7C8A-41C4-A46A-083D8F7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965A-AE27-49C9-85EB-D98EA5C28088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EFEF-0E39-4255-B30B-8FFC2F4BC5BD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eprava zboží vlastním au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Aktivace stroje ve vl. náklade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obalů na sklad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0800" y="365040"/>
            <a:ext cx="678168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k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096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 sk. 62 – Aktiva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představuje přírůstek majetku             (tj. zvýšení stavu aktiv) v důsledku vlastní čin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se účtuje ve vlastních náklade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le toho, který druh majetku aktivací vzniká, používáme tyto úč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1 – Aktivace materiálu a zbož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2 – Aktivace vnitropodnikových služ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3 – Aktivace dlouhodobého ne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4 – Aktivace dlouhodobého 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využívá v případě, ž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irma vyrábí obaly pro své výrobk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- Přírůstek vlastních obal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12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vé výrobky prodává ve vlastních (podnikových) prodejnách. Předáním do prodejen, se mění (majetková složka) výrobky na zboží. Musí být zaúčtován úbytek výrobků a přírůstek zboží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Úbytek výrobk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13/1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vodky na vyrobené a předané zbož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1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dání zboží na prodejn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2/1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9900"/>
                </a:solidFill>
                <a:latin typeface="Garamond"/>
              </a:rPr>
              <a:t>622 – Aktivace vnitropodnikových služeb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používá např. tehdy, jestliže má firma vlastní dopravní prostředky, kterými si sama přepravuje materiál, zboží atd. Jedná se    o tzv. vnitropodnikovou služb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Doprava mater. vl. podnikovými aut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111/6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00"/>
                </a:solidFill>
                <a:latin typeface="Garamond"/>
              </a:rPr>
              <a:t>623 – Aktivace dlouhodobého nehmotného majetku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čet 623 – Aktivace dlouhodobého nehmotného majetku se používá tehdy, jestliže si sami vytvoříme tento maj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pokud se jedná o účetní program zaúčtuje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Aktivace účet. programu ve vl. nákl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41/6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Zařazení do uží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13/04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24 – Aktivace dlouhodobého hmotného majetku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t 624 – Aktivace dlouhodobého hmotného majetku použijeme, jestliže si sami vyrobíme (postavíme) stroje, přístroje, budovy a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případě, že jsme si sami postavili garáž zaúčtuj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Aktivace garáže ve vl. nákladech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42/6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Zařazení garáže do uží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21/04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46Z</dcterms:modified>
  <cp:revision>22</cp:revision>
  <dc:subject/>
  <dc:title>Účtování výnosů</dc:title>
</cp:coreProperties>
</file>