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2248-47DD-41D3-B443-0EBD5FB325F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F067-1AA2-405E-B7A8-F7EFC207191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1A7A-6CDB-4E16-A8FA-FA782904FEB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CE00-4A50-4123-87F3-EC50079136A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782F-5330-4932-81B3-3986E97C963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E705-AC08-4761-874A-3B616D7AAEB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82AC-358E-4F49-91DC-E6660331A97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F629-919C-4F31-BADA-CD4DC34D301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1B8B-B3FB-4FA5-826C-F0D535B9D91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5484-8179-4CB9-995A-D380FF53F6A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370D-3CA6-4CAC-BBF7-F0BD7C94CC6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962C-ACA3-453A-A91B-3C655ADDBC2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B808-B131-4443-8E19-D660EDB4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97CF-12D5-4934-B776-6F37A558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D901-B1E5-4E47-B559-0EECC3A6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D4A-F432-409F-AABD-8B8BF8B7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D9CF-7EDD-4EF2-A697-14B8B94E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E718-DF3E-4AC9-A6E5-E2D13CCB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3112-74A6-4249-8102-55B21A89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AA9D-7582-492E-95BC-D23265E8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D23B-0CB6-473E-896A-64D5B4F0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55C1-7B5C-440B-A127-46DD63DC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B553-255C-4BFE-A888-3FB2DDC5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00A-1698-441D-8576-8ADC4071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0EA3-DA3C-489C-AFFB-B585DDD4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19BA-EEB7-46A0-AACE-C7A7D45A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0E46-FE45-463F-918E-06C191D8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7753-A465-4117-8374-74D35BF4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1CB2-0409-480A-91E1-7436C3E0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EA591-C2B6-4368-8669-4A41A3A0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7241E-2745-4FBA-8F38-D01DCE7C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ADCBF-6E6F-43A3-B126-D97F6BC9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E2F95-8F97-4DD0-A070-54851F27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5CF3D-9417-465A-AA7C-AF67D11D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9E6-76E3-46C0-B6E5-84CF31C4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6C624-C23A-4422-9DD9-483FCA0C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53F58-D718-455E-B35A-4B106C27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FAF50-430D-4B16-8E1E-EDCB60E9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C6D79-728F-4737-8238-FD651270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0F5BDC-4DFF-4327-A81D-8F8DB702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5E4C6-7998-479C-B130-A3D3B074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76AE4-631B-44A5-B5A3-49AC3108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D8A-980C-485B-A901-6C900447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496-51E9-4033-83BF-EAB9EF94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11C7-9070-4A00-84B4-D908FE4A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A19-8ECF-404E-BEE0-D18CC8FB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91EF-0C9A-4027-877E-712C2294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CA1-C20A-488B-93E1-E7C50EB1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29ED-E5C0-4A33-8A95-EB665093EA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54B5-0EC7-4558-B638-7364D01B3A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2E0D-1713-4C32-B4AF-BEEFEAD182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ujte náklad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Rozdíl mezi náklady a výdaji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, výdaje, spotře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Comic Sans MS"/>
              </a:rPr>
              <a:t>Charakteristika náklad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Nákla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lady představují peněžní vyjádření spotřeby živé a zvěcnělé práce, která byla vynaložena v souvislosti s činností účetní jednotk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a základě nákladů a výnosů zjišťujeme hospodářský výsledek účetní jednot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omic Sans MS"/>
              </a:rPr>
              <a:t>Náklady je třeba odlišovat od výdaj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daje jsou úbytkem peněžních prostředků bez vazby na konkrétní výkony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daje se přeměňují v náklady jen tehdy, jestliže vynaložený majetek vstupuje bezprostředně do tvorby výrobku, práce či služb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up materiálu v hotovosti představuje výdaj peněžních prostředků, ale nákladem bude až samotná spotřeba materiálu (je zde časový nesoulad mezi výdajem a nákladem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čtujeme následovně (způsob A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1. VPD - nákup materiálu (bez vedlejších výdajů)     112/2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2. Výdejka – spotřeba materiálu 501/1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kud b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tní jednotka nakoupila materiál, který bude ihned spotřebová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ak se jedná současně 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ýdaj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nákla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četní jednotka nakoupila za hotové kancelářské potřeby, které byly ihned použ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účtujeme násled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PD – nákup kancelářských potřeb 501/2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76584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Další 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up kolků v hotovosti, které nebyly použity, zaúčtujeme, jako úbytek peněžních prostředk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PD – nákup kolků 213/2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(protože zatím nebyly použity, nejedná se o náklad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mile tyto kolky použijeme, tak se jedná o náklad a zaúčtujem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spotřeba kolků 538/2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bychom nakoupily kolky, které ihned použijeme, tak se jed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 výdaj a souběžně i nákl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em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PD – nákup kolků – 538/2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4:57Z</dcterms:modified>
  <cp:revision>30</cp:revision>
  <dc:subject/>
  <dc:title>Náklady</dc:title>
</cp:coreProperties>
</file>