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D0E9-AB53-4A00-B1F4-7E1B7247C9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14FA-A47B-483D-A174-9FD5F235A1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2709-47EE-4440-94B5-775911A64F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3C89-DC92-4A08-A16B-B598987212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CA9-E67F-48DD-BD97-9661C4930F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818A-B20B-41C0-B74D-007A9DCACD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BB39-486A-4714-8B8F-3A4EAD39A0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E5B8-91D8-43CC-B981-14AD36EDFE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457B-5121-4B12-AA93-2FEAF45597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08B9-E8FA-4271-8F01-145AF385D6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F3E-61D2-4B86-9B6D-CF9C8325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FB8-A0A3-4388-9C99-A3B5EEB0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9DB-876D-47B5-9753-54A5B124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3E9-C9BB-41CD-81C2-DB5F4360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A64-B36A-4BF2-ADC6-6472417B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BBA-F199-428B-989F-70E7BAC0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106-5FC5-40A8-B541-431F84DA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BC8-8DB5-459F-981C-ACD1060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855-AC44-481F-8D54-F8C427EE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773-429E-4D47-A677-C10E3153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2EA-843A-4506-8D41-15FF9C04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C06-9E20-4BBB-90AD-2B170661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A44E-434C-4755-AD0E-033A2682868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opravy, cestovné, služby, re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11- Opravy a udržování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veškeré opravy a udržování (například opravy DM, vymalování místnost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počítače – 51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2 - Cestovné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áklady, které jsou spojeny s uskutečněním služební ce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tří zde např. jízdné, ubytování, stravné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yúčtování služební cesty 512/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případě, že zaměstnanec obdržel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zálohu na služební ce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3 – Náklady na reprezent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výdaje za pohoštění (občerstve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uplatnit odpočet 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Nákup občerstvení – 51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8 – Ostatní služb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oštovních zná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inz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fonn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k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obné technické zhodnocení u D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jem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ci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PD – Úhrada nájemného – 518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Úhrada inz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Pronájem kancelá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poštovních známek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Občerst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42Z</dcterms:modified>
  <cp:revision>17</cp:revision>
  <dc:subject/>
  <dc:title>Účtování nákladů</dc:title>
</cp:coreProperties>
</file>