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944F-9E55-4C9E-85DB-6CABBEEF8E0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D8BE-56E1-4684-8411-4BD127BE4F2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C224-D676-4648-BC93-6080695A8D3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6432-EAD4-47D8-A760-1CE084D47E2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4190-755B-4758-B9D1-7D298B14104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234E-7DCD-407A-B518-5E3A61BE132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6B00-2E37-4F8D-84CE-D9EC349E9F6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692F-6848-4F36-8584-148D7DBBE66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CBC4-D9BC-4AD5-9A03-4AC8EE333D0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D8F6-5C95-4743-B505-3D34A7A8701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90C7-667E-4AEA-AFF7-34ED579E6A5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CD44-29D0-4279-8061-3EC03FB59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C9FA-7D81-42F1-A5F1-C2F52614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3047-D8D6-40AE-9AA0-26DE6854D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4C47-C063-48FA-8E1A-A9293D5E8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66E3-FE3E-4A71-B91D-292A8908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D22C-C35A-469A-987D-853F2990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D5CA-8DAB-49B0-BE14-9E927011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9B02-813C-462F-A6AB-CAA4B5CB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8C3D-A0C1-4DCB-A82B-30F8219C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0F5A-52B3-4F72-862C-1284CB0B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DFFA-79BB-4C86-AB62-4E713A6F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877A-D652-4C29-98BD-B621B7E9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165E-70B0-40A8-8985-8F0BA66ED6BE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</p:pic>
      <p:graphicFrame>
        <p:nvGraphicFramePr>
          <p:cNvPr id="56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Ing. Pavel Štohl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08160" y="365040"/>
            <a:ext cx="6404040" cy="8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, úroky, kurzová ztráta,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Účtování finančních nákladů</a:t>
            </a: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5960" y="4352400"/>
            <a:ext cx="609264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 nákladů – účtová sk. 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330033"/>
                </a:solidFill>
                <a:latin typeface="Times New Roman"/>
              </a:rPr>
              <a:t>561 – Prodané cenné papíry a podíl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tento účet zaúčtujeme pořizovací cenu CP v případě jejich prode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úbytek CP v důsledku prodeje – 561/2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62 - Úroky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ná se o úroky, které účetní jednotka musí uhradit, například úroky z poskytnutého úvěru (pokud nejsou součásti pořizovací ceny D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bú – úroky z úvěru – 562/2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0033"/>
                </a:solidFill>
                <a:latin typeface="Times New Roman"/>
              </a:rPr>
              <a:t>563 – Kurzové ztráty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ujeme zde ztrátu, která nám vznikla v důsledku pohybu kurzů Kč k cizím měná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užíváme pokud máme valutovou pokladu a pohledávky či závazky v cizích měná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 valutové pokladně máme 100 Euro, při kurzu 1 Euro/25,70 Kč. K 31.12. kurz dle ČNB 1 Euro/25,6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díl zaúčtujeme následně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úD – kurzová ztráta ve valutové pokladně – 563/211.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68 – Ostatní finanční náklad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např. poplatky za vedení účtu, za jednotlivé transakce, poplatky za odeslání Vbú, za výběry v hotovosti z bankomatů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bú – bankovní poplatky – 568/2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0033"/>
                </a:solidFill>
                <a:latin typeface="Times New Roman"/>
              </a:rPr>
              <a:t>569 – Manka a škody na finančním majetku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např. pokladní schodek, který jsme zjistili při inventarizaci, či škody na finančním majetk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okladní schodek – 569/2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Zaúčtujt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bú – Poplatek za odeslání výpi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bú – Úroky z úvě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okladní schod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rodané 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9:27:15Z</dcterms:created>
  <dc:creator>Ing. David Holzbauer</dc:creator>
  <dc:description/>
  <dc:language>en-US</dc:language>
  <cp:lastModifiedBy>Igor</cp:lastModifiedBy>
  <dcterms:modified xsi:type="dcterms:W3CDTF">2014-09-13T15:45:10Z</dcterms:modified>
  <cp:revision>15</cp:revision>
  <dc:subject/>
  <dc:title>Účtování nákladů</dc:title>
</cp:coreProperties>
</file>