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1FFF-8810-4EC7-B1A7-2C4CF217D20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4DCA-DA59-479C-8829-CEFE82A1D57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DD11-D66F-4D6D-A317-60B848F8A0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2858-6833-4525-8A12-EB067EEF8E7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082B-9604-4C1B-8E02-BB71EFAE6D0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EC5-38B8-4EDE-A30E-49006AF99DD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78E4-2548-4726-B4AE-AA753CE3095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32EB-281A-4405-9AF8-85DDA44BCFE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702A-3809-4005-AE05-BB89D9B704F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DF8-6930-4036-8426-029BF239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1BA-E8AC-46BA-AB74-40D12028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A09-8243-4D55-94C3-4E0622FF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D08-9EFB-4032-881F-CAAC5CEB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CD2F-E164-48B4-A764-6111237C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9263-E2A8-4964-93C3-9CFDA482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DA0F-3364-4130-9B72-A06E5B60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3AE3-75D0-4203-BC39-0A798E1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9E38-D5BE-40B3-92F6-4F57D6A4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8106-1DBE-49A8-89ED-CCA60B73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30EC-7CD0-47F5-B2DD-3AD75B1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905-3A75-466C-832A-37B32305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7F81-5507-494B-82E6-40A1D6E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044F-782F-4B73-900A-DD6C32D4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03E5-872F-4DB4-8E25-D7C12FB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2313-ECD5-4E6B-98E0-CD2BA5D9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D83C-B7ED-4213-8A54-EB9CD07A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640-29C1-4BBE-BBD3-B4D696B8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68B-4A51-4B3D-855E-390BF7B2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21C-5671-489E-8F03-CE39A55C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897-0FA0-4292-9658-D8FB386C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23F-57D8-427E-A61B-6431CC2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D0A-2581-4ECB-B5BF-39ED86DE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6AF-6A0E-402E-90D2-14023FD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42FA-1BCD-4732-9494-7EBB4F3FC9C5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478A-8FC5-47E6-8068-2F6D72194647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01 – Tržby za vlastní výrobky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účtujeme prodej našich vlastních výrobk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dej se může uskutečnit v hotovosti, nebo můžeme výrobky vyfakturovat odběratelů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a výrobky – 2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výrobky – 3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2 – Tržby z prodeje služe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evidujeme námi poskytnuté služby např. poradenské služby, pronájem budov a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Poskytnuté poradenské služby (hrazené v hotovosti) –  2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budovy – 3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4 – Tržba za zbož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zde prodej zboží (které jsme nakoupili a v nezměněném stavu prodávám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 – 2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prodané zboží – 3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dej výrob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garáž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59Z</dcterms:modified>
  <cp:revision>16</cp:revision>
  <dc:subject/>
  <dc:title>Účtování výnosů</dc:title>
</cp:coreProperties>
</file>