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B33B-54D6-4288-A32C-7F470EE64439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1B8C-F436-40B8-9E3A-D12E628D738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02EB-A740-41D5-B6CE-7714D50B52B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E70F-0AEF-41AC-BBEF-0AB71BCF6EB1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AF1A-B6B8-4137-A691-B3443F4712AD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7CA1-FC11-4BFF-86C3-6CE5F99DBCFE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C05A-46DB-4936-A166-56BBE3DE3FB4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8756-94FC-4692-B477-EF31448AB16E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F603-53F0-4D63-86B8-AC312994C1B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D567-5668-4DA5-A444-EAAE52EF1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48FA-1EE4-4D46-AA0F-DA35C465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9B45-F845-42B9-BEA7-0E62B5DF3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CE05-6A86-462B-A208-5305960A9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95A2-22F5-4E1E-86AA-A6C9A637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745A-0CDC-4533-A218-308DF47C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1F87-7649-49D1-B767-9811B4E2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031C-4AA6-4D58-BECC-213C8297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AB91-D30C-43C4-87E3-45D7D766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ED79-9499-40DB-A580-1B75FF6C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5F11-D9FA-4851-87DA-D5200887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1FB9-2015-46FC-8553-8C3AABBF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DEF5-B7E1-4F29-9320-08E8FE0A5A7C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666600"/>
            </a:outerShdw>
          </a:effectLst>
        </p:spPr>
      </p:pic>
      <p:graphicFrame>
        <p:nvGraphicFramePr>
          <p:cNvPr id="54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722600" y="365040"/>
            <a:ext cx="6779880" cy="81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Změna stav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6666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Účtování provozních výnosů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80600" y="4352400"/>
            <a:ext cx="645012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Účtování výnosů – učtová sk. 61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9900"/>
                </a:solidFill>
                <a:latin typeface="Garamond"/>
              </a:rPr>
              <a:t>611 – Změna stavu nedokončené výroby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a tomto účet evidujeme přírůstek a úbytek nedokončené výrob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edokončená výroba – jedná se o rozpracované výrobky, které ještě neprošly všemi stupni výroby (nenachází se ve skladu odbytu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říklady účtování: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úD – přírůstek nedokončené výroby 121/6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úD – úbytek nedokončené výroby 611/12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99900"/>
                </a:solidFill>
                <a:latin typeface="Garamond"/>
              </a:rPr>
              <a:t>612 – Změna stavu polotovarů vlastní výroby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 tomto účtu se eviduje přírůstek a úbytek polotovarů vlastní výro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Účtujeme podobně jako nedokončenou výrobu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lotovary můžeme prod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klady účtování: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úD – přírůstek polotovarů 122/6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úD – úbytek polotovarů 612/12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613 – Změna stavu výrobků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 tomto účtu se eviduje přírůstek a úbytek již hotových výrobků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klady účtování: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úD – přírůstek výrobků 123/61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úD – úbytek výrobků 613/12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Zaúčtujte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úD – Přírůstek nedokončené výro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úD – Úbytek nedokončené výro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úD – Přírůstek výrobků na skladě odbyt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úD – Úbytek polotovarů vlast. výro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Ing. Pavel Štohl – Učebnice účetnictví 2. díl pro střední školy a veřejnost, vydavatel vzdělávací středisko          Ing. Pavel Štohl, 20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8:22:54Z</dcterms:created>
  <dc:creator>Ing. David Holzbauer</dc:creator>
  <dc:description/>
  <dc:language>en-US</dc:language>
  <cp:lastModifiedBy>Igor</cp:lastModifiedBy>
  <dcterms:modified xsi:type="dcterms:W3CDTF">2014-09-13T15:49:12Z</dcterms:modified>
  <cp:revision>19</cp:revision>
  <dc:subject/>
  <dc:title>Účtování výnosů</dc:title>
</cp:coreProperties>
</file>