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EF80-F922-420B-890D-B0B442A842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F536-DDE6-4C00-9B35-49586EFED9A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3016-42C6-4A15-9905-1D20DFEA811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DCBD-02FC-4A79-91B9-0FE00D3CCD3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0383-95B8-4328-9360-7428D512D7C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3D36-441F-442C-839C-D3DC2645DE2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9274-D49C-4E2E-A7F9-7702EAC9912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E3F7-2719-4A62-954A-4EF35D1ED12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B7B9-B2C3-4F93-9385-C75FFD25721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D82A-BCFB-44D9-824A-2C0143D0E74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3621-516D-488C-B4D5-E2576BB6739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9F9-0032-49D3-9155-37BFAB39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390-22D3-4A6F-A649-E70CE931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ADF-07B9-45CC-A235-67839A25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FA3-2C71-4FC7-AF8D-359BC756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5776-00AE-46ED-AC98-6CD54115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0BA9-DA53-4A1E-A749-050F19F1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2EEE-00F0-4634-9718-22CC48AF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F399-F275-4985-B95E-DC3943B5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FCE7-4639-4B25-8D2B-3B740B5F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6A50-C2EE-4403-9CDC-C46CD7DA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64D7-A65D-4969-A796-50BE798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879-0421-4107-914A-29186F8F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73CE-B9AE-4A39-A521-519D7998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51EB-6E80-458A-9A3B-C8C9C2A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A8CC-D7C9-4CCA-A57E-A92C3E69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F135-C1BB-45E2-AD32-B623B0BC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ADD7-AB9D-4074-BEB3-BE15CE45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137C3-DEFF-4F37-AA02-112208B1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A7DAF-EF8B-4742-8F16-6E76765B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C4401-6ED0-44AE-A201-F27D3177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15FED-6F83-4937-8EA9-38203144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AC33A-3308-4D69-8A31-E2011494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CD9-CDFD-4E8D-B879-DB61DA2B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67844-DF44-451D-9398-D51B8009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AFAF8-009C-41D7-A69C-3C4E9851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E56AE-55DA-457A-A8F1-DD6EBD92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D0A4A-C07B-4424-8471-3479418E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3644D-20AE-4DBE-A40D-FDEC1AAB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788AC-D3A7-4F07-A140-83002F77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3D5E0-2002-4479-A280-B961987F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FE7-5457-43BF-BB05-985F04E2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7FB-AAF4-4531-B364-7D748663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C2F8-F7D7-47AF-9481-8BDAB448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C58-49A8-4A79-94F5-0E9E1E8D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B6D-ED07-4B71-BA98-77C7C913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22A-1830-435E-BA56-0AB7EEA9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FE93-6360-4E3E-9285-8F5E6A9C5B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3ED6-3D2A-418A-926A-A05F3EE6E6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40BB-B609-48B9-959B-1971798212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dej, trž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Prodej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rodej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kud účetní jednotka prodává svůj dlouhodobý majetek (který není ještě zcela odepsán) musí zaúčtovat zůstatkovou cenu na účet 541 – Zůstatková cena prodaného DHM a DNM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4360" y="62064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nos z prodeje se zaúčtuje na účet 641 – Tržba z prodeje DHM a DN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stup při vyřazení v důsledku prode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řádný odpis za část roku (poloviční odpi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ůstatkovou cena (VC – oprávk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řazení majetku z evidence (V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916280"/>
            <a:ext cx="726912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auto jehož VC – 300 000 Kč, oprávky činily 160 000 Kč, a odpis za část tohoto roku činí 30 000 Kč. Auto prodala odběrateli za 13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1413000"/>
            <a:ext cx="791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Odpis za část roku    3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Zůstatková cena       110 000 Kč  54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300 000 Kč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Tržba z prodeje       130 000 Kč  311/64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84360" y="98100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prodává neodpisovaný dlouhodobý majetek (např. pozemek) zaúčtujem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Vyřazení z evidence     541/03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V Tržba z prodeje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11/64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budovu jejíž VC – 2 000 000 Kč, oprávky činily 950 000 Kč, a odpis za část tohoto roku činí 50 000 Kč. Budovu prodala za 1 29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ále prodala obraz, jehož                VC – 80 000 Kč, prodejní cena činila 12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56Z</dcterms:modified>
  <cp:revision>50</cp:revision>
  <dc:subject/>
  <dc:title>Náklady</dc:title>
</cp:coreProperties>
</file>