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2C68-033A-41A1-A57E-22CBB987AD4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5868-85C4-4FA4-A073-ADC5686099B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C9DC-CC60-4167-B289-8376690903D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4058-5532-4388-A8BF-A430765F8D1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8F1D-9A80-4BA1-A91D-1E0D4637929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4BA1-14FC-408A-9B3B-11DC208A13A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381E-BF6E-48EA-99DD-5266C08A0D7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4B44-3452-4827-931C-801F5D16D51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47A4-AB9A-40AF-A756-0E7A6423B94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3028-9830-4D8A-83B7-8852C48666F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565E-8D1C-49DD-AAED-C0C65909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B692-6C6D-4078-9847-DB56A9AC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BF62-A4BA-4B3B-80AD-D0FCCC52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4D03-21BA-43C8-86E3-207E56B7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37C9-2ADB-49BA-A883-FCD65E50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5165-379F-4F69-BB12-E4A650C4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2C84-5AE1-414E-8B69-099BA881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06D1-E1CA-47F0-A157-FFD28525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3BCA-1403-4CEF-B44C-40ABBB8B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D509-7E14-40B8-8C74-15B615A6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2D0B-EE69-43EE-B0A5-F4398A6A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C319-128B-407C-9A47-014B0743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C6F4-DA01-47C8-A9FC-8C6BA4B1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2C77-8A06-4E76-AA04-56A1DD3C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7046-5A8D-4EA9-A578-A506FE9E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4456-3C7D-468D-8C39-CD1B3466A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FB04-84F1-4C49-B2D3-A57C13BD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D3F86C-8F6B-41E3-8206-1240C3A5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48CD18-6604-413D-A04F-78D40BA6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B8BB04-B80B-4C88-A04C-A02F281D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D4F9C3-15AC-48D5-B171-5C24D64A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6E97B0-B6A5-463F-B49A-672F8CA8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EEAD-6CEC-4618-9244-55D36458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36E064-C935-4C05-9F52-C1A4B401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F78D53-849C-4EAA-84FE-14384680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547D1D-3C97-4F64-BCAE-33FB8DDB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8207B4-D99A-4F12-AFCF-E89570F2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C190DB-9599-443C-84A9-6588B072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A73448-0539-47C7-ADA1-66D4737C2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EDE8C0-0FAD-448E-AEDA-9597ACEE5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B640-F305-4FBC-9D07-82254456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2610-B091-43FC-ABB7-047181A1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D3AF-1B55-4281-9E8D-2BBF436D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693F-83A9-40A2-BB83-9E074827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4F64-E431-413A-8B6A-6F5EC519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F911-85C1-4B38-8763-8EBF8429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9A04-7C12-407C-9931-53AF9EC85A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24B7-410D-4276-9019-D1BB729047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1228-ABEF-4376-BD13-29B237E6DB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yřaz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vod do osobního uží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19280" y="263700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Vyřazení dlouhodobého majetku do osobního užívání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Vyřazení dlouhodobého majetku do osobního užív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200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kud účetní jednotka (podnikatel) vyřadí dlouhodobý majetek z podnikání do osobního užívání musí zaúčtovat zůstatkovou cenu na účet 491 – Účet individuálního podnikatel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26920" y="1197000"/>
            <a:ext cx="6553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 (plátce) musí odvést DPH z vyřazeného majetku, a to i v případě, že je majetek již zcela odepsá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4360" y="1916280"/>
            <a:ext cx="726912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 vyřadil z podnikání do osobního užívání automobil jehož VC činila 390 000 Kč, dosavadní oprávky činily 150 000 Kč, a odpis za část tohoto roku činil 32 000 Kč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95280" y="1989000"/>
            <a:ext cx="791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Odpis za část roku   32 000 Kč  551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Zůstatková cena     208 000 Kč  491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DPH 21%    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  43 680 Kč  491/34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Vyřazení z evidence 390 000 Kč 082/0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 vyřadil z podnikání do osobního užívání počítač jehož VC činila 42 000 Kč, dosavadní oprávky činily 30 000 Kč, a odpis za část tohoto roku činil 6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aúčtujte odpis za část roku, zůstatkovou cenu, a vyřazení počítače z evidenc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40:09Z</dcterms:modified>
  <cp:revision>56</cp:revision>
  <dc:subject/>
  <dc:title>Náklady</dc:title>
</cp:coreProperties>
</file>