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5EC1-39AD-4B0D-B711-897841642C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C189-A21C-40A1-9D01-24B4E126803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57B5-AD04-40AB-BD44-738031B3479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5B3C-4A30-4304-98CD-1B978D826E6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A4B2-4C9D-4FA1-8EA5-C3CB7F36C95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DA42-A723-42F6-A9B4-B8251F0D065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41D9-3950-4D47-9305-7871698E31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3EB6-DEC5-4B72-A7F3-346827ED13D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A9C9-156B-43AF-BE20-04C5EE919F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4995-2B2A-4C01-B8E0-35A3F98114D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3E5D-E4A1-47AB-946F-18D39A687FD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46E-8D96-4921-B1FA-EF5579542BE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2128-FA1D-440B-8CB7-2A31D3C6E9D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52A1-B72B-497E-8E00-977E236923C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F222-8112-41FE-9BE9-9236C85EFAD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610-8BDF-445E-BD56-E34D0EC7D73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CE18-DC90-49EB-90B1-B619620F280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6F5D-7D0B-4E13-8AAE-C1C7F779870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1726-24F6-4E24-9EC3-94B608CF4ED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686-8922-4D44-AC5F-5C9F8520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8A2-739B-47A0-91A6-9D90B57D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CF0-B7F8-4AA5-890A-D045C6F3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D7F-7665-4B36-8F12-82C5341D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99BD-A483-4295-A17B-5375D6E0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A805-00B7-45A8-B6DA-FC3B7F30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EB8F-441C-4A7A-93E6-1A9960FF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78FC-E0AE-43C1-8DA4-503E34A6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3C49-8B5C-433F-8DB1-48A6FA43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1980-76F7-4380-B255-900CF53D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5932-02C7-4DF5-9400-12B525DF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480-58CD-4B97-A192-2684069E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9FED-0D1B-45C5-9ACC-1B3300C0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EEBE-0CAC-4039-BE18-74B62624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D6EC-FC18-4F49-B4CD-5AF306D6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88C4-6BE2-4165-AB8B-17D70E20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14E1-884D-4950-8DA0-BBB6CE11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E2F8A-4DFC-46A7-A7EF-22DB9E3B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2B6F5-10F3-4F13-A936-AC1B4454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F8755-3CAF-4C8F-BD2C-6A55735E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FE442-8E08-4989-81A6-1D307D9E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CE5AC-2EFC-4505-A2DF-A732B9A9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D01-0BC7-44F1-AA75-5CF540BE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F2076-8C49-45D8-9E85-B0C62140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33636-6498-4E96-A1B7-75481165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71568-318A-44F3-B20B-C880C6B6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899FC-7FA3-436E-81F3-6A6FCE6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5153C-B751-4A16-8733-A41BC9BA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D22BD-A5EE-4C41-911B-009F0D91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42F6D-862F-4330-BC5B-F59E17F2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DCE-1206-4DA5-88AA-B72B5D5F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512-84C1-40C8-BA23-9006609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994-0F80-4026-911F-39AD6387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901-EB83-4419-9AA3-29FC067A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A1E-05D3-4DB2-847F-7634197A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40B-1B67-40B4-A947-64245C6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AD3A-FB36-4D20-911D-BC5ADC874D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B16A-7ECA-4E55-A39D-004C071475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1996-53C9-4978-9CF9-775E907C1C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pis     =    Vstupní cena x sazba (v 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3276720" y="4005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476360" y="1125360"/>
          <a:ext cx="6335640" cy="390708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584360"/>
                <a:gridCol w="1582560"/>
              </a:tblGrid>
              <a:tr h="3589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 odpisová saz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 roce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 letech 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2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 vstupní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rovnoměrné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rovnoměr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zoreček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prvním roce        odpis =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stupní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koefici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 dalších letech     odpis =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2 x Zůstatková ce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 – n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počet let odpis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4572000" y="335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427640" y="4797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187280" y="1125360"/>
          <a:ext cx="6193080" cy="3818160"/>
        </p:xfrm>
        <a:graphic>
          <a:graphicData uri="http://schemas.openxmlformats.org/drawingml/2006/table">
            <a:tbl>
              <a:tblPr/>
              <a:tblGrid>
                <a:gridCol w="2529000"/>
                <a:gridCol w="1220760"/>
                <a:gridCol w="1222560"/>
                <a:gridCol w="1220760"/>
              </a:tblGrid>
              <a:tr h="35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eficient pro zrychlené 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prvn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dalš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výšen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ůstat,. ce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Příklad: zrychleného od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pořídila v roce 2009 osobní auto Škoda Octavia za 480 0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le zákona o dani z příjmů osobní auto patří do odpisové skupiny 2 (doba odpisování 5 let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ito zrychlené odpiso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042920" y="1916280"/>
          <a:ext cx="6577200" cy="3786120"/>
        </p:xfrm>
        <a:graphic>
          <a:graphicData uri="http://schemas.openxmlformats.org/drawingml/2006/table">
            <a:tbl>
              <a:tblPr/>
              <a:tblGrid>
                <a:gridCol w="1644840"/>
                <a:gridCol w="1644480"/>
                <a:gridCol w="1643040"/>
                <a:gridCol w="1644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ůstatková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Inventární karta   odpisový plá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6560" y="7461000"/>
            <a:ext cx="7696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aňovým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ý odpis, opr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daňový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aňové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(příloha 1)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irma při pořízení dlouhodobého hmotného majetku zvolí jednu ze dvou meto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ovnoměr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rychlené odepisován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volenou metodu musí dodržet do konce odepisování (v průběhu let odepisování změna není možná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a pokračovat až podle rozhodnutí podnikate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 případě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technického zhodnoce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ouhodobého majetku (přístavba, rekonstrukce, generální oprava stroje, zabudování klimatizace do auta apod. dražší než 40.000,- v jednom roce) se zvyšuje hodnota dlouhodobého majetku a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odpisy se provádí ze zvýšené ceny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ové skupin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ý hmotný majetek se rozděluje do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6 odpisových skupin,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a to podle předpokládané doby životnost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68360" y="836640"/>
          <a:ext cx="7488360" cy="4397400"/>
        </p:xfrm>
        <a:graphic>
          <a:graphicData uri="http://schemas.openxmlformats.org/drawingml/2006/table">
            <a:tbl>
              <a:tblPr/>
              <a:tblGrid>
                <a:gridCol w="1008000"/>
                <a:gridCol w="1224000"/>
                <a:gridCol w="5256360"/>
              </a:tblGrid>
              <a:tr h="76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pisov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p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pis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ro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vězí dobytek plemenný, kancelářské a školní potřeby plastové, kancelářské stroje, ruční mechanizované nářadí a nást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ě, koberce, cisterny, čerpadla, transportní zařízení, prodejní automaty, traktory, stroje, letadla a kosmické lodě, kolotoče a poutové atrakce, lešení, trolejbusy, nákladní a osobní auta. 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abrikované prostorové buňky z betonu, trezory, dekorativní sochy kovové, turbíny, výtahy, lodě, železniční lokomotivy, tramvaje, vozy metra, skleníky,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y a budovy ze dřeva a plastů, tribuny stadiónů ze dřeva a plastů, bazény ze dřeva a plastů, průmyslové komíny, vodovody a kanalizace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y, tunely, budovy, stavby, dráhy letišť, studny, dálnice, ulice, silnice, tribuny stadiónů kromě dřevěných a plastových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ovy hotelů, obchodních domů, muzea, školy a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Metody odepisován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vnoměrné odpisování (lineár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rychlené odpisování (degresivní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1:54Z</dcterms:modified>
  <cp:revision>50</cp:revision>
  <dc:subject/>
  <dc:title>Náklady</dc:title>
</cp:coreProperties>
</file>