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12C-2CD7-439D-B1C7-8D8FEE4162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3195-F3FB-4514-9829-37D5B15630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9DBC-52FF-42F4-80D5-8624368B98D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7616-6DAA-4EAF-86B7-B67709C749E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4A44-2651-4104-986F-3C36A976F3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EFCA-1172-497A-8C4A-6E9DD62EFC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77F-45BD-4395-AA78-5233F194472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D8C0-7E31-4FEF-AE2B-ECEBB0FD2D4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0E5-41BB-4ADF-8CC4-F051C4758B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7A67-FBE3-41BD-B601-FD4F0CD74F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D06-F875-4261-9F41-803EEAD8131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5ABB-633C-4130-9342-9337AF6FBD5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5D6-D8B9-464D-AE39-C84695B9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164-86CC-4731-A4DA-B3A5162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CD1-9B6C-461B-B8C5-F2ECBB20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FC3-B8D0-4654-B3DF-DF8C0699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CE6-7E06-44D7-8BE5-C7F6E9D4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83B7-16E9-4DE1-A792-25EEC0BC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C5BC-3513-4062-8905-7E2DB17A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8BD-530E-48F7-98E2-0123CEC2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A7CC-86CB-4E6F-A4CA-2BAD16A7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CB14-5442-464A-AD34-96A1D9D1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89D7-B1B1-415F-BFE6-13C686A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DEB-115D-4B92-B7E3-D77C1FBE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B9DF-92BC-476A-A9BB-24C74E88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0747-2EF7-40FB-B49C-608BEDF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10EA-45D2-491A-B525-9A26853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950E-9457-4CF0-865E-53FB1200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DF70-102C-4700-9B77-51E0EAF7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939BC-1EFD-48BC-A56D-7887DE29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EDDD3-41D1-4C9A-A048-0CF70F3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5D0DC-462D-4118-8957-7DDAD072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A5E66-FE62-4808-AE7D-07ABAE2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D8B57-46FB-4665-8D36-E80B9211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D66-8709-4538-A605-7F782BF6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0706A-A41C-45AC-81F3-488EAEB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8CBE1-C026-4EE3-AAD8-CADADAA7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F199E-48F8-4101-8D9D-ED5A901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CE180-6FDF-4078-B285-B80B5F1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65896-EDFC-4510-B52D-54DAAE17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B0988-9595-4B91-82F2-99086759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2EFB1-3F51-4F0B-9BB2-1A7EB8FA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488-C41D-4E75-8C0E-3D76B22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E67-0809-47AE-B580-9FD759C6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0E9-C79C-4963-AEA4-ACB97171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F77-B43A-447D-B724-27060264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D83-FBC4-4608-98D1-412BD561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B7A-01E2-4D24-917F-47B5055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140D-B357-460E-B095-27F8E47D8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B24C-D207-4EEF-B2E4-4E2A49D99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8989-DF5B-4531-8064-1F86697145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628640"/>
            <a:ext cx="7696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nechala nainstalovat  (na fakturu) do služebního vozu klimatizaci za 18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Instalace klimatizace  548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41792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technickým zhodnocením u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e, rekonstruk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Technické zhodnoce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Technické zhodnocení dlouhodobého majetk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stupní cenu můžeme v průběhu užívání majetku zvýšit o technické zhodnocení (modernizace, rekonstrukce, nástavba, přístavba) tohoto majetku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ým zhodnocením se rozumí výdaje na nástavby, přístavby, stavební úpravy, rekonstrukce a modernizace majetku, pokud převýšily u jednotlivého hmotného (resp. nehmotného) majetku v úhrnu ve zdaňovacím období částku  40 000 K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6836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Modernizace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je rozšíření vybavenosti nebo použitelnosti majet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Rekonstrukcí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e rozumí zásahy do majetku, které mají za následek změnu jeho účelu nebo jeho technických parametr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. topení v budově, klimatizace v osobním automobilu apod. (pokud bylo provedeno v hodnotě větší než 40.000 Kč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Technické zhodnocení nelze zahrnout do nákladů jednorázově, ale je nutné o jeho hodnotu zvýšit pořizovací cenu (resp. zůstatkovou cenu) příslušného majetku, a to v tom zdaňovacím období, kdy je technické zhodnocení uvedeno do užívání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provedla zateplení správní budovy, kdy fakturovaná částka od dodavatele činila 395 500 Kč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tován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P  Zateplení budovy      021/32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robné“ technické zhodnoc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4360" y="1196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na nástavbu, přístavby, stavební úpravy, modernizace a rekonstrukce, které jsou do            40 000 Kč lze účtovat přímo do nákladů, a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hmotného majetku na účet               548 – Ostatní provozní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u nehmotného majetku na účet            518 – Ostatní služ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8:19Z</dcterms:modified>
  <cp:revision>46</cp:revision>
  <dc:subject/>
  <dc:title>Náklady</dc:title>
</cp:coreProperties>
</file>