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70DA-6DE7-4C11-B6BC-41CFD020F6C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B18E-56B2-446F-86DE-B8251FF0B97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DDAD-A3D9-4FC3-A60A-C4F6CD1786D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BE8E-120A-4C02-90A6-B35DB31E5A7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C46F-56E4-4B1F-91AC-10176C4D98B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C466-F27A-4324-BBA6-4593AF2922C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7507-B582-457B-8C15-A5B2AEE786D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E782-4B5E-41C9-940A-281F95BD056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24EF-47F0-4F7E-A97C-A77CC05E33D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5A6-40F1-4597-8902-5AE30516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6FB-035D-4987-85B5-931BED77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DC5-3FFB-4971-922A-4CECA236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B87-5A34-4017-BF34-269EC5BE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4578-7ADB-47A5-8D7D-1EF24640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D8D5-3F59-4C75-83BB-8DEE8220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8B29-1E83-43BA-A365-BCCC5DF1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F35D-F7FB-4D6C-977B-45204EDB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539E-C74C-42AE-96F6-4907E7DF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E109-A264-4DC3-AA7F-AD4A0603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C56A-EA5A-4022-8088-8CEF67CF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7BB-C280-4647-903D-AE8DA65C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D3EC-EF52-4EFE-9536-255EC4DE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67A0-72A4-4802-A149-172E1CB4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7291-DD68-485C-9CCD-38411056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6A6A-CFB0-4E1C-B516-55174C0E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6D41-B261-46A2-84E7-145C6576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2C6F8-2A24-4917-9D9E-700D3403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2D43F-EC84-4967-9CAD-6FC08C37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B806D-6C57-4A22-AD0C-CD23EE18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84817-0D52-41AE-8112-2762CE8A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B023A-0164-4624-B9CD-A0F56B91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D61-5814-4C35-BFCC-A124203F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5C6CA-052A-4763-91B6-82B628E1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618FF-EEC6-415B-9E4B-52C4605A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A3612-A948-4E4D-91EF-EB0CD248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8F17C-98F9-4AEA-8EBF-F9409A42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1E783-DD1B-4DE6-A5E6-10C4EB55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98146-64DE-483B-B6ED-BCC1EC09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1F6BB-2DE1-4FF8-A028-796C27C6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658-791F-4B1A-9C14-8A07164C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E72-0E70-43DB-824A-7798F4D0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67E-B39A-496E-80D1-B0C567A4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C92-0B65-49DA-8D23-6E3A80BF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13B-C7D7-4BC6-90C2-A01C1BCA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951-5E73-4423-935C-455AA478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C6C6-4157-4403-A1A2-CEC69354AF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0C2A-9F5C-4EF8-9D0E-001426FBAE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9FE8-3FB2-47CF-89CF-12E72528CC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louhodobým hmotným majet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louhodobý hmotný majet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191628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Garamond"/>
              </a:rPr>
              <a:t>Dlouhodobý hmotný majetek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Dlouhodobý hmotný majet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DHM zahrnuje: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ozemky, budovy, stavby (bez ohledu na pořizovací cenu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samostatné movité věci, jejichž vstupní cena je vyšší než 40 000 Kč a doba použitelnosti delší než jeden rok (např. stroje, dopravní prostředky, inventář atd.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ěstitelské celky trvalých porostů (lesy, louky, sady, vinice, chmelnice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ákladní stádo: užitková zvířata (stáda krav, kozy, ovce) tažná zvířata (koně, voli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2 - DHM odpisovan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1 – Stav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2 – Samostatné movité věci a soubory movitých věc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5 – Pěstitelské celky trvalých porost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6 - Dospělá zvířata a jejich skupi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29 - Jiný dlouhodobý hmotný majet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436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Skupina 03 - DHM neodpisovan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1 – Pozem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032 – Umělecká díla a sbír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33:12Z</dcterms:modified>
  <cp:revision>36</cp:revision>
  <dc:subject/>
  <dc:title>Náklady</dc:title>
</cp:coreProperties>
</file>