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46E2-8FE2-4ACA-9736-6D015836A32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28A9-304C-4719-B8A5-BE0D6269E22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A26C-B96C-4FD7-A82D-AE7779EF996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361A-F24C-42C7-B35F-E0E5B9A4A08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72B7-B945-497B-8031-F27453D5822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9191-24F0-4EDA-8663-5F2D8D966EF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F38A-8A94-4DD0-BDDC-CA25DDF453F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EF65-F91C-4C59-A0DB-8904D5D6A98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249D-A6DD-4EB6-8759-9A3A5B7F241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3505-5C98-4834-85D1-CA2394AE308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AF32-E651-46F1-A297-3249C2EF4B7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D86-3DF8-4704-9ED9-A8244F16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DFD-E56D-4FD3-8946-C96F702A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D94E-30EF-43F5-932B-1EC068AB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EB3-923A-4620-A347-D3BABC9D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0F42-F419-4C05-8AAF-B1BCD4B1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FDCC-6C8E-4132-9E19-C2151B21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083F-E274-4BAB-BE42-46584679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FF34-CF8B-42C1-B089-A13AB942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51AB-CA9F-4E38-9EAE-EE540310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2902-0B8A-46C4-8DE1-F4C4116F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DC32-5C8F-465C-B601-602FD612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D9D-01B3-44A2-A7EE-A28C8492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D10C-1CF8-425C-BA59-986E712F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2804-9D60-4756-AFA2-D7934F29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8024-598D-4A0D-A0A3-B0EB297D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4A8B-BDD2-4DD3-BAEB-73AB0B74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2EEB-FBA9-44C5-B795-3CCD66FB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B0E3A-30F0-4A35-BEBF-14976633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82418-4B42-4F05-9069-64253D73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A5205-38A4-4AF6-9EB5-D1A523FA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934B6-658A-4823-8CA8-4B355156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4765F-C17C-422D-A00E-C29B5DDC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9A2-0D0D-4551-BB75-91126795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59D8E-06E0-49EE-AF93-9A6C1866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03590-DB6A-47B4-9D07-DD68A332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70FC7-FFD4-48F0-AC74-8575CF01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30F2A-AF8B-486A-9CE9-175CD1F7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5149C-1350-4140-AEAE-793AABAD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7CFE4-8F83-48BD-8298-85095C29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A0C79-CD9B-4394-9B77-DC93DCDC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4AC-CD46-4E9A-9F17-60FF7AAA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084-7E4B-46F9-873A-BB2806A2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7BF-F60F-4C36-B5A2-D4E22348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24E-932F-49A5-8A19-3239DA6A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CAA-7BCE-49A5-8A15-52691DEB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120-BC98-41B1-BD39-E1E6037D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86E4-E5D4-4217-8469-90427320C1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5A53-1B90-4805-8E5E-D6E70B1CA4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5248-42C8-4E58-9C51-4C7A969A27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e zálohami u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álo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63640" y="2349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Účtování záloh u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 záloh u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i pořízení dlouhodobého majetku dodavatelé často požadují zálohu po odběratelí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ato záloha představuje pro odběratele pohledávku vůči dodavateli, která zaniká po dodání dlouhodobého majet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 vyúčtování dodávky se poskytnutá záloha zaúčtuje jako snížení závazku vůči dodavateli, takže odběratel bude platit dodavateli rozdíl mezi částkou faktury a poskytnutou záloh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užíváme tyto účt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51 – Poskytnuté zálohy na DN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052 – Poskytnuté zálohy na DH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4360" y="148428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oskytla zálohu na dodávku stroje ve výši 50 000 Kč. Dodavatel uskutečnil dodávku, kdy vyfakturovaná částka za stroj činí 120 000 Kč. Tato faktura byla následně uhrazena z B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68706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Řešení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79280" y="1484280"/>
            <a:ext cx="827424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bú – Poskytnutá záloha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50 000 Kč 052/2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FaP – Dodávka stroje     120 000 Kč  042/3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úD – Zúčtování zálohy    50 000 Kč 321/05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Vbú – Doplatek faktury    70 000 Kč 321/2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343080"/>
            <a:ext cx="687060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oskytla zálohu na dodávku softwaru, a to ve výši 30 000 Kč. Dodavatel dodal softwaru v hodnotě 70 000 Kč. Tato faktura byla následně uhrazena z B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0:50Z</dcterms:modified>
  <cp:revision>62</cp:revision>
  <dc:subject/>
  <dc:title>Náklady</dc:title>
</cp:coreProperties>
</file>