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7D66-7F1A-4D85-9E9A-4454CCCC30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D97F-C7C0-48EF-953B-757753CAF08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6D7D-AB42-4F09-A621-5F97EA0A893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E4FD-6E33-4DA3-BFA3-2E0E6E5E1BB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A0B8-27CA-4478-A57A-B9C4B4AB499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823E-3CB0-4FF7-8F43-C9E2D563607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FE4F-9152-4DA7-9E4F-02B426F2DA6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C7A7-B839-4062-A6D5-A25E301B645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F6B0-45CD-42BF-B1A9-2B81AD02A56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B0BA-9D6E-4EE4-B30D-A2BB2F77B18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7A7E-13CE-4308-B4B2-4330FF4A372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4A35-BBA3-4C98-BC9D-5CE04C91E4F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A0A5-5027-4C56-9761-DA2D8D8FFC6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EEA-F45A-4C80-BBDC-5F70D987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DA9-2161-44F2-9DB4-7DC88BB8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1131-0F93-43BA-92FD-A5DD930F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D17-F9CD-4C6A-8EA3-D640BD50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4FD6-86CB-42FB-AEE8-0C489238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A233-EC79-4CBA-9069-C13D5521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7A2C-DD2C-43B1-8936-2C342DB7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BE82-ED3A-452B-BE15-B9FADDCA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F830-37CE-4D83-868F-423555CE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7EDE-0177-44C9-977B-3671EDAD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0E96-3334-475C-8148-3CEE53AE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AF0-99B2-494E-BA45-B9046B0A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CBAF-34B1-423F-8FFA-4C213454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80CB-372F-45F9-9878-BBEB4E9C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936B-E005-4102-BC4A-62A2765F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4170-91E7-423E-86BA-7EE6E69F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7857-20BE-441E-9A7D-5C69579D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CA69E-1FDF-4726-9BED-6A263BAB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50966-8708-4D99-93C9-5F4B9A0A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9737D-FB48-4BB3-B202-A4E6B7B3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3E0CB-00E6-422E-9B37-10DCDF69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9FC5A-8D81-48DA-9213-D81B591E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D11-984D-46E4-8C92-30A92103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DA62F-B6F5-4123-97DE-FC7BD2F0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AA399-CB82-4FD3-AD9B-6B68A01B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463DE-7206-49A5-BD01-CFAED6D1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D07FF-27EB-4100-97BB-F6B388A4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97803-88AA-4BB3-AC1F-B93CB085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740ED-E0D2-4C2E-AE46-F52D3B50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78910-3DEA-42B5-AE21-153053A9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EAC-36E5-44DC-BD55-00B46E72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E01-9089-4CF9-8E6B-31A66CF9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BD5-647C-43CD-9BAF-719BE9B4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885-F028-473D-9468-1A1ABD65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DD1-D23B-4CA1-B145-1AD6ACA1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148-B57E-4908-972C-983ABC9F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3C3A-431C-42E3-B6D9-6176878D12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EE1C-CB87-486E-8AA8-64DBF47A67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2CE8-FC8C-49CF-8FD5-654D832E55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Odpis za část roku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5 000 Kč  551/08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Zůstatková cena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35 000 Kč  582/08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Vyřazení z evidenc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70 000 Kč 082/0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 Předpis náhrady 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n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40 000 Kč  378/68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vyřadila v důsledku krádeže stroj jehož VC – 175 000 Kč, oprávky činily 90 000 Kč, a odpis za část tohoto roku činí 18 000 Kč. Předepsaná náhrada od pojišťovny činila 62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kody, manka, živelná pohr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Garamond"/>
              </a:rPr>
              <a:t>Vyřazení dlouhodobého majetku v důsledku škod a man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Vyřazení dlouhodobého majetku v důsledku škod a man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129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vyřazuje svůj dlouhodobý majetek (který není ještě zcela odepsán) v důsledku manka či škody musí zaúčtovat zůstatkovou cenu na účet 549 – Zůstatková cena prodaného DHM a DNM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4920" y="836640"/>
            <a:ext cx="79916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i vyřazení v důsledku škod se předepsané náhrady zaúčtují do výnosů na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648 – Ostatní provozní výnosy,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se souvztažným zápisem na vrub účtu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378 – Jiné pohledávk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náhrady od pojišťovny). U manka použijeme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335 – Pohledávky za zaměstnanc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95280" y="76464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by se jednalo o vyřazení v důsledku živelných škod (záplavy, povodně, požáry atd.) použijeme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582 – Mimořádné škody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edepsané náhrady zaúčtují do výnosů na účet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688 – Ostatní provozní výnosy,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se souvztažným zápisem na vrub účtu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378 – Jiné pohledávk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náhrady od pojišťovn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 vyřadila z majetku odcizené auto jehož VC – 350 000 Kč, oprávky činily 200 000 Kč, a odpis za část tohoto roku činí 30 000 Kč. Předepsaná náhrada od pojišťovny činila 10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1413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 30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 120 000 Kč  549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350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V  Předpis náhrady 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jišťovny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100 000 Kč  378/64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 (živelná pohroma)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 vyřadila z majetku stroj, který byl zničen v důsledku záplav.           VC – 70 000 Kč, oprávky činily        30 000 Kč, a odpis za část tohoto roku činí 5 000 Kč. Předepsaná náhrada od pojišťovny činila 4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42Z</dcterms:modified>
  <cp:revision>53</cp:revision>
  <dc:subject/>
  <dc:title>Náklady</dc:title>
</cp:coreProperties>
</file>