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96AC-2FBC-4A9D-B925-63AC4AF216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5737-15DA-4144-807E-E43ADC9DFC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3817-7055-43AD-87BA-60F2DA24A21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C752-3249-4434-A96F-EA5DDBE8522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A95B-EF25-4536-846E-BF3B5865D5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9D4C-86B3-4A09-AE50-221FCA941F5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646F-95BE-4A63-BFBA-8AC198E0118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5852-74DD-47FB-8538-0A3EFFA2B67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8ADB-B47A-453F-856B-914F2FFBE8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1C0-FCD9-498B-B625-DA79461D83B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41F-27E4-4472-9DA9-4ED36A6F8E3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A1C-A3B1-4CD6-B771-637C185BEC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F52-6239-48D1-8983-608091A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897-76BE-4C39-BF37-C122521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F7B-C219-48C0-B305-37A06D9C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C00-2EA0-40D9-9AB8-C1C33612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31C9-7A35-47B7-8821-E8506599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A995-B5E6-449E-9608-B2F1066B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F35F-21FF-4B94-9B90-E1F42CCB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1B0E-863C-48D1-9E92-502509B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424-ABF4-4496-8280-E69356A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FEB5-AFE9-4950-A7CC-83481C8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F6FB-C033-49D1-8FC2-D5D2DBD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0FE-B8D4-473C-9EB9-9A68A971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BDCD-1C64-4516-B9FD-026750E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7A63-EDB7-4D74-A63B-5A22253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2889-FC77-46FC-BBA6-25BBAC5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9C5-821D-48B4-A1F3-66925FAA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C809-3B98-4D7A-A546-42F6CD35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95FEF-5550-4CE8-A1C3-3DE3D714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70BF8-9DA8-4DD4-9626-EC0D9A09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33756-0776-4F6B-A62A-7729AE1A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371C9-6D91-4B76-83C2-BD4C728C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92550-135E-4DA5-A8D9-E0993284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16B-2411-4BDA-84DD-46B60602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CDEDB-B9D4-45F4-AD69-8F9ABDA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AA0FB-750B-494B-9536-D2722963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00AF9-A5DB-406B-9F57-C61B01E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BCE17-EE75-47CE-B071-C414D14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80BE9-BEC6-471A-97BA-559A4AE1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8B892-0B8A-4E66-982F-7E1E832D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11CD3-18E7-4F4C-87CE-27E9F9F8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016-B1B7-41E5-9920-27EEFA1A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44E-E59F-440E-83AF-B71ABA84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848-D026-4D26-9A2C-FE07C85F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F7D-E9DE-4FE8-B710-565B7B2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7A9-F7BB-4D64-8121-4726C9D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42A-BCB2-434E-8C5D-F2BDEBE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527-BBE1-4AB2-A33F-9D3030CB54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FCC-2549-4ED8-88B9-767D3F71FD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7B4C-9AD2-4A81-B273-E5A8625C63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účetní program u dodavatele za 75 000 Kč, instalaci provedla vlastními zaměstnanci, a to ve vlastních nákladech 9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te dodání programu, instalaci a zařazení programu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poříz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ízení, zařazení d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19280" y="270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Pořízení DHM a DN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Pořízení DHM a DN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louhodobý majetek můžeme pořídi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up od dodavatele (výrobní zařízení, nemovitosti, automobi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onájem (finanční nebo operativní leasing – automobily, stavební stroj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ytvoření vlastní činností (stavební firma si postaví dům, truhlářská dílna vyrobí nábytek do kanceláří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bezúplatná forma (darováním, zděděním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klad společníka (v případě právn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eřazení z osobního užívání do podnikání (v případě fyzických osob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ořízení DHM a DNM dodavatelským způsob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557360"/>
            <a:ext cx="7696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ízení DHM a DNM účtujeme na úč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1 – Pořízení dlouhodobého ne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 – Pořízení dlouhodobého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á se o účty na kterých se  soustřeďují veškeré náklady související s pořízením DHM a DN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zařazení do majetku se dokončené investice převedou na vrub příslušných účtů v účtových skupinách 01, 02, 0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stroj u dodavatele za 58 500 Kč, přepravu provedla dopravní firma za 1 200 Kč. Pojištění přepravy materiálu činilo 1 400 Kč. Tento stroj byl zařazen do užívání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Dodávka stro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8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– Přeprava stroj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321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2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Pojištění přepravy str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42/211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 4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ařazení stroje do užívá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/042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9:14Z</dcterms:modified>
  <cp:revision>43</cp:revision>
  <dc:subject/>
  <dc:title>Náklady</dc:title>
</cp:coreProperties>
</file>