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4DE-D05B-4E5E-9463-8A49DDB2B1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7076-5CE2-4C79-ADF9-3B602C3F6F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636D-A1BB-4F73-B5D9-7053C32B6E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E9B7-051A-4E6D-A6B1-E19B367CBC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D856-8AC3-4FB5-B196-E854F247C62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1A3-52F8-4BE1-8EB3-134CD8AFD9C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7714-FDDE-4C74-891B-EEC398413E9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F722-7839-4CAC-8E1A-1EE597E0485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F9D6-3D27-4880-B018-DAD7D1922CE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40A-5108-4E6C-8BD9-ACD39272FDE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950-B338-4F65-99D2-6364CD9B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FE1-EEA3-4566-B55D-ED19FB6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0A9-54D0-4AA7-8594-E24851D7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EC1-BBD7-4ECE-8F36-33AE8B78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E286-B247-4DD6-A395-247B6575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E81B-833D-4D6C-BCFC-18430E15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510B-7D0C-4C96-88D7-C58788C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443-F0C4-474D-8670-E6FF590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6986-537A-4BF2-9D4C-FF8955C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8340-AB11-4BC5-81D6-D3798199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312-11F7-4E15-9D16-084E620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BB1-32E5-49A5-A9A7-95EA9FB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E2C9-5E9B-4022-B7DD-3083442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518F-ADFF-4214-9C4F-95E48E5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AC05-123B-4BEA-AD75-E7D98AAC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67F1-B4EA-428E-8085-47087489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65E4-05DA-49E0-A599-C13DE968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B994A-D231-4CF6-A18F-7B13C09D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C648F-19BC-4C71-B8A0-3724CF14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67109-12C5-41E2-AD7D-4D7EE03D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FF27F-BBD8-4762-83E5-2337AEA6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5A1BF-ABAB-4460-AD06-CFEDBDD0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614-FC2B-465F-85F7-D2F34ECC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4A63E-512B-41C2-9FD8-A6C1CA0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294E5-0FDD-4C4D-99B9-44F4DB5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A3681-8CB0-4947-B69D-2035796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BB710-6E44-4624-AAC6-B9A02EC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38C66-172F-4FD9-BD51-79747DBF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05BD1-CB2E-45EB-A709-18353739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B6151-D343-4C97-BB07-5B531CDB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197-07B6-4224-AE07-781E27AE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C53-5739-4AEC-90C9-EEF55967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1E0-450F-4546-AAE7-6273371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B04-2126-4C2D-9460-A39C8B8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0D8-9045-4D49-9C08-C5F5BC5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FE7-21C9-4883-BB67-177A5F8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4660-1B3B-4358-9BE1-EC20B0DE67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2DC-C7BC-43F1-BADD-FA44BB4E5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8D9-AD66-4AC6-B8ED-AA6449164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finanční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finanční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finanční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416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o dlouhodobého finančního majetku firma investuje, chce-li uložit své volné finanční prostředk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Do dlouhodobého finančního majetku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louhodobé cenné papíry, které podnik nakupuje na dobu delší než jeden rok (akcie, obligace, vklad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ůjčky poskytnuté podnikům na dobu delší než jeden r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nemovitosti, umělecké předměty z cenných kovů pořízené podnikem za účelem obchodování s ni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oubor movitých a nemovitých věcí pronajímajících se jako cel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6 – DF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1 – Podíly v ovládaných a řízených osobá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2 – Podíly v účetních jednotkách pod podstatných vliv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3 – Ostatní cenné papíry a po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5 – Dlouhodobé cenné papíry držené do splatnos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6 – Půjčky a úvěry – ovládající a řídící osoba, podstatný vli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7 – Ostatní půjč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69 – Jiný dlouhodobý finanční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2:58Z</dcterms:modified>
  <cp:revision>37</cp:revision>
  <dc:subject/>
  <dc:title>Náklady</dc:title>
</cp:coreProperties>
</file>