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C589-3DB2-4913-8411-45188C662E9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4A0C-C668-4382-AB7F-23B51553DE5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EC90-FF23-432F-90D8-F8DDE87AA5E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2D9B-73B9-4585-A3A7-AEE8674739F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42BB-5423-4726-8427-491E6DCF570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1FAB-DE3F-4B4F-BAA2-CE86243320D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CB22-E7BA-4847-A81C-723F7D458B6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0446-D8B7-4B01-B681-A808AF293BE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C75-0E09-4834-B4E1-F112AC29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F9B-52C7-43BE-B2C6-3CA23BC7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16B-CE56-4E4B-BC1A-E322A7C8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394-2443-4E6D-AD2E-434C689C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7E37-FCC6-4F41-ACE8-81D21F24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33B6-C7F6-47BE-8137-486B7688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87BA-A914-45D7-BCE4-2E3C2282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2531-CB64-4A05-A806-1553339B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195E-5CCE-475C-A849-95E06386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0461-AE4C-420A-947C-FC2381C9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1F34-7C9D-4165-81FB-C4FE7FE8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CE8-B2AD-40FF-8982-1C88C776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F04-BAAE-4414-B832-B90E01E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A8B3-E002-4D4E-8A0E-8B6F47B1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4F32-FB29-48DC-B98F-8A96C6AE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1A57-8FB8-4056-9338-3965E7F6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63F9-C8DF-4601-9E60-1E5C94A4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E96D5-2DC0-4E08-B55A-63175672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41D9C-4417-4CB4-A644-02B6A68D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E092B-DA33-4998-BFC9-9164AF7F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64FD4-1875-4E64-A3A4-407733A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5E206-653D-44A0-BCC7-05E5AF21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169-FE16-48D6-AA27-857C136F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06722-C581-4ED5-99B1-AEAFA0BE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05452-8F9D-4807-A802-562B15F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7B936-3AE7-4A1B-981D-979C912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4C981-F98D-4B90-B664-CC89AA4D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61594-0F7F-4FC6-BF64-9763B110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810C6-84CE-4067-8981-2A8C7FE6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A4579-B798-454D-BD74-02C0992B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504-BA72-443C-81D5-1B90B7E0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306-03E0-419C-9699-8268756F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092-F7A1-4C54-A664-A2DBF033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D2E-78C3-4379-A632-DA0F20CF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3CA-FCE7-4F7E-96F3-232C5456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257-DDEE-43E5-965D-951A3CE4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1DBD-F2B4-43AF-9739-F7DE7B0B7F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B05C-B135-4217-8D9F-E478492B3B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2A35-5387-4D58-BA29-6A2AF8E65C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ne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ne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ne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Dlouhodobý nehmotný majete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ehmotný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představuje majetek dlouhodobé povahy, jehož cena je vyšší než 60 000 Kč v každém jednotlivém případě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mic Sans MS"/>
              </a:rPr>
              <a:t>Mezi nehmotný dlouhodobý majetek patří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oftware (počítačové program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cenitelná práva (know-how, patenty, licence, autorská práva, goodwil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ehmotné výsledky výzkumné a vývojové činnosti (recepty, technologické postupy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560" y="1341000"/>
            <a:ext cx="7696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1 – DN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1 – Zřizovací výd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2 – Nehmotné výsledky výzkumu a vývo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3 – Soft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4 – Ocenitelná prá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5 – Goodw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19 – Jiný dlouhodobý ne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26Z</dcterms:modified>
  <cp:revision>37</cp:revision>
  <dc:subject/>
  <dc:title>Náklady</dc:title>
</cp:coreProperties>
</file>