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AFFE0-750D-4E12-A297-5BDA35BC00B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55B4F-4322-4498-BCD9-1E26DE32B465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8BDBD-FB4F-4A20-980B-BBFEC6BA1CB6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11743-537D-4702-989E-C160B6882A35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AC464-8870-43F1-8DC1-6A1C2209D2C4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459C6-C91F-434C-AD25-9C8CDD078386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7BDE1-2C20-46A4-BDFC-D0642E604DD2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2B16B-E4DF-448D-9A9D-98C9DC8E3CD4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9B3CF-8A6E-4C5B-B745-DBB9DA09A159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C5A85-262B-467A-BB3D-A1E515FF4962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8998F-9392-4CC6-A6BA-E4F3CD7E6600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5902B-CFFD-4787-BDEC-C70229F4AD1B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DBD78-B28A-4482-ABBF-81DBD2EDA975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4B68-7C39-408A-BFDA-C2DBBDE04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8781-E71D-4257-97A3-D49CF94C7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39B6-6147-482A-BEAD-8BD3B8A67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F05A-4BCA-4D40-BC88-652F290E3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6266A-AE7D-443D-AEFE-5F2F73E62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06D29-AEC2-4547-B2A5-5D8222CF4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9E9C7-F906-4D59-9FA5-1FDF7D38D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C3BD6-C779-4219-BA9B-F8E2809ED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D6EB7-A1AA-4594-B113-57B770F8A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6AE8A-3A66-4E46-924F-2041B031C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6AC77-5EE0-49E9-8E1F-7BE16337E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5D0C-F0C9-4053-B2E9-9E1E1D72B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83D31-0874-420E-96F0-E131AC23E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4129B-8DE5-4516-81AC-33CD1FD07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E7487-A9DD-4EA3-9E4D-049719978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1F029-F3EE-4B5E-B206-5C54D1A0A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D60C7-EC5F-4745-9F06-02AE694C0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0C7BBC-AE83-4256-BAC2-42C3D58DA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EB4AB2-76F2-49FD-817B-27F372AAB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82B4CF-2E63-4B16-92D4-D5D71883F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BAFF33-A45D-4311-85D2-048586873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972B09-8099-45AD-BD6B-C504494E0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0F38-1490-47F6-9E77-D48C1EA96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EF7F7B-22DF-4C8F-9AEE-4EA848E26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7EEB63-8DE7-4874-8D0C-209FE0D0E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5089E9-D186-4D89-8A9D-4F304CCB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A1158F-2DD2-44B4-857C-0A6C1E53A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1629F6-0089-40B3-95ED-B2E4E7375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53571D-F5AA-484B-BB53-818C89118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2AF56A-C559-4BD0-BAD4-D8EC5D4D2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7DB1-61A6-406A-A87B-0FED3B519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5416-2915-4414-9DF8-4131FF8EF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9C7E-F445-486E-AD4A-C6F92B6CA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7403-9497-420F-A0DF-E5FD29B6F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13D0-012E-4B8F-B98E-91903B24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28FF-8F72-4FC1-9CE0-095CF7AFE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5F15A-ED77-449D-8CC5-77D65A41B09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B6F0F-360E-4BFB-8725-D589572F776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1536C-B009-4EBA-9DE8-460A4210595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4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2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Příklad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1196640"/>
            <a:ext cx="769608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irma koupila auto za 300 000 Kč. U tohoto auta stanovila rozvrhovou základu na předpokládaný počet ujetých km, a to na 200 000 km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 roce 2012 bylo najeto 12 000 km, v roce 2013 - 35 000 km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Řešení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1483920"/>
            <a:ext cx="769608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Odpis na 1 k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300 000 Kč/200 000 km = 1,50 Kč/k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Odpis 201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12 000 x 1,50 = 18 000 Kč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Odpis 201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35 000 x 1,50 = 52 500 Kč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468360" y="1413000"/>
          <a:ext cx="7991280" cy="412884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louhodobý majet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účetními odpi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í odp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76360" y="1916280"/>
            <a:ext cx="6400800" cy="22730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Garamond"/>
              </a:rPr>
              <a:t>Výpočet účetních odpisů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687096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Účetní odpis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42920" y="1484280"/>
            <a:ext cx="7416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Účetní jednotka si sestaví tzv. 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odpisový plán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, podle kterého postupuje při výpočtu odpisů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Účetní jednotka si stanovuje účetní odpisy pro jednotlivý majetek např. podle předpokládané 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doby použitelnosti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nebo podle 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objemu výkonů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1. Výpočet odpisů podle předpokládané doby použitelnosti majetku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Účetní jednotka si sama stanoví životnost majetku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stanoví si počet měsíců po které bude tento majetek odepisovat, a to rovnoměrně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tyto odpisy se zpravidla počítají s až od prvního dne následujícího měsíce, kdy byl majetek pořízen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Příklad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11280" y="1700280"/>
            <a:ext cx="769608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irma koupila dne 5.8.2012 stroj za 240 000 Kč u kterého stanovila životnost 48 měsíců. Odpisy zahájí od následujícího měsíce, kdy byl stroj poříze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Řešení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826560" y="1628280"/>
            <a:ext cx="769644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ýpočet měsíčního odpisu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240 000 : 48 = 5 000 Kč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ýpočet odpisů za rok 2012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5 000 x 4 = 20 000 Kč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Úkol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11280" y="1413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irma koupila dne 10.5.2012 výrobní stroj za 135 000 Kč u kterého stanovila životnost 54 měsíců. Odpisy zahájí od následujícího měsíce, kdy byl stroj poříze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ypočítejte výši účetních odpisů za rok 2012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2. Výpočet odpisů podle výkon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826560" y="141300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ychází se z předem stanovených výkonů (např. u auta z celkového počtu předpokládaných ujetých km za dobu životnosti auta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Odpisy se vypočítají tak, že skutečný počet ujetých kilometrů se násobí podílem pořizovací ceny na předpokládaný počet km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4:22:20Z</dcterms:created>
  <dc:creator>mirek</dc:creator>
  <dc:description/>
  <dc:language>en-US</dc:language>
  <cp:lastModifiedBy>Igor</cp:lastModifiedBy>
  <dcterms:modified xsi:type="dcterms:W3CDTF">2014-09-13T15:42:14Z</dcterms:modified>
  <cp:revision>49</cp:revision>
  <dc:subject/>
  <dc:title>Náklady</dc:title>
</cp:coreProperties>
</file>