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4731-34F9-4FAF-BAE0-16C67CD66BC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45EB-F4AC-4B38-83E3-24BBFA70D23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409D-6AF4-49CC-91B8-92E930C7CB6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49AF-E5BF-42ED-9989-A98C9E7686D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C7A2-BF60-4090-96AA-CC607DA6DDD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3DF1-EAF8-449E-9423-E91C13C3D97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0A96-ECE5-4640-90B4-6BC0E2385E3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2B2B-ACB1-4BFF-B6C7-341FB238975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ACCA-7F22-4DC5-A2C9-F419CF8CAE3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47E6-43D8-410A-9E8D-81F2D9E4CE7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AF84-E3FA-4EF3-B100-A2A85A90C56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50F4-275A-4B52-BDB0-218F51E9CD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B18B-54E3-4185-AEFA-BC19133DBA5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4F8-DB1C-4E13-A230-0F11A43D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9EF-70FE-471E-9572-D31C07BD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B26-3551-4C66-B72F-7D889287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A5B-03F5-462B-A6CE-60598781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8FF2-076C-41C3-A545-D39F1F84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C72B-747D-4182-805A-28A1A612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8503-846F-408C-A6E2-BDA3F226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4E7F-2F92-4FE7-A860-B18987D5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9961-7BE1-48D4-BC89-ABD4CE61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0DEA-E529-4820-A885-12F9BF56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AC8F-65A4-47B7-8E35-4211C295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CFC-032C-4DA7-9186-74B7314C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1539-5AB2-4320-9FDE-80479A82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CB59-70D5-40C3-AA6C-6F92515C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BC0D-CB4A-42BD-AFED-ECDEBC34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EAFF-A98F-49A1-8A24-C0626CE5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F2B1-551A-4966-B592-C905B91F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24E0B-5E8B-4D99-9E4A-59032C5E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4AC33-077B-4911-B240-DD204351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41D02-6E87-4873-A43F-C4DB1D15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E1F28-85D7-4CB1-B283-33AD247F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1F67A-9BD3-4A7F-A955-CD2BC965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6D9-E27C-4ACB-A4F6-486B0D4B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73FA3-8799-4787-B95C-E5E206E1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EE404-44A6-4DCB-9A15-CBD437F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141D7-48BC-430A-9B60-DB06E4EE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A3DA6-BB59-424C-9AFE-C1223C88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B1196-67EF-4FB2-9BEC-078A3729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FB51D-9FD0-4208-B150-E5631A52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F2D43-05C3-46C1-A84D-19E4A4C9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EB4-8410-4FAF-A50C-9AD1BBBE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D93-D8ED-477F-967C-665E36BA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F58-5C2B-4692-AC3C-B7CFDF25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158-8FDE-4EBF-8DD6-FDCC48BF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026-C960-42C7-9E43-66BE665D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F07-807A-4288-98DA-438B9692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8B5F-AD5C-4BCF-B931-CAA5ED2F39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8D3B-0015-4536-ADDB-EEDAD251BF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9038-0F7B-4204-B0DA-04C643CB68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polečník vložil do společnosti dodatečné věcné vklady, a to pozemek v hodnotě 500 000 Kč (který zvýší hodnotu ZK) a auto v hodnotě 250 000 Kč (nezvýší hodnotu ZK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vklad pozem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500 000 Kč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31/41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vklad au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50 000 Kč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22/4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poří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r, leasing, převod z osobního užívání, vklady společní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statní způsoby pořízení DHM a DN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louhodobý majetek můžeme pořídit také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1916280"/>
            <a:ext cx="8131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arování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vodem z osobního užívání do podnikání (u podnikající fyzické osob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klad do jiné osoby (např. vklady společníků do společnos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836280"/>
            <a:ext cx="769608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ar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získá dlouhodobý majetek darováním zaúčtujeme na příslušný majetkový účet a na účet 413 – Ostatní kapitálové fo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auto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pozemek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1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získala darem ekonomický         program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3/4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1280" y="765000"/>
            <a:ext cx="7696080" cy="457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Převodem z osobního užívání do podnikání    (u podnikající fyzické osob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kud podnikatel převede dlouhodobý majetek do podnikání zaúčtujeme na příslušný majetkový účet a na účet       491 – Účet individuálního podnikate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atel převedl do podnikání své au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účtujeme         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/49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Vklad do jiné osoby (např. vklady společníků do společnost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účetní jednotka získá dlouhodobý majetek vkladem od svých společníků, zaúčtujeme na příslušný majetkový účet a na úče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1 – Základní kapitál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ři vzniku účetní jednotky) a vklad 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9 – Změny základního kapitálu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(po vzniku účetní jednotky) a vklad 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413 – Ostatní kapitálové fondy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okud vklad nezvyšuje Z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8:44Z</dcterms:modified>
  <cp:revision>53</cp:revision>
  <dc:subject/>
  <dc:title>Náklady</dc:title>
</cp:coreProperties>
</file>