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E526-EDE7-4593-A5D1-7148676412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1A3-0485-4AA6-8ABC-B89F2A89C6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4F38-48F2-4467-913A-897735C8FCE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A5CD-6650-4486-A112-3095F346417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BAB6-D75E-450A-9190-48FD8C6D4F5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7F7-9A59-440E-A626-37BC640A584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3F0-C0D7-4E11-A5D2-F8171C38135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AE76-B010-48DB-B51C-08F486AEEE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A64-0D7C-47CD-BB18-879FD96A20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8D7-6648-4561-AB8F-0D02DDB5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FDF-E567-4ED7-B7E6-2CE1C30C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9C5-C0D6-4972-ABAB-7534B50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6E4-0DC4-41B2-95E2-C618D771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F40-1FF3-4FE6-B6C5-E5645AF0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E0D7-B9F8-476A-A9FF-259080C3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0F47-C01D-4587-A092-E2295D1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B7BF-7D2B-4FB9-9663-0E217D6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3724-7CC9-471F-A951-419D7D5E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CC1-D872-4E08-BB58-D2D3AE50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CA1C-CFC9-4272-9B08-5401E68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65A-FCF6-474B-A519-A8F12521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6DAF-0B7A-475C-A038-9A35E72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ABA3-3F89-4358-A194-1D81080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299D-0327-4C4A-A467-48187DE1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FD24-354E-4F1D-AB4F-0D6DCDD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DBF6-3C86-4599-8002-F0AA495E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1EA39-9E51-48C2-95E6-F0D5699F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EBB1C-41A0-452B-B4BA-D8999CB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5DD11-A6A2-42BC-867A-651AAB70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0F427-FA39-40B9-AAB6-B5ABC9A8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CB9D7-AAFE-4F50-B2B4-5D3AD959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B72-22D3-4890-B2D8-7E447DE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981A7-CC9D-4D36-B6A1-8D8B932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D7804-09DF-4A32-A0A0-EF30E69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A1EFF-81AB-4C0A-975E-09A9DA2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1CD19-B7B1-487B-A625-2498D16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CD7BA-80D3-49CD-9849-1FFC9AC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0E204-306B-4078-B608-D298865D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A04B3-33EE-4002-99DE-0390F258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547-E289-4DC9-B69B-16E82E5D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439-26BD-4872-AB39-40DDDDFC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592-0C28-42C6-B0E9-4381E4BE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F49-CF14-4C77-85AC-E72B86A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F9A-CED6-4341-A3A8-86B5730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A9E-BD5F-4D93-A36D-B37F3FF4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5BDD-60FF-4317-A686-FAE379F03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8D7-5C85-4AC7-808F-A752B77ADF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532-5950-477D-9D2A-2AC94889C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otřebe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potřebení, fyzické, morál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potřeb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Opotřeb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majetek se postupně opotřebovává (morálně i fyzicky), po celou dobu své životnos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opotřebení vyjadřujeme odpisy (daňové odpisy se počítají za rok, účetní odpisy měsíčně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 v Kč udává velikost opotřebení majet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čet odpisů označujeme jako oprávk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dpisy jsou pro podnik nákladem, které účtujeme na účet 551 – odpisy dlouhodobého nehmotného a hmotného majet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Rozlišujeme opotřeb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fyzické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které bývá způsobeno jak vlastním používáním, tak i vlivem prostředí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rální opotřeben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prostředky (zejména stroje) ztrácejí svou hodnotu v důsledku výroby stále dokonalejších a výkonnějších prostředků (strojů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6:05Z</dcterms:modified>
  <cp:revision>41</cp:revision>
  <dc:subject/>
  <dc:title>Náklady</dc:title>
</cp:coreProperties>
</file>