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B01-4F80-450D-975A-E22752EAD9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1CD0-E0F3-4AF6-8AA3-22AC68F27A1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CDD-93F7-4D9B-A814-E0016FF3F1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D869-B461-4B16-ADE5-E0446F6ED08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3B01-3659-4DBE-A658-2A3E4E9359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0D08-D38B-4074-B533-D8DA691FDDA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A359-5C85-4651-BAFB-7F1EA91BDDD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8328-80C9-45DA-9526-F42247DB493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C95-66A8-4E1A-A751-9C2B5A5C225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F32-659F-4B27-ACB2-DBFAF9DF019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D36-E16D-46F0-8F09-CC4914FC5B8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82A4-22E3-44C2-B8B9-A88A004AB70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9F3-1389-4688-8611-EE781626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DEF-7C1E-4E79-8BF6-5FF5441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2B7-CCF7-4902-A349-E3B9680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1FE-CB51-4A79-B009-058AD510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FC5-25A6-49CC-9C6F-A01FF736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2F6-327B-4FA9-8A24-CC6E9C7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FE0-2198-464F-82A9-163F347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B73-909F-4D17-BEB4-C96F2CF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BF6-1840-423F-BD7B-883E9A6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2C9-AD67-441B-8979-DFD97419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0353-B01C-4170-B54B-6D29AF1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DFD-4318-491A-B523-7FF024F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41D9-7089-40F7-AD7B-9584E13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A36-7172-43FD-9841-63DEEB5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A9B2-261B-4B00-86B3-FBF3811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E6CF-F868-4DB7-87A3-56BBAA6D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7569-4BE1-45D3-A46C-F35D82C6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5BD8B-3CE9-4F5D-B022-2DBE06A5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EDC63-DA20-4EA3-810F-7755D55F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618EB-4FA0-4F6C-B8D8-9629E51E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9E80B-6D0C-4EDB-A259-934F047C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24164-FF0B-4FD5-B775-2E7DB34D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456-8C51-459A-84E6-ABB482C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F37A8-D5CE-44D3-AC05-B4C8CD0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FFE9E-08B2-4D94-BE01-987C1BC6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C7D0F-24EF-4DD1-9C33-4380AC4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E873E-035B-48CD-8A19-A7F42ED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F14E6-C2BA-4CF1-B083-331E03D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4C5FF-4522-431E-B2B8-38FA5B65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9AAF3-E55C-4CD5-B9EF-254D85D3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7DC-FCB3-45D1-9190-0FB7310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D7D-66D1-4E7F-B960-4263C57E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4A0-EBE1-424B-81DF-2DB2B09C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681-2FD2-4234-958D-C50D7B1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E88-0875-4A65-8E02-D02A99D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B68-41A2-47B4-868F-135BD786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4142-7B24-4CDF-A136-7DAC99E1A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85F-04E7-47C6-8B7F-78DB756194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987-4F4A-433B-AD16-FE07A5A9BA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Účetní jednotka si sama postavila garáž. Při výstavbě ji vznikly tyto náklad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potřeba materiál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85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zdy stavebních dělníků 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0 000,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Režijní náklady (odpisy strojů, spotřeba elektřiny atd.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0 000,--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lastní náklady činí 185 000,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ceňováním dlouhodobého majet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řizovací cena, vlastní náklady, reprodukční pořizovací c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, praktické pří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Očeňování dlouhodobého majetk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aramond"/>
              </a:rPr>
              <a:t>Oceňování dlouhodobého majet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omic Sans MS"/>
              </a:rPr>
              <a:t>DM oceňujeme tzv. vstupní cenou, ta může mít tři podoby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omic Sans MS"/>
              </a:rPr>
              <a:t>pořizovací cena </a:t>
            </a: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- cena za kterou byl majetek pořízen, včetně vedlejších nákladů (doprava, pojištění přepravy, provize, clo atd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vlastní náklady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vyrobíme-li si majetek sami, např. nábytek, výrobní halu atd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odukční pořizovací cena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- neznáme-li cenu, např. při darování, pak se určí odhadem soudního znalce (znalecký posudek) nebo podle ceny obvyklé na trhu v době, kdy jsme majetek poříd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ořizovací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ládá se z ceny pořízení a z vedlejších nákladů, a to např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Montá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růzkumné, geologické a projektové práce (u stave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10920" y="1197000"/>
            <a:ext cx="7489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související s uvedením předmětu do užívání (opravy), kolaudační poplat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a zabezpečení pořizovaného majetku (správní poplatky, poradenské služb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056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stranění stávajících staveb v důsledku nové výstav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učástí pořizovací ceny mohu být i úroky z úvěru na pořízení DM, ale pouze do kolaud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etní jednotka koupila v zahraničí (mimo EU) výrobní stroj. Cena pořízení stroje činila 150 000 Kč. Dále ji vznikly tyto náklady související s pořízení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lo - 30 0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eprava stroje – 7 8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jištění přepravy – 1 1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řizovací cena činí – 188 900 Kč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lastní 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4360" y="1413000"/>
            <a:ext cx="76960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sou to přímé náklady (materiál, mzdy, ostatní přímé náklady) a nepřímé náklady (výrobní režie)  související s vytvořením majetku vlastní činnost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5:23Z</dcterms:modified>
  <cp:revision>43</cp:revision>
  <dc:subject/>
  <dc:title>Náklady</dc:title>
</cp:coreProperties>
</file>