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B5BC-1B5E-4BFF-B0AE-D9482090893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72B0-93EB-422A-BB38-3D73A701D2C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05CF-462A-4AAB-AD70-7ED0F6C7CBF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A283-BDE2-4BF5-AD6F-292788787A0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717B-AEB4-4CDE-8187-4D0062C7A70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21A8-3110-401E-B800-51C70D8CBE4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0379-E16D-4DF4-9F3B-A959789C217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0F8A-6BFB-4E3A-B3D2-30B9EAF5890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DF85-0F2F-4957-A3ED-41F09E5850C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3E89-6A0C-41B6-A743-A50575BE619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DB2-81D8-4B6A-9A7C-C2674C01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A5A-2ED6-4C9B-B8C5-5A198025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9B02-645A-44F9-853E-CD8FAD3E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490-5CD8-47D6-9630-32B0CF4C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0784-BAC1-458F-B540-F51CE723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68B6-E74B-461A-8456-1F2066E5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04F0-90EA-4471-ADD2-1D422603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8A3B-6CAA-4762-9DA0-34D269CD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9A5D-3914-4A21-9890-C2912DF5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8321-4140-4502-B197-177F87D3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40AE-AA3A-4DB2-834D-681DDCA3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8DF-CEA9-4B7A-B87D-F1646286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3370-BE1A-4E36-956F-26DDE954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DDC5-52F6-4F52-9918-C8FB1754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9BEF-8F2F-461B-886E-04BC44A6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63E5-A99F-4656-AD02-C596F8DE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C8EB-9283-4475-AB33-A5DF82F1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6294E-DA6E-47E8-89E5-A76A1209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6904E-8F34-4666-A35C-64EBA4C0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95905-D44B-4264-91E7-8D296A91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BB3D7-7E9C-47B1-97E4-BA26F50C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CE4A3-8E20-4134-9F6F-CC10591C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0F0-9ACD-4916-887E-C176803C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BCD25-6D70-4096-81C1-C6373089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89F9D-8C73-4F80-AD34-A54B8711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388FF-CAFB-4BDA-83BA-2B1FDD25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FB063-AD4B-4587-A472-701199B1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A8D8C-F7F6-4DC2-BDE9-B852B589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ECAE4-45AD-400F-AD39-7499E890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60779-9CFF-4BBE-B1E2-B486CF46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6FC-2EE7-4481-9F08-2F7DCBD9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B25-D4E7-4D99-9274-7EC0DC46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B89-6349-4C79-A23D-0953BC24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956-2B43-4CDD-86DC-6693EC66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B75-3301-4176-A8CC-5BFA452B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D00-98B2-404F-B5D2-D266B3FC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B754-9859-44DE-93B9-A92705508E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AA61-482F-481C-A93E-C66ACAE23B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2C34-E8BA-498E-BBD6-633BAAD7B2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dpisy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odpis, daňový 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dpisy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68709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Odpisy dlouhodobého majet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Odpisy vyjadřují postupné snižování  hodnoty dlouhodobého hmotného a nehmotného majetku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Druhy odpi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1. Účetní odpi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účetnictví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yto odpisy mají vyjadřovat co nejobjektivněji skutečnou míru opotřebení dlouhodobého majetku ve firmě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etní odpisy si stanovuje firma s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4360" y="980640"/>
            <a:ext cx="76960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2. Daňové odpi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jsou upraveny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ákonem o dani z příjmu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dnik je musí brát v úvahu při výpočtu daňové povinnost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ákon o daních z příjmů stanovuje pro každý majetek dobu, po kterou bude odepisová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zařazuje jednotlivé druhy majetku do odpisových skupin (6. odpis. skupi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Metody odpisová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Firma může zvolit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omic Sans MS"/>
              </a:rPr>
              <a:t>1. Rovnoměrné odepisov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omic Sans MS"/>
              </a:rPr>
              <a:t>2. Zrychlené odepisování</a:t>
            </a: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11280" y="119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volenou metodu již v průběhu odepisování nelze změnit,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kon umožňuje </a:t>
            </a: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odepisování přerušit </a:t>
            </a: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a následně v odpisování pokračov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5:37Z</dcterms:modified>
  <cp:revision>43</cp:revision>
  <dc:subject/>
  <dc:title>Náklady</dc:title>
</cp:coreProperties>
</file>