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E9AD-3F9D-48D7-808A-96C5A87758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5EE1-2646-4522-A3BA-E1D011BD2AB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4818-ADB3-4874-82D9-02A397107D8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B336-BA16-45B1-80CA-A8FBF69D6D6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AC3A-199D-49F0-ADF7-827785A9C8D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6F25-4050-4957-8F16-E353FDDDE8E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87C0-CF3A-4644-85D2-625791AFE4C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FA56-07CB-46A6-A30B-9186C4FAB5A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D2A8-C6D3-4E60-8E31-02B839A9C9D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0910-E1B2-4C0C-92BE-AFDF711045B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C36-82DB-40A2-ACEF-943A0A92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E94-A7D8-45C0-BE0E-D63E782C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056-39E8-43EE-B8E7-085F7348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427-8279-46C0-B6E4-1FABF635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1EF0-7591-4B14-9106-22CEE536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8C26-E5D2-43E0-893C-91BB4E53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684F-DC23-4F76-A692-13DF8BAB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D59C-6C80-4D8C-8895-0B9F91C3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62BF-1141-4DED-B614-D4146BDD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D0AA-3B5A-47D0-B3EB-A38D27E7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CD3A-5235-423D-BA6B-5B833163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4EF-6A2F-4C8A-A99F-11EF8EB2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FF79-3A03-4A4A-A9F5-9B5385CB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A052-0EA1-471B-BF98-473E2056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A711-A4C2-4E17-A804-90797A79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13A9-6742-4883-B07A-8EE2EED7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0A7B-C428-4C35-909E-3F2C94DD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97AA1-2825-406C-B85B-FAD41564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7E944-691D-44AC-A86B-7152CC3E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65873-265C-4DC9-A362-A9DE77E9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EA340-E29C-413F-9F6C-F74B13CA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4D346-D80A-453A-BD65-699D0B1F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BB8-BA8A-443F-9F12-BC999D3B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0E8D5-1984-49EE-AA5E-1E6F99D2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B6850-B46C-4EFF-A0FF-694FD05E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9FDFA-0D9C-4AB5-9B92-B7938B03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3D472-FFDE-4027-8F10-6D0DD9BF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88C18-AE6E-4E1C-A9CE-D54B7881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294F3-1772-4FE6-8E0C-F52A8521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29597-5A15-4016-9FB1-9F088CB0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02F-60D1-4241-8430-3B4176EC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F31-0AD1-4C2B-8C86-457A83BE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696-A3BB-4C25-AA1E-241CABC1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D2D-AC3E-47AF-A669-BEA21330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378-4374-4EED-9BDF-FF2917A1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2FB-4B4B-4BD2-81A5-6BC61314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C584-B1E5-49DE-8238-7FCB0D57E4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BB6B-6416-4C03-953D-40FC1EB6A8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40ED-E7D7-40D3-81EC-B51B9BCA06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637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 v důsledku darování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 v důsledku darování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kud účetní jednotka daruje svůj dlouhodobý majetek (který není zcela odepsán) musí zaúčtovat zůstatkovou cenu na účet 543 – Dar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560" y="1197000"/>
            <a:ext cx="7270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případě, že dárce je plátcem DPH, musí odvést DPH ze zůstatkové ceny darovaného majetku finančnímu úřad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PH se odvádí na základě daňového dokladu a účtuje se na účet           543 - D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(plátce DPH) darovala škole počítač, jehož VC činila 45 000 Kč, dosavadní oprávky činily 33 000 Kč, a odpis za část tohoto roku činil 7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989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7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 5 000 Kč  543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PH 21%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1 050 Kč  543/34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45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1128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(plátce DPH) darovala nemocnici dodávku, jejíž VC činila 445 000 Kč, dosavadní oprávky činily 305 000 Kč, a odpis za část tohoto roku činil 25 000 Kč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odpis za část roku, zůstatkovou cenu a vyřazení z evid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27Z</dcterms:modified>
  <cp:revision>53</cp:revision>
  <dc:subject/>
  <dc:title>Náklady</dc:title>
</cp:coreProperties>
</file>