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4774-3B0C-4F0F-B9D5-3E5CCFFED7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E23-F17E-4CC2-8A58-02694FA9375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2AD-D3E3-488A-9D36-169D26BEFC3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F02-E413-4A01-9B5A-2D789A0C075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0642-A286-4B8E-8A6B-33B4D6B23F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EC80-580C-4211-9764-157FCD5C4B1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51EC-9CD6-4A67-A775-0014BF94614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CBB0-2818-4C91-9F2F-1D4EBB57B9F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20AA-5AD1-40C0-A94C-A092DA296C1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2314-6EC2-42FB-BDB6-5AA3DD6A79A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BB3-EBA8-4FF1-8987-4324BCBA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1C9-794C-486B-88E2-5D00E4AD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E6A-177B-405F-9230-FF4EF883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3E0-2818-4225-BB91-73BD0912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AEFD-A375-4980-9C6B-082AAD74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10EC-2B0B-460C-8B12-3066A40F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1C8B-A155-4BCC-B8A6-28E9F78B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EDC7-8C95-4D6E-9E78-71D30734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F4E8-C8CA-406B-89C4-18420E8D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7B64-6976-486A-8D3C-7DFDC3FF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D8E5-B1F5-42BD-B8FF-14224BD6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950-0B0E-4F01-B2F7-FE208696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51E1-77B6-4EEF-A0C0-B7E59BC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995C-9DC0-4C2D-AD8B-71C85C22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5FC6-4820-4BC6-91D9-5E8E2185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A95D-1B9D-4920-93C5-43A9C5A5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8BCD-E042-454E-A7DB-D66221FE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5E3DA-FEC5-4B77-B341-A0792097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E2154-0093-4003-A071-A529F32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C9867-759D-478A-BBF4-8C9FCF9B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881F5-2DCB-41F5-93E2-81CED221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E8CBC-0E0A-4AEE-B425-2D219884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C66-C833-404B-B29C-B9D0B057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7789F-06B2-42AA-90A3-B2F6CDCF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5B606-AFE5-4ED5-90DC-3DFC167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F33C7-0D9F-49D0-B3AA-37743B5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771C5-4314-40C7-865D-4E7653B3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0329E-5E08-4F2E-97DE-8CD92BE1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E2D5D-F0FE-4F35-B7D2-3624E40C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956B5-97A6-4FCE-A487-D56E65C0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273-FF77-400D-97CC-A72A7E80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46A-1113-4A4B-8ED9-ADC6DAA1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1B7-A834-4758-B24F-188C248A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F37-E759-42FC-9EA4-85FDF94A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26A-9B1B-45E2-968D-DBC42DD1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5DA-E469-4CC3-B68C-97FF2B71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5DD-27B6-42F2-9CA4-F51AE00EE3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9FD8-6B6B-4E99-B3CB-D62312EEE2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08B0-7B11-4B54-BAF7-6EA4A4CEEB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yřa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řa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ý pří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yřaz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yřaz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vyřa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dej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Likvidací v důsledku opotřeb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důsledku škody nebo man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řazením z podnikání do osobního užívání u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280" y="1628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ým převodem (darování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em do základního kapitálu jiného subjek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yřazení odpisovaného dlouhodobého majetku můžeme rozdělit na dvě varian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je 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rovna oprávkám. V tomto případě se zaúčtuje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Vyřazení stroje z majetku účetní jednotky      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1125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Dlouhodobý majetek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který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cela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eps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tzn. že vstupní cena je vyšší než opráv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 tomto případě musíme zaúčtova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Řádný odpis za část ro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oúčtovat zůstatkovou c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řazení majetku z evi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letos vyřadila z majetku stroj jehož VC – 100 000 Kč, oprávky činily 70 000 Kč, a odpis za část tohoto roku činí 1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dpis za část roku    10 000 Kč  551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ůstatková cena        20 000 Kč  5xx/0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řazení z evidence 100 000 Kč  082/02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23Z</dcterms:modified>
  <cp:revision>47</cp:revision>
  <dc:subject/>
  <dc:title>Náklady</dc:title>
</cp:coreProperties>
</file>