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F090-D4B8-4A4D-AEFD-AD09B24950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E664-4425-42BE-99FF-945305565F9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5BCA-E1EE-4C94-9E70-31BEEE37BD2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C19B-5C18-4FFC-AFEA-5150E98360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9914-BE8A-47FD-91EF-12A5363AEA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121B-271D-4108-9839-4D8B786C0A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ED79-A1A3-4051-914C-DF4083DD24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63B9-7167-441C-8F00-E2794B4BD3A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3EA-CE5C-4158-9E58-E77B3A8E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C26-0B9E-41CC-AA86-1440A24B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440-FF92-496A-81F5-34E53B37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578-7185-4E77-9007-50D7001B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119E-8A5D-487C-ABF6-EEFA1722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5C11-4A3A-4212-9C3B-3276EDFC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9725-AF9B-442B-B726-EFB79976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6CBC-A296-4467-B27F-1C9940F9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32AC-F894-44D4-BA5E-498CC7D4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D7EC-69A3-404A-9F7D-BD5665EA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BE41-D284-4109-BCB0-E4733EF5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E7F-DE14-4041-9A86-004C572F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3C82-EA89-49D0-91F9-CC59CB26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C1C1-6F84-4C8B-9EF0-7AD91FD7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4C50-4FEB-4535-B05E-4AF027BE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9AD9-F2D0-4BAE-A58B-0ABA55DF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ECC4-333B-4C80-A840-633FA1FC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0BD7B-7AE9-40F6-BA46-C05F4D3D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3B7FD-208B-4072-9A54-6930A8B1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71799-F3DD-4F3D-929A-D0CF6FA4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59C1F-EF4F-4FB3-BBDE-23141A8D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2DB5F-72B0-480A-B228-41297E0B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485-2B0F-4BD2-A233-4565A566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26D0F-7E15-4D70-9C65-6727DBB9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C7FB8-BF59-4F09-AF02-DC875506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C1A74-7EE5-433D-A6C4-AF0841F5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70DAD-522D-4C7D-8742-E1FFD8D9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830AC-9E5E-4487-B657-2FFBE987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2B176-2AF9-4868-B077-F820703B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C71EA-FE4F-480F-B7F7-0F98515A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4C3-6185-4B1C-837E-7D73B100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207-100B-4213-A052-66154996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BA0-28FF-4E54-BA9C-114D1C29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B0E-283B-47E9-8808-EECFA16E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96E-F43B-43AE-8476-174825DC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741-607A-4521-9465-EDB5D62B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524D-905D-41DB-94AF-D58E2754686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684E-2885-4FFB-9239-0084963168C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8B07-96CE-466A-9EB2-7260CB4C202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lohy na tvorbu a čerpání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vorba, oprava, čerp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- úlo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Úlohy -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33"/>
                </a:solidFill>
                <a:latin typeface="Arial"/>
              </a:rPr>
              <a:t>Určete, zda a jakou rezervu může firma vytvořit (účetní období 2013)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čítač, předpokládaná oprava 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ředpokládaná oprava střechy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ůdní vestavba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sobní auto, instalace klimatizace 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ředpokládaná oprava střechy 20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Úloh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7499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se v roce 2013 rozhodla tvořit rezervu na opravu budovy. Plánovaná oprava bude provedena v roce 2016. Rozpočet opravy 600 000 Kč. Oprava byla provedena dodavatelem v roce 2016, částka 786 500 K00 Kč, včetně 21% D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4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5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P – Oprava budo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4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0 000,--  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36 500,--  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00 000,--  451/55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1:04Z</dcterms:modified>
  <cp:revision>16</cp:revision>
  <dc:subject/>
  <dc:title>Dohadné položky</dc:title>
</cp:coreProperties>
</file>