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8C04-72CD-4C61-9D1D-428B9865F8C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0225-F8CD-4EEA-A3B4-C9AAD669896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1F00-31D5-487E-9A33-5E8FC88D780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97DD-5F0B-44DD-AC12-09D9E893EE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8251-E677-4188-ACE9-4B420A552A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8088-EFA6-4CA5-B04B-7FF8B0BCD4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B6DE-7919-4A79-829C-2500DF113F2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D6BA-8D07-41DD-9392-F5F4F4DE9E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30DD-F04C-4857-B800-97F28252D92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5B981-7A0C-4825-B8D0-0099E2F4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BA4D7-3855-4A30-B7FE-FF203D32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4B3D7-FD3F-43FD-8DB2-35B44D60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43ACC-D599-487D-9A29-6C2A9B3E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4A24C-1ED2-4615-8327-7C87414A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64125-B103-429F-AAD7-625B6500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192BF-0C00-4E47-B312-1ECB81A9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746FC-C8F4-4734-B7E7-2C5F8AFE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C95A6-6CF3-4C07-A332-D078205C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07D61-188C-455E-9868-6A2D4AB2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2CCAB-C8E7-4A39-A420-6C634F2B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0EB7D-E1B7-440B-8A08-463427C8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0D6BC-DE08-4776-9DA6-DE1B6361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0E15E-BA1B-4B42-8AAD-8DD9C7EA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DC709-7E6F-4700-B222-837AD618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BAC86-6439-45C5-B790-693773CE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514A9-791B-43B4-9FF4-D3D4DBE8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6185C-B609-4B69-933E-D223FDCE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3B58E-69AB-40CF-99B8-6C5AA7CC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91F07-D0B7-47D7-B10F-0944488D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28C4A-9FD3-48C3-837D-AD677C30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A677C-F472-4A98-BA22-045C904B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20637-11E2-4A08-80F4-5599C61A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0F06D-28CD-48AB-B01D-802B076B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747CD-9DB9-4685-857C-4269BCA6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0FEC3-1DC8-4324-8AEE-41CCABD9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29FFC-3E23-4643-89B4-93CAC4CA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22D92-6161-4D58-BA73-A7E52F0A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95BFC-79BE-4D4E-8BC7-BDFB7EEC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BCC23-177F-4D6B-96B6-0D31A305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28ACD-B7CF-432C-B728-18D9E49F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65EBE-1760-4805-B116-F5E31632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EC907-21E6-4784-9053-4C1E4528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4D725-71D2-4F4F-8832-BBD70839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9E01-D261-43BC-B414-1BC8C6C8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4787B-7AA4-4F8C-A661-6ED7FD83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026AC-301E-44F3-B5A1-706CE20F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0A1F7-539B-4DF1-A7C2-82F6716E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76501-5FC9-4A1E-B6B6-46C88DF0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8034F-52D5-4701-9FA4-31D93849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8FF40-9B00-4193-AB13-D6DC43B3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A6F7C-A5D1-46A8-B069-B83ADDB0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68B91-3420-40EC-8C20-537C69FD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2AC9E-D935-49CF-B636-E249298E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AC8EE-D796-4697-9832-D6DD3616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9BA5-461D-422E-8F6E-41836D84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4218C-768B-47B2-B9EE-41503084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A0AB2-752F-42F3-8C66-3DD0C521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0A5A9-3AA7-4582-A2E7-C91AB34E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52B13-1AEC-4E54-9914-E0179360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48B61-BEE5-47A0-97E5-61E683DE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16FB7-F8B5-419A-876A-8B7F0EF3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71772F-FCE2-493A-869D-8E9B7DAA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9667A-F88E-4E0E-B15C-45220275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BD9E81-0614-4A8B-B42C-EF778CF1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8F087-30C3-4F57-8986-C90462F1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38E6-A963-4EEB-9222-D3BE395D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97CAC-B1BE-442D-A7ED-ED6E3BEC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611C5-B0B4-408E-81E0-489B5EEE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B3A9E4-0AFD-4B4C-98A2-26D6927F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67EE7-8A22-4CF8-9C1A-58AADD87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185C8-C2B7-420E-9F15-5126AF7A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AA8A7-A21C-4BB3-BBFC-836D7935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6046F-22E2-465B-8EA3-AFD68C4D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C2AD5-AB7A-482A-BAE4-A32FA507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6C2E5D-AE9C-44D8-8CB3-3D4A9A8E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071DC-F8CB-4460-B41F-5EB416A1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C409-4063-4D1A-BD57-9EDEFFF9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40C26-0E01-4F02-9CF1-5BF5CD91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0D7AC8-A3BE-460D-8EDE-192AF059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C513F7-7C80-447F-A41B-F9A05F5F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17F37-BBC1-42E5-9135-275D3DDE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788B1B-D1A1-4938-B870-661224A3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7ADBB-5E37-46DF-9A0C-FB212F34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18892B-1CE1-4B4A-9941-6E4231CD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1F0B2-0CDC-4573-A524-E883A203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F90F7A-9473-4E22-970C-A5E89745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0A9854-9F30-474D-8925-325B38BC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5AE3-544A-48C3-8968-D8F38AAA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568F13-312E-4257-99FD-8BA2AB88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5DF13D-9E6C-4CF6-B93D-1A3F2AF4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42993A-EB38-4A12-8588-D23DE3FC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AE2625-46AD-4549-BAB0-E6149A11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043265-74FB-4CA0-88E7-3838D8EA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44A91C-DA44-4BB4-B71F-6E3058CB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F3BCCA-4FEC-48C2-B391-7502D864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A3A14E-30FB-46B1-B9E9-282D3571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ED59E-44C7-49EC-B3B1-3F85ED93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835A97-DCF8-46A0-9D62-073116BC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6E46-22FF-41E0-8A31-69BEAB56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1E9E3E-3E30-4CE4-BD40-0D95E311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7F7F52-0621-4B01-A50B-5F060EEE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B30F3A2-BA40-4951-8CAA-008A0F87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A1036A-583B-485F-ABF0-61806BA2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DC08D9B-F5A4-4174-BD4E-3E77BB80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9556883-53F1-4328-A088-E91507CA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42BEB8-E3DF-4913-9DB5-2B3A53E3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B2CC57-499F-4CE3-83D9-140508B3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987C67-B57C-4A7E-8C98-C35E8CB6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174C9AD-FA9A-4663-ADDD-2809BF4D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7ABD-16D8-43E7-9088-15C567B1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6F4C849-EF52-44CD-B534-7069771F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3B1BF9-606F-4775-B006-4FECEDFE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06BDF6-FB96-46C5-8FC4-54DD5159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8BEFFB-06FA-4123-B748-9F47B784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AFEA3A-41D7-43C0-9DA5-26DD3C71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F24674-91D4-405C-8116-9FB944C6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11B9B8-1146-4970-8514-2154C5BD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C40242-44CE-4B37-8DCA-C8742D01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1AB9C4-9AD4-4831-B7D0-90189559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F51A87-160E-498F-AB80-8E6BE101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51385-21E0-4F3F-AFC5-28859B76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04AB-9BF9-49F9-B78E-8633C524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EDBAD9-C264-4E37-B623-4660A9D6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62E151-DF03-4F13-8E16-4A7CE2BA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367E7E-F8DA-430E-A46F-E5DFE878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BC0E53-FBA3-415D-A65A-C600AD0C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9D55F8-A986-4B9F-A3E9-7AEFC75E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926A-8739-4E79-81D6-F15FE952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5086-3C3B-4A59-BE9F-1EE72EBA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6D25-19E1-46FD-953C-8DB368CC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5D91-F7A9-46FC-83FC-33152E47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62FE8-2C3C-45CD-A805-A41A9A40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C8AED-BB41-4B5F-A57E-233303EF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9E60B-1CB6-46E3-8BA0-3AD9A5A1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7B32E-0914-4D72-94D5-9C25CE09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8138E-C459-41B9-AE2E-62BB716E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52D33-A684-44CA-ACFA-4C5B81BE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E64D0-D25B-46F2-AC91-ECCA2BB0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E6D11-73C6-43EA-9171-16C44FF0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AF97D-417B-4E79-960C-1A5EEB7D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5799B-8768-451E-A53A-B4D91C6B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94285-24C1-4084-B76C-4265435D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4858E-6819-4B61-9DB7-E9E2710C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51814-A622-48ED-8D31-10DB90F3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D4D7D-CED8-4415-8B0E-31AB2CC3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97DC5-C50D-4005-B775-500EDCA5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961E6-4336-4166-B748-9F03CBD3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E8878-75D2-4D86-9204-E11C41EA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EBADC-167D-493B-A193-22D09201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FF4CF-6DA1-498C-AA89-18C3A6C2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21B60-83BE-4BD8-8066-52D5E602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DF513-87DC-4978-8560-3E1F332B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00CB7-8BCD-45C7-B4B4-68713287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48694-E18F-4069-AF32-97D6526E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17A85-B442-425D-8843-C2B0D102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769AA-33D0-4082-B37A-16CFDEB0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C62FD-B02E-4C09-9561-71C41A78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61C1B-904C-4BFD-AC6C-8D424AED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A33BE-3855-4F72-8D71-AEAFC7B2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74DB5-8195-464D-983C-91EB50B5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4DFE4-A186-4F10-B721-33A0B6AB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00C54-7262-4C84-B3B2-B5E8AF0D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08B02-6217-48EF-ADC8-E7B51FFF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F1FB2-B62D-4EFF-A7BB-CC919838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9BBE9-17BF-4D2F-AD2B-D776073B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CB624-9C91-49A9-AA95-6837370E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36E75-62E6-438A-A1FA-9803E1A5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66603-B9E5-4D74-8791-C75FB1BC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411B4-0673-4495-93FE-482506F7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E689F-1B20-4081-8E03-9FB90FE1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0EB7E-CF64-4399-B05A-C970B030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1F05C-EA45-4987-BCDD-26DD01D3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567F6-89B9-4064-B9E2-4D4D661C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83A62-141A-4BDC-981B-92AF56D4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FED8F-FDA6-4EBF-8E20-24106658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99C78-B934-4C2C-9228-7FE11133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49A9E-4E4A-407D-A301-648EDAFE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FC7C5-66C0-40D8-A9F3-D43F4334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24D35-AA38-468D-8EC0-8F45BA5D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C4D7C-A50A-43A0-9732-5E0BA4AB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CF06D-70C8-4059-B79E-7C5C7CF1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700F7-EF8A-4598-81A2-847AE363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DC7D9-7E3F-4EB8-BC8A-823E2751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63229-AB24-4EFF-AE78-6E70A7E0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88244-EDD8-4D39-BD79-F1762FE7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7F3FF-C40A-4601-84A5-7BD9141A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FE864-576F-453C-A861-E737773C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E7E34-10EE-4599-A0CB-CF9DA53B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703F0-78B7-4AFA-8102-1E8444FD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C5895-715F-495E-A637-3BD928AB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43119-8327-4ACE-9F58-4192E2BA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DC43-C192-4E40-A3BA-43AC814A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1B26C-E875-46D5-ACDC-4190B18D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2418C-6BE0-4F0B-8200-9FD1E94F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D4BCB-CD96-4E51-B68E-46CF656F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4968B-EFEE-4061-8C37-6B17F06E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644EE-C27E-4197-AE99-C0632034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68F25-AD33-4E1B-B69F-3DC762F2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78D2D-6581-4E43-AC90-CF3BB9AD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6086E-3CE4-456C-BA9F-D137E0EB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75EE2-9A3C-4066-96C2-16F18E13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7780A-99B3-49AF-BC03-6DCBF7B3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42BCD-CFF1-4F84-ABAE-A1CE4F20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BAF6A-BBB5-4BDA-AA40-60C6B7E4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0B915-7278-4DD4-96AC-89008458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CAE48-6434-4D06-B9A2-533DD7CA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E0961-59E4-491B-BE74-92D30547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4D68B-CCC0-4AD5-8AEC-59A6C4D6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12AFE-F9BC-4D79-B700-3AB78999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48711-87B0-4B2A-BE0A-B09ACEEF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2D912-0C2B-4AB8-B1B0-30576DA0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B6CF8-5623-42FB-A48E-BBBD3954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676A6-F6F0-4FB0-98BA-DC617D3A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0AF2-EA8D-42C8-A4B6-FBA687223E78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C3CB-7690-4807-94FE-11360F9EDEB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4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5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5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6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7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7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8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48E1-07EF-48A9-8E0C-98D63E145EA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4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4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5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6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6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5070-D597-4223-8B6F-D349EC8FE2A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3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3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4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5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5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5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E12D-A2A6-4ED6-9126-61BE393D225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4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6A83-14B2-4BF9-8C18-7D474C55012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0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2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2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2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FEDB-5034-45C8-973D-EBEEBAD0BC02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8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9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9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0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1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556E-5955-4774-B6CF-238830BFAAB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8681-16A4-4159-9DCF-74BB9B630E7F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90D9-3EEB-49A2-9498-4E217CD3D098}" type="slidenum">
              <a:rPr b="0" lang="cs-CZ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DBC1-C51A-4888-A4FA-66164DF7BF26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9494-B5A0-40B2-8534-2DD5408A7C94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306E-8B84-4C42-8462-B6C8200035E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1ED2-BFBD-45D6-8058-E8B15501DF8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477A-886A-4BEF-B21A-6337A217347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0A11-82CE-4DB5-A6B6-78CD797474B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0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0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C474-9BD7-4364-A272-F597EE7FF11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 k seznámení studentů s časovým rozlišením nákladů a výdaj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áklady, výd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Garamond"/>
              </a:rPr>
              <a:t>Náklady a výdaje příštích obdob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81 – Náklad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stavují částky zaplacené účetní jednotkou v běžném účetním období (výdaj), které však zčásti nebo zcela patří do následujícího účetního obdob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íklad -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jemné placené před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za příští rok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likož se nejedná o náklad tohoto období, nemůžeme nájemné zaúčtovat do nákladů na účet – 518 – Ostatní služby, ale musíme ho zaúčtovat na účet 381 – Náklady příštích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štím účetním období toto nájemné přeúčtujeme z účtu 381 – Náklady příštích období na účet 518 – Ostatní služ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roce 2012 jsme uhradili nájemné za pronájem budovy, a to za období   1/2013-6/2014. Celková výše nájemného činí Kč 180 000,- Měsíční nájemné  činí Kč 10 000,-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čtován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k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BÚ, úhrada nájemnéh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0 000,-     381 / 2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k 2013 (12 měsíc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ÚD, rozpouštění poměrné části do nákladů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75 000,-    518 / 3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k 2014 (6 měsíc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ÚD, rozpouštění poměrné části do nákladů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75 000,-    518 / 3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383 – Výdaje příštích obdob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to účet používáme tehdy jestliže nám vznikl náklad, který s běžným účetním obdobím souvisí, avšak výdaj na něj nebyl dosud uskutečně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íklad -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jemné hrazené pozad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tože se jedná o náklad tohoto období zaúčtujeme toto nájemné do nákladů na účet  518 – Ostatní služby, jelikož to bude uhrazeno až v příštím roce musíme použít účet 383 - Výdaje příštích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štím účetním období (po úhradě) přeúčtujeme na účet 221 - Bankovní účty nebo 211 - Poklad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 dni účetní uzávěrky nebylo uhrazeno nájemné za 4. čtvrtletí tohoto roku, a to ve výši Kč 30 000,-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jemné bylo uhrazeno v lednu příštího r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tomto roce (k 31.12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, zúčtování výdajů příštích období        30 000,-   518 / 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následujícím ro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BÚ, úhrada nájem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30 000,-   383 / 2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    Ing. Pavel Štohl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8:07:38Z</dcterms:created>
  <dc:creator>Ing. David Holzbauer</dc:creator>
  <dc:description/>
  <dc:language>en-US</dc:language>
  <cp:lastModifiedBy>Igor</cp:lastModifiedBy>
  <dcterms:modified xsi:type="dcterms:W3CDTF">2014-09-13T15:35:10Z</dcterms:modified>
  <cp:revision>16</cp:revision>
  <dc:subject/>
  <dc:title>Časové rozlišení nákladů a výnosů</dc:title>
</cp:coreProperties>
</file>