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866D-5FF7-46AE-9A34-AD43E7E15F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79C2-80DF-4334-BB58-4C98DA5EDB1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FF25-154F-409B-8D30-50F4902CAA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0992-F025-47F0-8BEC-D88EFD371D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F5A1-FF95-491E-A95F-07B0E3C0A98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62DD-E6C4-420F-80EC-C0A3982E91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08B9-F87A-41D2-B87E-F143390643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9E3F-C061-416D-A485-A48883A1EA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BAF-3788-4306-8229-13B603E28F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F443-A868-4AA0-B495-6851F86055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B4BF-A27D-41C6-A1A1-1D5874BEE3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1755-55B8-46BE-88DD-2B30D9C366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4029-07A5-4475-82FC-A98A76A378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6BD-0ED2-4123-A228-71F7278D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C4F-3EEB-43DA-9D2F-FCF021AF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954-6CA3-4DBB-A9C1-FFF822CC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0DE-82D8-4567-863D-1CADB4F6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2139-EFBA-4249-B18F-064CD832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B837-33A8-476B-930D-E99F7D7B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64F5-4B61-4D6F-938C-4EA3BB50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8775-DB57-46A9-809F-DCABDE25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734C-4F1F-4710-B6C3-B746B2B9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A653-5000-4767-9D8B-B817EEEC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6EB6-C3F3-49D5-B80B-2BFC1E2C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204-434F-41F0-833D-6D66D2F7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19B5-11DA-4DA3-AEAD-92FCFED0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54B7-4CAD-469A-AA4C-5016ECCA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D59B-AB64-49C5-98A0-19E9AD81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1BE7-3874-40D8-ACEA-9D594BA4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9CCC-4201-4ACC-8DF6-A7BF46A0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EFB3C-70DE-4751-87D8-38395EF7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A6BE8-EB64-4A3E-B9B1-DB0C2066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D5BB6-5C61-4952-9042-D01070A2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97B71-268A-4573-A710-B9070E37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23F41-2C75-4437-819A-11E7EA7A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9B0-1EBE-4607-8679-855E22D8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623F3-4231-4125-BE21-CEC00C70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8193B-4397-4F51-9CB9-D5F5CE55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8CC6C-9F68-44C0-8355-46D8FF94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089EB-B37C-4DE7-B59A-326B87ED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68A0F-F207-4A47-904A-54D2EB9B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25650-77C2-49D1-9682-EA5F7C8F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5352E-EBA8-4605-8C80-3945BB6A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ABE-C8D5-44D4-BD92-2933DD26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100-0DF3-4339-8B0C-130A8D9C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DB3-7D04-4301-A1C0-05CE39E6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1E9-88AB-4CF0-A364-0FA3BE0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F43-1F3C-4EF9-AAF5-6720612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F9F-C23C-4835-8543-22DCDE62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2E90-E6AF-44C0-8992-A71BBA31C50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311A-8F0B-4FD8-B66B-65A45D5D52C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EA20-4E05-46EA-B773-EA82EF0D7E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prosinci vznikla firmě škoda na havarovaném automobilu. Do konce účetního období firma neobdržela předpis od pojišťovny o náhradě této škody. Odhadovaná výše náhrady činí 89 000,- Kč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novém účetním období pojišťovna přiznala náhradu ve výši   87 000,- Kč, kterou následně uhradila. Zaúčtujte odhadovanou výši plnění v tomto roce a předpis a přijatou náhradu od pojišťovny v příštím ro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9 000,-    388 / 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37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2 000,-    64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221 / 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hadné polo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hadné položky představují nepotvrzené pohledávky či závazky, u kterých je znám účel a období do kterého pohledávka či závazek patří, ale není známa přesná částka (nemáme fakturu, výp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lišuj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Dohadné účty a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akt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388 - Dohadné účty aktiv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dná se především o pohledávky, které věcně patří do běžného období, ale u kterých neznáme přesnou částku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kud nám vznikla škoda na majetku, který jsme měli pojištěný a pojišťovna nám do konce účetního období nevyúčtovala náhradu plnění (za vzniklou škodu na majetku), zaúčtujeme pohledávku, u které neznáme přesnou výši (nemáme doklad) na účet 388 – Dohadné účty aktivní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Příklad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důsledku havárie nám vznikla škoda na materiálu, a to ve výši 59 000,- Kč. Pojišťovna nám do konce účetního období nepřiznala náhradu. Předpokládaná výše náhrady činí 57 000,- Kč. V novém účetním období nám pojišťovna přiznala náhradu ve výši 56 500,- Kč, kterou nám následně uhradil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37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 VúD - Doúčtování rozdí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500,- 64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221/37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účtujte v případě, že pojišťovna poskytne plnění ve výši 57 500,- Kč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7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56Z</dcterms:modified>
  <cp:revision>12</cp:revision>
  <dc:subject/>
  <dc:title>Dohadné položky</dc:title>
</cp:coreProperties>
</file>