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39FB-9F3A-4223-A094-EB73CAF554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2A5-BB37-4886-8A05-15B84BBBF1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ED67-D504-45E1-A1DF-F36214C458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8F92-2F8A-4831-A882-167B9957C5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ADCE-8780-438D-8950-AA3CDAB9DA0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CE23-9E07-4653-967F-30C2B2E36D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F620-84BC-47B7-B5AB-7EE2209586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F3E7-9811-48DB-BAC9-24355E194F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E49-B67C-42A4-8607-6AE2B778EC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A58-FD3A-4A07-ADF5-605D8D470C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32A0-08AC-4BAC-AEBD-7F0128FB50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D77-7D32-4C5B-9BB1-0F57D87F54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6B7-0D1A-4928-A01B-77F23FFE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79A-7138-4FEB-AAE2-74F8319E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C8A-26AC-49A6-830E-728C72F9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06A-656D-48A1-A0F7-D3104DA0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CCA-9F73-4110-B8F2-51EAE27B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0AD-3FAD-4AE5-A21A-4188116A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80D9-8E69-44B0-944B-C50149C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8539-7058-4E1A-A1D5-738A6CCE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159F-4FE1-4D83-B862-0C39AD29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8CB0-5243-464E-AF83-B852ED4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E8F6-1E6B-4848-84C3-E4D43AD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3C0-0A98-4FE2-A526-F874F0ED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4EB8-D736-41E0-9372-8103322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3B3C-115B-410C-9585-988175FD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E7D3-3702-49CF-A006-FC880E8C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1BD4-A7CA-4889-9CBD-6E9DD70A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EE9A-4A0F-4B2E-ABA1-2AFA4B4C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D039E-D06E-41D4-874C-F2FAD511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41E91-55A6-441D-9BB6-CC215018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4CC1D-948D-407E-A16E-312C0A1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6054D-AB24-4976-8ED9-FA1AC919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150FF-1008-406E-8DA3-46141E54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10D-06A3-4536-8E9C-0936827C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EA987-173A-49D0-9BA3-6B7E19EB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FC3E3-E9BD-4A08-BBE5-2278820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EC03A-DF4B-4C84-91E0-317F84A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FED8A-59DF-4086-8AA4-16B12813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DEE56-0B5A-4D3E-B7F7-E1915F33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4B824-2FF7-43C2-AA7C-15EA587F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E420D-84C8-4DCD-984D-BA34D1DE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6E5-EEE4-4ED1-A539-49A23E9C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E46-6149-4741-93C7-7EFA60D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D2A-B0C7-41C2-98D5-536DE7B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8CE-CDA4-46D4-ADF7-3C76ED2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20B-C2B4-4BB8-95C8-363D8FE4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E30-E1A5-43AF-9575-653D93F6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7D53-5C23-48AD-B871-0B2FEF24A51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E64F-D828-42C4-9CAC-890D9FD74BA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BD00-213F-4A06-B2A2-341604C0B6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55 000,-     389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11 550,-     343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2 000,-     389 / 5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66 550,-     321 /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vyfakturované dod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 pasiv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pas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389 -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tento účet se účtují například nevyfakturované dodávky (např. materiál již byl dodaný ale nemáme k němu fakturu), nákladové úroky, které nebyly zahrnuty do bankovního vyúčtování za běžné účetní obdob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ke konci roku obdržela dodávku materiálu, ke kterému však do konce roku neobdržela fakturu. Předpokládaná hodnota faktury činí 28 900,- Kč. V novém účetním období jsme obdrželi fakturu od dodavatele na částku 30 000,- Kč + 21% DPH 6 3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 30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1 100,-  112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v případě, že hodnota faktury bude 28 000,- Kč   + 21% DPH 5 88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.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8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5 88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900,-  38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neobdržela do konce účetního období fakturu za dodávku plynu. Odhadovaný výše spotřeby plynu činila 57 000,- Kč. V novém účetním období firma obdržela fakturu za spotřebovaný plyna na částku 58 300,- Kč + 21% DPH 12 243,- Kč. Zaúčtujte nevyfakturovanou dodávku plynu, fakturu přijatou a její následné uhrazení z B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- Nevyfakturovaná dodávka plyn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57 000,-     502 / 3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FAP - Faktura za dodávku plynu – cena bez DPH    58 300,-     389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2 243,-     343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1 300,-     502 / 38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70 543,-     321 / 2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účtujte v případě, že hodnota faktury bude 55 000,- Kč   + 21% DPH 11 55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 …………………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39Z</dcterms:modified>
  <cp:revision>11</cp:revision>
  <dc:subject/>
  <dc:title>Dohadné položky</dc:title>
</cp:coreProperties>
</file>