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322A-0132-4628-B1E9-ACD223ABC9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586-E0DA-4676-832D-C72DA759F8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C704-07EA-40D4-BAFF-42525CB9E04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279-619F-4433-998B-AF0A669F19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86C-4990-4564-A225-ECDBBE207C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207-F4BF-4F70-A2D4-1A1C176F4F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6E41-B356-4A1B-9905-FD62DC8A4C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1C69-09A3-437F-85AD-8C668AA066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5CF-63BE-4FF2-82AE-78A2D394AE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D694-3792-4FC1-9988-E28C30AF79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09E-D902-4C2E-8BA2-2BD8E31F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873-FCCE-4906-BF02-769BE2D4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67E-A253-4861-BABF-34399BDD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249-20E5-4929-A04C-8F083629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7EA2-051E-41AB-9108-33FDD576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58B2-CE8D-47BB-B694-0F62E71C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1F0-ADD5-455F-9A79-5A75AAFD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50BA-4248-4FE7-B8B2-9BF6F99C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BDF2-015D-4DB1-BD0A-518FF10C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3FB-DDB9-44D6-86E3-53B03272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0579-62ED-4A1F-B272-F8C30FC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272-651A-4294-8CBA-DCFC4575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667-15D6-4A23-937E-50D3591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36D0-F039-420D-8880-24F4D877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A092-6581-4D91-B685-2E2947D6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D47-64E6-42E2-95BE-8053E3C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2693-F981-4691-A3C7-5A198780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9C2E1-A437-4C95-A01E-BDA830E0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CE37E-B982-42AA-84C8-D5103854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500E9-D923-45D6-BFFD-3C888D0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7D612-9DBC-4467-83E2-F9F707AA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E11D2-4E83-4C4D-90A8-DE44D69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98F-370D-43B5-BEBC-10784342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C7A94-B252-46E2-9F40-C0EDCF35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36039-7A53-4C31-8DDF-0D13089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BAFF7-ED00-465A-B7D9-8CF2092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731D7-ECC1-4E41-85E2-DFDAD0A4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2E3D0-4135-408B-830A-40ADC4D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5EED6-99C3-4FED-9A1A-198C250F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106EE-35CB-433C-87C7-2C077C27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D85-24F6-44D0-BC3A-F6B6659E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79F-F948-43C1-B95A-E070A2F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1E6-55DC-479A-BA8F-DBB5E2A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F60-2A8B-4E45-8597-4149E57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033-7B5C-483A-AEE6-EE5A2DD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D68-E615-4B47-AC4C-5C22288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758-E1E2-49F5-9826-5F5B4E50CFE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0A44-0836-4603-B9D4-CE4B16F4132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39B-A84C-4C8F-A9DD-4BF0AC0FF0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čními rozdí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bytek, man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73360"/>
            <a:ext cx="7427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rovnávání skutečného stavu se stavem účetním mohou být zjištěny tyto inventarizač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účetní stav je vyšší než skutečný stav (rozdíl mezi skutečným a účetním stavem nelze doložit účetním dokladem, nebo prokázat jiným způsobem stanoveným zák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 manko se nepovažuje tzv. norma přirozeného úbytku (u zás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u přirozeného úbytku si stanovuje účetní jednotka sama (musí být uvedena ve vnitropodnikové směrni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stanovení její výše vychází ze zkušeností z minulých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a přirozeného úbytku se stanoví např.  u takového materiálu u kterého dochází k vypařování, vysýchán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zboží se stanovuje např. v důsledku ztratného v obchod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řebytky – účetní stav je nižší než skutečný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96640"/>
            <a:ext cx="8013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ka a přebytky nelze vzájemně kompenzovat. Výjimkou jsou pouze případy, kdy došlo k chybné záměně podobných druhů záso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omto případě se zjištěná manka a přebytky vzájemně převedou (případný rozdíl je pak přebytkem či mank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56Z</dcterms:modified>
  <cp:revision>25</cp:revision>
  <dc:subject/>
  <dc:title>Dohadné položky</dc:title>
</cp:coreProperties>
</file>