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5C63-F729-40E5-BE3E-2988F92FC02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E8B6-10A3-4CE5-94B8-8B11A892679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E4E9-DE85-47AC-B89A-9AB69F174CA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C8CC-2ECD-47E0-A2EC-6089B09A13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029D-ACC8-4C31-A1DC-B7C4E93BCC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4AAF-CDEA-4D0B-9DD9-7DE90DED49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4BE0-F434-42B8-B5F3-44B9281B85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00A8-8DC8-463D-A63D-9149D51AA7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BE98-0D57-4E9F-AB88-71267659E8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CE81-E4AD-47A8-8CA5-59ABAAE26F0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BF5-C284-4E29-9E9C-57280066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231-7974-43CC-96FA-F18E4AD9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69F-690E-4D04-A548-6EB27437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E63-5161-4C64-AADB-CD035107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0DDD-A69E-407F-BDED-D7E9DE9E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2680-7ED3-4F7F-9EA9-B4AC33B8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4141-4D6C-4E05-8AED-0927FFB7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D94E-B24B-4B98-A927-BBCE57B4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759B-E05E-4FAB-8234-F4F4BE44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322B-D0D5-4711-89C8-1B6E838E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72B8-7058-43B2-ABEC-9EA9D852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F25-A587-4F78-8092-F50D9DEE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7132-E28D-4625-BCF7-C8D1FCF8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B464-11D0-4A56-A067-8EEBC33F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3919-3B3D-499C-97C0-7DDE764E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01CA-7461-4D87-87B7-29A981B1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2F1F-B648-4B44-A012-830F558E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1EFE6-D412-4780-9362-F4304EC3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9CB40-6FFB-42E4-A9A7-C2EFEBDD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2FB8C-0E60-4332-8E9C-B16A296A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C6717-5C1F-41EB-9979-1843CF9A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320A4-ACC5-407A-ADF9-B8AA5280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42A-AF69-4F6A-9B22-71A7C022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E4FC4-878F-479F-9598-7BE0CA76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FC473-FB79-44D1-AF83-77351B7A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7AD39-DA04-4D75-B5E2-17B50FAB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5C4C9-6CD2-4F56-924B-BA45C7BD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E7DB6-6CDA-448B-8E39-EB29FEC2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ED5C9-E91B-4070-84AC-4156AACC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69481-D1FA-4AD4-8B27-C01E17DD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873-ECA9-4228-A2C2-4890A791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56A-D1ED-40AD-8359-3DA1D2E3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A87-FD71-44E3-AF4E-31C871B6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CCD-D42F-4A66-BF28-61379D9E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C37-CE99-4EE0-A0E3-4E067E6A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C40-AEEC-4DA8-8C47-A0F208DC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B22D-24C4-4C6C-9AC8-A582DE669B02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AB96-8180-44F3-A61C-3CCD3BA3664F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8256-6E7E-405F-9DCF-65589B673B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továním zákonných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ákonné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41672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vorba zákonných rezerv se účtuje do nákladů, a to na účet 552 – Tvorba a zaúčtování zákonných rezerv podle zvláštních právních předpisů (na stranu M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erpání (rozpuštění) zákonné rezervy se zaúčtuje na stejném účtu na straně 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tiúčtem je účet 451 – Rezervy podle zvláštních právních předpis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51/55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se v roce 2010 rozhodla tvořit rezervu na opravu výrobního stroje. Oprava bude provedena v roce 2013. Rozpočet opravy 300 000 Kč. Tato oprava byla v plánovaném roce provedena dodavatelem. Fakturovaná částka činí 387 200 Kč, včetně 21% D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2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7 2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1/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0:36Z</dcterms:modified>
  <cp:revision>17</cp:revision>
  <dc:subject/>
  <dc:title>Dohadné položky</dc:title>
</cp:coreProperties>
</file>