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EDA9-DF6E-4C60-947F-1C5DDDC48D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3915-FD74-4018-BF5F-52E2C856FF7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6CD3-FE22-495E-99A2-03F3B569E0C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CAB0-4E08-42BC-90B3-87F7DA862C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9C16-C642-4B81-8433-83B8E768A9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F940-3D32-4465-9037-74E5CAAF42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D4F0-2A3C-487F-AE4A-EF0602BE73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644-C58F-4A36-809B-E444FFAD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27E-D8F7-4691-8CAA-423D3B7F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67C-B28A-4C6C-AE5B-DEBD7799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E19-2E9B-4D8D-A7E3-C4DB9B1E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26A7-DAF0-4571-9E84-F32333EA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4720-AAAB-4D3B-A5CD-AAE283AA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5A00-3702-4716-A114-8EB3125D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AED4-0A1A-4EFB-985F-F03C1DC6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E52A-713B-48F6-B607-15725DCF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775F-4D46-4830-B550-6FF9D67F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900B-9AC0-43FD-8B2E-AC083FEA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EC9-7725-4302-9D05-105E10CA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1317-9D2D-4751-904B-455BFFD8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B7E7-8056-4B1F-AE5C-C3AAC70A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1CD8-9F30-4D3A-B6D7-8FCA9911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4771-1FE9-48C3-BDAE-F4B03752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DBB0-8E67-448A-9291-F1AE4647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5C244-B0F2-41AF-B63F-95639191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E6473-A7A0-4A6D-9D0B-34AAA5D5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4CA21-A893-4B96-B844-B0E5AC96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46A63-26CE-434B-943F-20A609F5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3BC28-5BB8-4F3F-8802-B11BC051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58B-9AA7-4146-9FD9-B2FED5BA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C52FD-FB9B-4933-8DCA-7886B695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690A1-1260-4DD6-A693-0BD6A2CF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09D99-FB48-4F80-9041-47EF5066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1E155-54DE-49EA-BBE2-F67CC387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F610E-4BC7-4D6E-BCE4-B02FA955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D7367-9173-48E7-9A4C-0C6B8115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5223B-4E1A-49EB-BEAF-8F1243C0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76F-CB15-443A-B7F0-FDEBD057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AC8-AD43-48C1-828F-9334F030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50F-260A-45E3-BE3F-3DB9F118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A5E-3252-4704-A072-C8640E77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5F5-1E3C-4A49-8AA4-6AE70FFC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93E-6C05-486A-AF69-A1AE3986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9661-A7C7-4A13-B29E-632932A6B03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B469-37C4-4526-B8A3-7ED5903634A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004B-795C-4168-9C73-5F2AA720BD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rezerv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zí zdroj, tvorba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Ostatní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Ostatní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ostatních rezerv je upravena vnitropodnikovou směrnicí účetní jednotk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jich tvorba není daňově uznatelným náklad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zi ostatní rezervy patří napří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splatnou daň z příj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záruční opra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opravu DM, který nesplňuje  podmínky ZoR (majetek v první odpisové  skupin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6:33Z</dcterms:modified>
  <cp:revision>15</cp:revision>
  <dc:subject/>
  <dc:title>Dohadné položky</dc:title>
</cp:coreProperties>
</file>