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DA1F-D6DB-45E8-BA9A-420B4D29B06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048A-0F87-41B6-B0E6-90B5B7EB0E7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A045-6A5F-4C16-A0E5-199FD34DB43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6D55-0CCE-47D7-8045-114B589F4F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F9FA-9975-4254-A474-2B069276D9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F600-E684-47CF-816A-4D4AE3F7B0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8D35-916E-42F4-950C-CBFBC5FCA7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49DF-EF37-4FA5-9186-F43A1ADF6B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9836-EDF2-46A0-B961-90E43A548C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004F-4F5D-459C-BB68-B949793957D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441-7A53-4CEE-80B8-80B3F69F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4F9A-7FA8-4EBF-86C5-D1CB67C1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3F2-AD06-47B7-875A-36D26310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6B97-161C-4C7A-B519-B5378DB8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E353-A76D-400A-989E-271BB19E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BBD5-D721-4C2B-B360-702A6FA5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CC76-DCE5-4925-BA3C-442B26FB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15EA-512D-4A33-85A4-D508BDE3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AB23-6282-4BF3-B2D3-5922F336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A198-191E-4DF3-9701-674CCD22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EF8E-2D43-418A-A218-0AE07AF0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119-A2C3-4E8C-B36A-8008DE84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1700-0091-4A23-87DF-66FB8A37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9656-5682-41DE-8CD4-93144BC8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53B1-E0B6-4644-A8AE-7B4BDD5B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26A1-98F5-4E3D-8698-819C627F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8881-267F-4B26-857A-E9FB675C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8AD03-7873-4BAD-BE84-80A9E6FD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0298F-59F1-47F8-B204-281A4C90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E723A-DA40-43D3-AB12-B1BC1D0E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3D588-F55F-4922-A67E-0D1FF5C8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BA193-1D78-41FD-9A39-8D40E201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3DB-1068-4E94-9350-E6F6E84E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D4D86-51B7-47C3-B6AB-7B7112FC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76DC6-2F86-47F2-9926-2F76CFA7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951CD-9314-429E-9C5B-97B8E77B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20246-D76E-4060-B67B-98473C3B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8FD00-5B8A-40FB-9CB8-02B249DD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C6C32-8A56-46E7-8338-7F09BC7F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FE707-1A29-4032-BC25-B16B4771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4A4-BDB9-4B23-BD59-BAD89440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AFF-CFE0-40A3-B746-24B613BE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DEF-A44A-4F8A-8088-B4E2D673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3020-8A19-409C-BD91-0C99F02F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925-1B81-479A-9B4A-4CF36406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983-FC35-4436-BB77-6D305D4A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8182-9911-4F29-8EF3-235854938920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55FA-0645-4817-B147-916AEAB393F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05D9-ADB8-4FD8-911E-6D88FAF61FC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továním ostatních rezer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statní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6633"/>
                </a:solidFill>
                <a:latin typeface="Garamond"/>
              </a:rPr>
              <a:t>Účtování ostatních rezerv</a:t>
            </a: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41672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ostatních rezerv se účtuje do nákladů, a to na účet 554 – Tvorba a zaúčtování ostatních rezerv (na stranu M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erpání (rozpuštění) zákonné rezervy se zaúčtuje na stejném účtu na straně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iúčtem je účet 459 – Ostatní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 účtován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54/45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rušení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59/55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jednotka se v roce 2010 rozhodla tvořit rezervu na opravu počítače (1. odpis. skupina). Oprava bude provedena v roce 2012. Rozpočet opravy 80 000 Kč. Tato oprava byla v plánovaném roce provedena dodavatelem. Fakturovaná částka činí 99 220 Kč, včetně 21% D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te tvorbu rezerv (za jednotlivé roky), fakturu od dodavatele a zrušení rezerv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4/4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4/4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počítače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2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11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7 22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43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59/5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8:31Z</dcterms:modified>
  <cp:revision>17</cp:revision>
  <dc:subject/>
  <dc:title>Dohadné položky</dc:title>
</cp:coreProperties>
</file>