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BA80-C9D8-4FEE-A533-1101D9E17BA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062A-3DA6-4ED1-B191-EBA17E022AE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97CC-FC6A-4F3E-BCBB-B239647C47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80F9-49C1-40A1-A12C-5A085CC5E14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A8F1-A0C1-4FA2-8EDC-B74D96C77E5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6216-A867-4499-AC3C-4044D556B4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E361-5D37-4FAA-9974-23EAF40C1D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A526-0FD8-4BD7-9517-D70057BC44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0D64-8137-4806-BF0F-DAB961B3E5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5A7B-D286-411A-BCBB-8CD3F355AB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CC9D-A512-4B74-8CE1-020A33D213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D051-546C-4FCA-86DD-1CF5327FF3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C7F-8D30-4CFE-85BC-98C7760C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614-5F04-4EAE-A8E2-5D0ACE14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90F-6540-46D7-A0C6-9DDFD341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7E48-87C1-4137-BAFD-8E9D2553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8C5F-9D43-4ACE-9EF6-9E658059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1718-E4C8-438C-840F-DA30880C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F90F-C3FC-43B5-B094-6FFCE053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15A2-188E-4047-BEAC-9B5D5FE2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0C32-3CE8-403F-B065-9CC106A3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592A-BBDA-4C34-AA5E-4F776FCF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777D-F82E-4518-A02C-75D8E0C7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6A4-BD38-4308-9A97-2FA8FC60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3E1A-2703-4C3C-BD1F-69D16BA1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0847-FDCB-42EE-B964-E3EB86E3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B395-F8E6-4BB2-BEC5-5B0ED000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01DB-427A-4133-A4D1-C8F2C1E3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F53E-AFF0-4A95-B50A-8EC6B385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338CD-544C-41E2-9C62-C17C88CE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F7861-B7DC-48B3-8EF1-50E68D58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406A6-D227-4AC6-A763-862A67C9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76F47-782E-4898-A3D9-48D33D7E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26328-670C-4F2B-AEA6-3D319360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2CE-B935-4364-8427-C736FC1C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8051A-E745-412C-99CA-DD0809DC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EEF23-A30C-47A6-B77C-14F2B23D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91F5D-466B-4BF1-98F2-09FA1499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6B980-E371-46AC-A8F0-8C84DAD0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14681-2FD8-468A-A97F-12F468EB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2627D-DE88-4407-9CB9-BF1BDB66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8700A-B4C8-44D7-96B1-AD1D8640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8C06-0430-4F69-A3EA-FDA7F341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FEB-EDE8-46AD-890E-7B183A0E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B8B-9F4A-4A50-A4E4-3D3EEB51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0CB-F464-4EAD-809B-88691781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F5F-1F6E-4C8E-9C6A-35FECA1E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727-C25E-4568-87A2-AE9AB978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BFE7-1F0C-478C-90C7-08A381F41056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E0D1-54D6-4EF1-9999-5B1844688A3D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ECEA-EC06-4C68-A32A-9A19EAB0EDD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FaV – Prodej výrobk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11/6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VúD – Tvorba opravné polož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VúD - Odpis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46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. VúD – Zrušení opravné položky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91/5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e zrušením opravných polož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minutí důvodů, nedobytná pohledáv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79280" y="24210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Zrušení </a:t>
            </a: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opravných</a:t>
            </a: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 položek u pohledávek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33"/>
                </a:solidFill>
                <a:latin typeface="Garamond"/>
              </a:rPr>
              <a:t>Zrušení opravných položek u pohledáve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é položky u pohledávek se zruší, poku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minou důvody pro jejich existenci (např. pohledávka, na kterou byla vytvořena, byla uhraze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hledávka byla odepsána jako nedobytn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33"/>
                </a:solidFill>
                <a:latin typeface="Garamond"/>
              </a:rPr>
              <a:t>Zrušení opravných položek u pohledáve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(čerpání) opravných položek u pohledávek se účtuje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daňově účinných opravných položek 391/5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daňově neúčinných opravných položek 391/5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ma měla neuhrazenou pohledávku vůči odběrateli, a to ve výši 70 000 Kč. Na tuto pohledávku vytvořila k 31.12.2012 opravnou položku ve výši 14 000 Kč (20%). Dne 21.2.2013 tato pohledávka byla uhrazena odběrate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úD – Tvorba opravné polo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bú  - Úhrada od odběr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úD -  Zrušení oprané polo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VúD – Tvorba opravné položky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Vbú  - Úhrada od odběratele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7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21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VúD -  Zrušení oprané polož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91/5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irma Senox, a.s., vystavila dne 5.3.2012 fakturu odběrateli za prodej výrobků, a to ve výši 500 000 Kč, která nebyla uhrazena. V prosinci 2012 byl na tohoto odběratele vyhlášen konkurz a firma Senox, a.s., přihlásila svou pohledávku. ve stanovené lhůt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následujícím roce soud zrušil konkurz pro nedostatek majetku dlužní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účtuj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Zaúčtujte: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FaV – Prodej výrobk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VúD – Tvorba opravné položky (10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VúD - Odpis pohledáv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VúD – Zrušení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2:48Z</dcterms:modified>
  <cp:revision>27</cp:revision>
  <dc:subject/>
  <dc:title>Dohadné položky</dc:title>
</cp:coreProperties>
</file>