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685B-10DB-43AB-80E5-09105F3A5D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BC7-87D6-4A9B-B85D-50D8C16F846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5DC-CFC2-4706-B24E-EA8635F734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FBAD-8E3A-491C-A132-02D506B82F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D447-F4B2-444C-9E0C-D367412C95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C71C-822A-432A-AED2-2E680F6BAD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C6A3-F440-46D6-A83D-1CB64600A3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6E6A-0F76-449E-AABC-7904550041E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A34-429F-4CBE-A1D2-90A2CE2D0E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CDC6-B6A0-4AB7-B2E9-3924A59A65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3437-48E9-4173-9394-746578187C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ADD3-6E4C-41EF-9769-3F147417FA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8E2-7A77-4E52-A821-BD87995418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6435-ACFA-41CF-BF84-75046E8AFE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3A6-3470-4BF4-9680-8CBF319856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59B-67CC-4679-A16E-16450AA3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5BF-45C2-47A4-9D6C-04DA0E72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010-6735-481C-BFE8-44D4F5DF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BF2-94B5-4EC0-8A2B-EDD06001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BB26-2E9A-48BF-8970-E3B48938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06E5-2ADD-4F93-B8F6-2112091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160C-24FF-4228-8F4B-E4964D35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4306-4471-4ED1-952C-5C57FCB4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2A73-02AE-4BF8-8F49-ABD96811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D61F-BA26-4B3D-9592-6C1408E5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EE3F-FA27-493A-A06B-69CA637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7F7-037B-4302-8485-A5A0BDB2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A562-EDAE-435A-8839-B7F07024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4B06-A77A-434A-8605-14286FF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1055-D0FD-4A8E-B5A8-6422C83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3BC2-FEAF-449E-BAE7-D7E8CC18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54F2-191C-4CBD-830E-FAA63E93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6D222-929A-4CF2-BF74-CD82DD54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DC6BC-D62D-4C0C-BA27-F41B0221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5F26A-1EBF-4026-845A-CF0744CC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3AB04-BA38-4A51-AA4D-0D11DB1F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47A25-4327-4A43-8C59-1DAD0D22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EAA-1E6D-4511-8C5D-3F2DD5FA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EF4F5-C541-4D44-9738-5306B7CA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168BC-6B32-4209-B4AE-DF718823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28F8D-B5E2-4FD4-96B8-41080A50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AB9CF-6026-4B83-8D72-694CBCC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C8B31-8651-47A2-88F0-59408E85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78EB8-6DBF-4CFE-8629-9019991C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5B673-FDF6-4DFE-9498-5C1986AA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A4F-E03D-43E6-9011-AEC88521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A8D-84D8-42BE-8EED-163E52A6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92E-08AC-4A34-8402-7592AFE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C98-AB00-456F-BB1B-7F2B53E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34B-C48E-4067-A28B-DFCACA8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932-8FD5-498C-8B09-5033527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5283-3937-4CB9-B0A5-C82F3338C3C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B68E-4AC8-42B6-B955-601A0BC910D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9D74-6086-439D-AA67-6A77E8B456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rozvahová hodnota pohledávky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kamžiku jejího vzniku nepřesáhn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 000 Kč, může být po 6. měsících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ena opravná položka do výše 20 %,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to i bez návrhu na zahájení řízení prot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nevýznamných pohledávek lze vytvoři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u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ž do výše 100 %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hrazené rozvahové hodnoty, pokud od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ce sjednané lhůty splatnosti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plynulo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jméně 12 měsíc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významnými pohledávkami se rozum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promlčené pohledávky, jejichž celk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odnot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přesahuje 30 000 Kč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ůč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už 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se jedná o pohledávku z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em v insolventním řízení 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ledávka byla u soudu řádně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hlášena, může se vytvořit rovno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00% opravná polož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čtování opravných polož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k 31.12. 2013 neuhrazenou pohledávku vůči odběrateli, a to ve výši 70 000 Kč, která je 6 měsíců po splatnost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jedná se o pohledávku za dlužníkem v insolventním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Dále firma dočasně snížila hodnotu jiné pohledávky o 21 000 Kč, která je 4 měsíce po splat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Tvorba opravné položky 20%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Tvorba opravné polož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21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9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ravnou položkou u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časné snížení hodnot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použijeme v případě, že pohledávky jsou již po splatnosti, u kterých však předpokládáme, že nám budou uhraze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ou dočasně snížíme hodnotu pohledáve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 uhrazení pohledávky se vytvořené opravné položky zru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 pohledávek můžeme tvořit tyto opravné položky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8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ne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9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ou účinnost opravných položek řeší zákon o rezervách pro zjištění ZD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i opravných položek závisí na době, která uplynula od konce sjednané lhůty splatnosti,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ech, kdy věřitelé podali návrh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zahájení řízení proti dlužníkovi podl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isů o rozhodčím řízení nebo soud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příslušné řízení bylo zahájeno, lz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it opravnou položku v závislosti n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bě, která uplynula od sjednané lhůty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latnos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více než 6. měsíců – až do výše 2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více než 12. měsíců – až do výše 33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více než 18. měsíců – až do výše 5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více než 24. měsíců – až do výše 66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) více než 30. měsíců – až do výše 8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) více než 36. měsíců – až do výše 10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18Z</dcterms:modified>
  <cp:revision>22</cp:revision>
  <dc:subject/>
  <dc:title>Dohadné položky</dc:title>
</cp:coreProperties>
</file>