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EC0B-9796-445A-B92D-F6DBDEBE0D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848E-3009-4BE8-B07F-D427C690ED4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2E53-8177-4A4C-988A-AC37E5B65AC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93CC-841F-4942-8261-C8DBFFD3C6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541A-8C71-4CC5-814B-3C309A7636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7C33-3197-4BE1-A965-B13155CDA7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1706-8166-40B2-B5D7-00EDF8A648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9FD7-35AE-4B3F-9CD0-B879E916CF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E5B2-0794-43B8-B943-071B9BDB53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6B7E-C3D8-42DE-B1FE-9369FD0E053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3EC-D3EC-4DCB-9197-E2C00DD8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62A-D196-4518-95F8-0337EBB8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319-2452-4A21-AB69-796925A6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105-5324-40FF-98AB-596C0DDF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A3D9-1389-4330-8F9F-2025EFD3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92BA-4868-4428-857E-B9CAD990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2E1D-21A7-4611-AF5B-B6DDCBD0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8D89-A4F0-4524-9F15-CFB0A296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B5BE-2D83-4AAE-9B43-98F04A9E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2FDA-03B6-4653-97B5-5E6CA183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FF3B-9BD2-40FC-9220-88EDCC68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D41-28D7-4126-85F5-E348A756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DDA0-2EBC-43AD-AC23-C61C9883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4120-4F41-4184-AFEC-E24F4E7C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A118-6257-434A-BD98-F062B245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1BC7-663C-4533-887C-403B5555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FF70-37BF-44F8-99BF-841BD0BE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0D27C-6663-46BA-A372-5EDDCD08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2D2B8-30FB-467C-AB93-53311B4D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523CF-3966-45E3-A4A3-0050F5E4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CA735-E950-4684-9540-2206A246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AB82A-1B31-4F0B-A26C-45048895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8A0-7614-4DB8-A8C8-2C019357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F87B8-FCB9-4AB2-B268-42B66E55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F3EB9-6664-424F-82C0-A2039185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97F62-34CA-4D9E-8070-115F87EF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0A4D5-6631-4FAD-A813-0495CCC0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04DBD-4125-4D24-8992-F77B9FF8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60415-FFCE-4056-8204-42CE45F4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DF003-CB87-4E23-A1CF-A3F2E8E4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818-E7EC-4D5A-A115-1BD14A5E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1EA-550E-4327-94AA-1D8B37FB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1C5-EAEB-4755-98A3-67E93312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D75-A34D-446F-ADE7-7AE42BF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A9B-B723-4306-B1CD-95D6FACA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B8D-7D19-4A05-8C66-5FA9BA5A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C16D-E172-4003-A33E-65ADE71E4B1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B32E-384F-4BD5-B0A2-8A67C56EE64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0A07-B4F1-45B2-B2B3-915C5519B4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c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trola, účetní a skutečný 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2349360"/>
            <a:ext cx="74278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on o účetnictví ukládá účetním jednotkám povinnost inventarizovat majetek a závazky a stanoví pravidla pro provádění inventariz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kolem inventarizace je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věcné správnosti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jištění zda skutečný stav majetku a závaz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povídá účetnímu sta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reálnosti ocenění majetku a závaz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musí vzít do úvahy všechn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vídatelná rizika, které se týkají majetku a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azků a jsou známy ke dni účetní závěr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dle toho, kdy se provádí rozlišuje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Řádné inventariz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eriodick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na konc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ho období (ke dni sestaven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věr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postupně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hu celého účetního období (termín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žné inventarizace si stanov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tka sam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odle rozs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Úpln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– týká se vše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ílč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týká se pouze některý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Inventarizace zahrnuje tyto etapy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ovnání skutečného stavu se stavem účet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čísle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asnění příčin a vypořádá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43Z</dcterms:modified>
  <cp:revision>21</cp:revision>
  <dc:subject/>
  <dc:title>Dohadné položky</dc:title>
</cp:coreProperties>
</file>