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3F835-0B86-400D-919C-83E2DA0CD93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45C1F-C9E7-4EF7-8212-4CE2ABD5777B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9AC0C-6758-4629-AC3B-3907CDC9202D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BC89A-E7F3-4381-9135-85280D2FB78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91077-8C06-4997-87BE-21B5B644F96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56193-B400-4067-8CB4-8AD533346D0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9F65C-FF6F-4597-AF81-30BC72E1262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2D4B0-1094-41BE-8CAC-AC49B86C500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9FD47-4EF4-499D-87A5-5C97B1ABB95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ECD22-F3F2-4234-8FB3-2CBEC82FE0EC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3EF1B-66A6-45F0-B08B-FD772E400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A3733-AD51-45FF-83F5-EF60AFF8B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B985AB-4B5A-46B3-942B-27A50C6E5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91E91E-F284-4092-BDF2-4B876EED6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C03C9A-0938-48DC-90E4-E4EED4F50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860830-B6FC-4D0C-9A6C-0AA33DDE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EEDC5B-41ED-426E-AE6B-A441DF03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1B8D4C-F3B7-401B-949B-2DE9B0BD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5CF6DD-C6CB-4FCD-A11B-CE6DCCB90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05424A-CBB2-45FE-AF8A-1DD410E9A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6261E3-F691-4127-B8CC-14A57CC49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06ECA1-0A08-4DF5-80BB-854EAF20D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7FDF4-CB5D-46C6-BDAA-67D581238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0F6E34-04AE-4807-88B7-D0CC47B84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2A46A0-B630-4AC9-8A4B-4EFAE3AB6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2035EB-1039-4ECC-B8A2-33F2209B1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D33C2A-5AB5-4EBC-BAEC-A1CBB7C80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A3EDD8-DBA8-4F54-925F-0403D495C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052871-8BB8-4361-ABDB-56A80910F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C557CF-A7D7-4A09-9C45-E141A064E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F5C349-C3E1-4BB2-9893-C12D5C78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8106C5-4F8A-4A72-9C9C-DB7586C6E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D338DA-7572-44AF-809A-A56D1F6DA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8D23C-F5BB-42AE-84A3-0035FB4A0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F038D3-A02C-4822-9F9E-0C11DF4FF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24A57A-6C24-4CC6-8D1C-FC311932D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0B2FFB-EB47-441E-9251-86D619906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5B79A6-1F80-42B6-9C46-224BFB421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03A15E-C177-4F20-A633-D5A5CDBEE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9BB737-3B22-4D9B-BAFB-1D8AE55BD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273EC1-56E4-49D0-AA13-485AFF509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BD5B1F-083A-44C2-83CE-1248E8CE2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17F564-867D-4FFA-8D8F-BB3E4BECB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A06E92-DA7D-4B0D-9696-A6152C0E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B6B41-996F-4B15-B21E-FEC7664E8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53FA4C-92FC-4DC0-99D8-F322FCBAA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8EC317-119C-4741-B87A-33E09FA32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D7F23F-CD69-4FB7-AE9E-DE0B4D543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5F807F-C679-4E7A-B08A-A8B44DAD5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453D29-50AC-4189-979A-0B446922B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75B0C2-6436-4824-947C-92DFF5AB6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5CF8F5-3C77-497D-8E0F-ED216B3BB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FFBEF6-58BB-43D3-9466-FD76035E5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F7517E-C002-4CB9-8111-1A576F957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697017-39EF-43E4-89F0-0842D1A64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D4B46-A7A3-427E-BCF5-327806502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C1BB6E-AF04-47E9-9729-7102B5A18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4C215E-8B60-477E-9ED6-53648DFB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5439F7-3D8C-4804-BCE1-440AE5CD5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0461B8-B8BE-45E6-B68E-DA6863E01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A0130E-0A84-4F98-A0F5-121A5F296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BA6752-22F6-48DA-9BF2-095A28249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B882A6-FA9E-45F1-B6A0-1D04A8D73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CBCEB1-60A2-4671-8D48-50ABD08A9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FD10DE-D9C3-46A7-B5C5-8DED99AE1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66D82B-4C78-424F-9D14-A2810FEBB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AEF31-2C56-4609-955E-877736A40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CE296F-5243-4F5D-B19E-97019BCB1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33E00C-8739-4665-ADA2-2E80BE92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1A8D14-3151-414E-8A00-2A0B6CE8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20AD52-61C3-4BE3-8CC0-E55EA6038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05591F-CB13-4D05-ADB3-0E5F5E514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532855-6BC8-4519-8422-DC53A2D1D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606497-F9AE-4A67-8401-1AD2B0A82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722928-23F8-40E0-A22E-3AB6C1DD6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845C25-C5C4-413C-8DE2-F74622152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D81C31-00C3-4309-8053-72B9B493F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0CC70-FC93-4115-B991-0A7455866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0461FC-7971-42CE-AC01-F0BB5CED7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C61D23-7CF4-4AC6-A0BB-42F7193E4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8B64F2-4C12-4C01-91EF-527354BAE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E5ACA9-5523-44D3-9A82-E94D01BD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55A22A-AC3B-49A4-9150-6877D975B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985DD3-8721-4116-A629-CEF8B14F8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14DC6C-F4BD-4CF8-9153-C62244629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2884FE-E094-4957-A7C2-952EF6B17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E33E66-6A6F-4F3E-906E-66770690F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CAA553-8EA2-4FAF-8737-89BC0C32F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701DE-6D4A-4CE9-983E-5FF0FBA84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4EAC7E-03D9-4345-8A07-AB8796DD2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318CC3-90EB-4CA0-A7B7-3EAAC4411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AE2670-4383-4D4C-84D0-BD1FE11F4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6FD321-C88A-4411-9333-0048B9D2C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FF826A-A049-405A-942F-EAC2782B6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48C4E0-E848-4C7C-BE59-9ADEFAD27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B8F43A-4232-4958-977C-9C917864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893AEC-47F4-433B-BADC-1556B4E4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4AB79F-8AC3-4FF3-9A14-E3DFE8A54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4349A8-2B25-4BE6-B3E5-79DB56BDD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2D6F2-304E-409D-AC48-6B79D0014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B1BC11-1375-4489-8A1A-172C4A342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B121880-7793-4996-9A10-BBD3BC73E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9331D70-2F9C-44EA-8C43-FCB20E35B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9BE7621-686B-4580-BB3C-C3536DABF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3EBBEE4-F286-44C4-8FEA-99EB401EB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425C3C1-C10F-4787-B992-7325F9176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4308530-3D4C-4388-A5A0-047FF22CB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C8EF1A8-67C7-4143-BFB1-68E0E9DD2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DF7EE44-E95B-4E58-9D2A-8185A6EEE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13BF20D-ACA7-419D-A883-EF293C863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36587-3A54-4932-B3B6-317970316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7CE811D-D060-413B-8F0E-070595C0F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261666D-4186-491D-B016-376E1C866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A9D06F0-941E-49FF-AEA9-BAC4C2843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F9AE03-FB48-44CC-B46F-BF130ECEE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247475-F377-443E-BD73-2B0FC0E41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9E764D-91CD-4654-A3D5-0FF8E1ABF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875ED0-5166-401D-8A94-E2511371C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0DEDAC-F91A-4D12-9981-838A58926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6F5681-7324-4230-B14A-FF424EF04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5262E8-48F0-479E-A0AC-87D923AE9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F928F-8EFD-4D56-80CC-038EE3B96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20E1E-D02F-45E5-8C7F-9A77C5C95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E7566B-DE10-46EF-8E78-BFF20BDE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382253-587C-4A80-B632-F15671129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0C7546-47E7-423C-AF4C-8F8B2EC7E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FD603A-BC42-44EB-9AA5-C8D5156BE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7970DC-BE73-4ACE-835C-1FE6971D1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29203-3100-4649-ACAC-4A812804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1E5A3-C0C8-4ED1-AA64-E23E1D107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86046-79F8-4DF1-A093-5025A8FB3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056EC-5802-4233-8892-E31A81565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86207D-9D46-4274-9023-EDE5C4BEB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641DEB-24C6-4C8F-AF78-75A1765AA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FB2022-A372-4164-886E-C25BC007E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FDAEE4-9B49-4901-881B-FF9241334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DAB4E2-4BB7-40B3-9852-60D920F6C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2DA6C-6A78-433D-8B9C-86DC61C52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CEAE9C-DFE7-40EE-B06C-354C87C61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0C6BD9-324F-4BB9-BAD3-EC5D754D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64AAB4-6E11-4050-8429-C110AE998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47AE1D-B651-41E3-BF6A-B32CBFD32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33D846-35AB-4F4B-A3DA-7890529A0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9C39EB-0DFE-4D52-99D6-CCEEE0D03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053468-698D-4ED7-AD85-C763B7AF3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A7D0D-E596-4D2F-8CEF-B2BB4581C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CD008-91C2-433B-AA7D-E2706C871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E4807-1B8D-4DCC-AA06-2C5876D3F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D4E55-DB38-4F14-B4E8-85E1F7D04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9C3DF-51BE-436F-A343-C4C56DC9E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D5705-1A55-4603-83E4-C7AAE254E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67C8E-4DAE-4A8F-94C5-7EBB8D3CC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F0075-9120-4E1D-8AA2-3F1BC8FC0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3DD80-69F7-4794-8E24-97EB305C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651A3-1700-4F88-B58C-2343D3D3A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1E050-1355-4E31-9840-C26C896E6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DBE1B-CC91-4262-A1E8-E2C5123D0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2D826-965D-4EC2-83D6-1AD7A3594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8A6F44-6407-498E-8843-E7F11C4E3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955E4-D48B-45B3-8B86-5B3A15E71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DEEDC-2867-48FF-9D59-5DE9DD5E8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A6BF9F-B198-46AA-9869-686CA991D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5C13F-C93D-4222-9A76-7086DE481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6DFF6-5F2C-4E6B-9C20-83D0B53D4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6785CE-CC60-4C15-9066-CADC56EDD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A8E06-AF7C-43AF-9317-F42A454A1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A0A97A-C4B6-42B7-A76E-2D7B4A54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A8A2C3-5A0F-4169-827B-CA8306828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E2B4C-7483-4183-8FE0-3A17CF845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39B60-504B-4FF2-BB16-694076CCD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683AA-C834-487C-B0E5-40B1726BC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AF898B-62CB-48DB-8F52-C0398BFDA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3A3A71-81FD-473E-BDA4-A2FC24F9F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B859AA-37B0-4A02-8159-844FF664F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ABA9A3-6235-4146-8C7B-3C8A2F456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4E2876-C362-4B15-BE97-A8DD32CFB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410671-E8A3-4253-A978-2E16ED26E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55F4E9-9182-43C3-AF54-AF875DC52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F995AB-3474-4060-B5FA-5FF2EED93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426C84-EE1B-4D34-8AD4-19ED0B6B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227289-C1E5-442F-81CE-9DA7987A0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0890F-171D-4624-9A2B-E1E5305C6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8E80FB-724F-403E-AD8A-A95D40871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1EBD0F-A4C3-46E3-9B99-79383099A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A30067-DFC7-4999-A1C6-C28C84150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762CC4-E05C-454A-9CF3-46FD2AEF0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95A71F-09D7-4733-857D-A6236C1BC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151687-AC0A-488F-A1E6-3FCA7572D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DE80A6-E6FF-4607-A01C-05D91F683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655679-2319-4985-96DA-D9E388206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447DBE-A54B-4722-814E-BFCEC2896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F6E827-F05C-439B-833C-7056369DB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B9464-DFA7-4D49-9E93-8F3045099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A77D77-9304-44D8-8D91-784A6180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90DA32-DA95-4CF7-ACDE-6E44C9E6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59E80F-2D12-4366-AE00-7A510C9BC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29A6FD-A4D2-433F-9025-2512835BD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54DC0E-E3D2-4F5E-B91A-57F0CF9D5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7E7D69-8AFC-47C8-B6A9-1359BCFD1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0B215E-8AAD-424F-9480-97E8DE64F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2A951E-368F-4EE9-B950-340C0CE80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5716BA-A90D-4B3C-ACBC-C8A6DB1A2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96F905-D63F-4531-818C-15DFB1440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E2AF7-72B2-4114-8882-9B4788CB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00BA18-2577-4DC1-AAEB-32050A59A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E1485B-0740-48DC-9AB0-96AA9E39D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EB2048-620F-48FC-AD77-FF5F7339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288B70-EB50-46B4-B51D-140B34F6A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19BB27-B222-4632-8D7F-9E4F5AB1A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709C22-8550-4C44-8D03-C383AFE43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1A21F2-41F4-4D59-869A-16528169A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A0C634-2FA2-4B73-BBE5-755FDB67B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A6F869-1A51-41AE-8C13-C9C8438A9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E42BB4-7EA0-4CBD-B980-F35CEEFDD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FBBEB-F67A-41B1-A0E1-F25227F90A3B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66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7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7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7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8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68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69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69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69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0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 type="dt" idx="2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 type="ftr" idx="2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 type="sldNum" idx="3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243B5-9CE5-4623-9C20-BE434146933B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6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747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6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757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758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1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4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765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73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4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6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777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778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9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780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88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 type="dt" idx="3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 type="ftr" idx="3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 type="sldNum" idx="3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6042E-4DCB-4D7F-86EA-0EC50691E8C9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3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834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3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844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845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8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1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852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3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4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5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6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7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8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9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60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861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3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64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65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6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67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8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9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0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1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2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3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4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75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 type="dt" idx="3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 type="ftr" idx="3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 type="sldNum" idx="3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B9753-45F8-4CB7-9C26-97EE962948EC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21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931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932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3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4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93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0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3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5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6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4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948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0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951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952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3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954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5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6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7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8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9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0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1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2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dt" idx="3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 type="ftr" idx="3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 type="sldNum" idx="3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94155-BD13-47E7-8DDC-8E269B5977C5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7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008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7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18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19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0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1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2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5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26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7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8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9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0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1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2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3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34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035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7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038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039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0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041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2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3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4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5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6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7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8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9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 type="dt" idx="4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 type="ftr" idx="4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 type="sldNum" idx="4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703B9-19A7-4E79-8056-5122823B3AF8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09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10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10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1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2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12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12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12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12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 type="dt" idx="4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 type="ftr" idx="4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5"/>
          <p:cNvSpPr>
            <a:spLocks noGrp="1"/>
          </p:cNvSpPr>
          <p:nvPr>
            <p:ph type="sldNum" idx="4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172DE-9D5A-4AA4-BF93-95E9E16084E1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18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19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19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20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0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0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1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212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21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4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215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6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7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9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0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1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2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 type="dt" idx="4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 type="sldNum" idx="4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70A5C-A538-48C6-8B32-B8063944E339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PlaceHolder 5"/>
          <p:cNvSpPr>
            <a:spLocks noGrp="1"/>
          </p:cNvSpPr>
          <p:nvPr>
            <p:ph type="ftr" idx="4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6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42D95-9D68-4D14-B865-D2EA45146E64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1AE3E-09B5-4946-91F5-A5B20A1CBA16}" type="slidenum">
              <a:rPr b="0" lang="cs-CZ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6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7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7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7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8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9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9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9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61C3E-F442-4B63-856F-3B5359A450BB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90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93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D467C-1625-4C25-9C3B-8EC7ADE8FD25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46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9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50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5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56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9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60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5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107B4-709F-45CA-A1DF-6FFE1941FD4E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1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2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32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3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3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3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42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34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4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345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0047A-CCF2-446F-8630-F87FDD7B70AC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9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0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1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41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2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42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42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3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3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4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7FB3A-5C6E-4DF9-BB20-7A6515C41F56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48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9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9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50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1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51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516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51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8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519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A33DF-B681-4F97-8373-D31C3CEA2AD2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7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58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58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59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9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60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603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60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5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606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1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C75A5-9C2F-42BF-BB60-539D7BB7B76F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8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8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29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Y_32_INOVACE_2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30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32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14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Účetní uzávěr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Prezentace k seznámení studentů s časovým rozlišení výnosů a příjm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Výnosy, příjm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ff"/>
                </a:solidFill>
                <a:latin typeface="Garamond"/>
              </a:rPr>
              <a:t>Výnosy a příjmy příštích obdob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384 - Výnosy příštích období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nto účet používáme tehdy, jestliže jsme dopředu obdrželi peníze za službu, kterou poskytneme v příštích lete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příklad –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ájemné přijaté předem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ijatou částku zaúčtujeme např. na 221 – Bankovní účty, ale protože službu poskytneme až v příštím období, nemůžeme tuto službu zaúčtovat do výnosů tohoto období, ale musíme zaúčtovat na účet 384 – Výnosy příštích obdob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příštím účetním období po poskytnutí služby přeúčtujeme na účet 602 – Tržby za služb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etní jednotka přijala v prosinci 2012 nájemné za pronájem garáže v roce 2013, a to ve výši Kč 60 000,-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čtování v roce 2012 (31.12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BÚ, příjem nájemného 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60 000,-          221 / 3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čtování v roce 201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ÚD, rozpuštění časového rozliš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 výnosů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60 000,-          384 / 6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385 - Příjmy příštích období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002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tento účet účtujeme tehdy jestliže jsme poskytli službu v tomto účetním období, která nebyla inkasována ani zúčtována přímo na účtech pohledáve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příklad –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ájemné, které nám bude hrazeno pozad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provedené a dosud nevyúčtované práce, výnosové provize at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lužbu, kterou poskytneme v tomto účetním období zaúčtujeme na účet 602 – Tržby za služby, ale jelikož se nejedná o příjem v tomto roce, tak musíme zaúčtovat na účet  385 – Příjmy příštích obdob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příštím období, po přijetí částky přeúčtujeme např. na úče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21 – Bankovní úč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859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četní jednotka v tomto roce pronajala budovu. Nájemné ve    výši Kč 60 000,- ji bude uhrazeno až v příštím roce ( v tomto  roce nebylo vyfakturováno ani inkasován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Účtován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Účtování v tomto roce (k 31.12.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ÚD, předpis nájemného za tento rok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60 000,-   385 / 6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Účtování v následujícím ro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BÚ, příjem nájemného za minul. ro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60 000,-   221 / 3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ysvětlete kdy účtuje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íjmy příštích obdob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klady příštích obdob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daje příštích obdob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nosy příštích obdob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          Ing. Pavel Štohl,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8T08:07:38Z</dcterms:created>
  <dc:creator>Ing. David Holzbauer</dc:creator>
  <dc:description/>
  <dc:language>en-US</dc:language>
  <cp:lastModifiedBy>Igor</cp:lastModifiedBy>
  <dcterms:modified xsi:type="dcterms:W3CDTF">2014-09-13T15:41:34Z</dcterms:modified>
  <cp:revision>16</cp:revision>
  <dc:subject/>
  <dc:title>Časové rozlišení nákladů a výnosů</dc:title>
</cp:coreProperties>
</file>