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81BF-9124-4215-B41A-4C8332DFCAB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DB18-84C2-4612-A417-D943328D221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BAF5-0CF5-4C14-9980-A8BD23FFEBA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0038-54C7-4566-A31C-2E2970C69D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835E-C64E-4606-86AC-129EECFD6B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7AB3-CB49-4D51-8BE8-A8E5F181C0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3E21-CB48-4568-B2E9-2E1175C1F98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275-F788-419B-A95B-DBB2E386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62F-47AF-467D-953A-DE4B1A74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646-0DD4-49D8-947E-05294ED0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C9D-446C-4D8D-9515-618A6D6B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B617-DA0F-4615-9EA7-A9D0A57D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8953-D9BD-452D-B1AC-75D757F9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DF62-8DA7-4BCA-82D7-16B8C745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D1F8-BA56-40BA-ADE6-107C854F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DC9A-FF89-4851-90E2-DF5F8432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3A20-B6FB-4C0F-9BC3-E23377AA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EEBD-7031-455C-8CB4-AC2AA375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647-E37D-490B-A89A-265E4648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20A6-840F-4064-9C57-AD73599F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DD9D-FA01-4831-83DF-59526DAB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A084-D566-4CA9-85B2-D2B7F71D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509D-0E2E-426B-BEE3-8C71C24B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8695-370B-4C24-BD5B-B8C8D82F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83113-AE6D-4FA7-805B-D113517B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18DA4-8F03-4864-A449-7A2BD0B4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03CD1-7FCB-4455-B237-48136C17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F22C9-38F8-485A-BC96-A6FA8E89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1C9CD-3D7E-43C1-A662-B4FB8621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E0F-7592-467C-B611-DB5D6259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1CCEE-0DE6-4E5A-9E52-DF1F6EBA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EC437-F23D-43B5-BB94-EC189CB0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685AA-B944-4DB9-8F5D-E6647FE4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25829-5D3E-4FB1-8304-F53ED853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7D3C8-C5F6-4C36-A4C0-2B2455BD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FE30E-659E-41AF-9D20-3903CE3D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07544-9F14-4F25-9E2F-B4C014C2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38D-C2AA-4845-8B85-6AA2781B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316-DC19-4C54-9925-D6E7481B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1A6-B170-448B-97DA-0F911E43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051-4750-4A05-87A6-4EBEB671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9DA-FABC-46A8-AFBF-444B861A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7E7-B04E-480B-BC8A-2EAD3673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2B5D-D65E-4087-92BB-C79CB58E0D05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E2AB-B6D9-407D-ABAC-6BB10C98E93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9C47-8992-4D1B-80DF-C535E8E852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etní uzávěr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onec účetního obdob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Charakteristika účetní uzávěrk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6633"/>
                </a:solidFill>
                <a:latin typeface="Garamond"/>
              </a:rPr>
              <a:t>Účetní uzávěrka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416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uzávěrka se provádí na konci účetního období (předchází účetní závěrc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účetního období se musí uzavřít účetní 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 uzavřením účetních knih se musí prové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ntar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ování účetních operací na konci účetních obdob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Účetní uzávěrk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ále následu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jištění hospodářského výsled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očet základu daně z příjmů a zaúčtování daňové povin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zavření všech účtů a převedení konečných zůstatků na uzávěrkové účty 702 – Konečný účet rozvážný a 710 – Účet zisků a ztrá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29Z</dcterms:modified>
  <cp:revision>16</cp:revision>
  <dc:subject/>
  <dc:title>Dohadné položky</dc:title>
</cp:coreProperties>
</file>