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EB78-1091-4BBF-B4F3-CD7E0D63E7D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30C-6979-4CE8-B920-0DDADF73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5FD-E5D9-4991-8A08-E682B822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044-5804-4E9F-9EB4-8C7BFC8A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0D6B-1CD3-4979-8D9D-F4859F51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BA3B-2AA7-4A4C-A2E8-D920966C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2671-BA2B-4D07-84B5-17CDC4C6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13AB-EAC9-4FA0-9187-30B84A75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420F-B16C-40D1-B036-8D8C61E9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F7D0-123D-4E29-AAE0-CBB29B7D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8386-5865-4C66-937C-34FA5AFB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4D02-52F2-4CBC-9EB2-F645306A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286-F859-4998-8765-0B143A47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0131-815A-463E-B472-1DC0238F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9A59-4ECE-49BA-B447-68E7D2D0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A985-CFA0-4E2E-BE4A-27045DD4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3A02-D30D-411D-B1B4-0131DBDF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A7E9-4138-4D07-8E65-BAA21D12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F03-D2E0-4591-8387-8C63BFBE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B4A-62C7-4883-B0BE-80433A01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C20-EA07-4583-A321-42039079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04FE-B583-4FA4-9D31-6C54486B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19E-339E-4D3A-B0B8-CB787107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2C5-9F76-4022-BCF1-537A695F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230F-FE3C-405F-95E0-5FC918A4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082B-58EB-4962-A2D2-223B1B3E4E1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7998-7C09-4703-8B1C-8C2280D3A99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s.wikipedia.org/wiki/Ryzost" TargetMode="External"/><Relationship Id="rId2" Type="http://schemas.openxmlformats.org/officeDocument/2006/relationships/hyperlink" Target="http://www.puncovniurad.cz/cz/znacky.aspx" TargetMode="External"/><Relationship Id="rId3" Type="http://schemas.openxmlformats.org/officeDocument/2006/relationships/hyperlink" Target="http://cs.wikipedia.org/wiki/Investi&#269;n&#237;_zlato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39640" y="4365720"/>
          <a:ext cx="7561440" cy="1625400"/>
        </p:xfrm>
        <a:graphic>
          <a:graphicData uri="http://schemas.openxmlformats.org/drawingml/2006/table">
            <a:tbl>
              <a:tblPr/>
              <a:tblGrid>
                <a:gridCol w="3527640"/>
                <a:gridCol w="40338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Vývoj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lato a stříbro, minc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mince ze zlata a stříbra (opotřebovávaly se), později z obecných kov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eníze papírové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lký objem a váha mincí,  proto vznik papírových peněz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lat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hemická značka Au (aurum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kký kujný ko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pradávna používán pro výrobu šperků a mincí jako platid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oužil jako měnová záruka pro bankovky = zlatý standard (bankovky kryty zlatem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lato  v současnost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elektronic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počítačovém průmysl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perkařs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ubní lékařs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zla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lato  v současnost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modita obchodovatelná na světových burzách, z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ákladní a nejznámější burza Londýn, zveřejňuje průběžně výsledky obchodování tzv. London FIX a London SPO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větová cena zlata udávaná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dolarech za trojskou unci (USD/oz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yzost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karátech (zastaralé), 1 karát = 1/24 zlata ve sliti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tisícinách, 585/1000 je 585 g zlata ve slitině (= 14 kt zlat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starale  i v 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yzost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žívané zlato u ná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4 kt = 585/1000, ryzostní číslo 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8 kt = 750/1000, ryzostní číslo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2 kt = 900/1000, ryzostní číslo 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ukátové zlato = 986/1000, ryzostní číslo 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4 kt (ryzí) = 999/ 1000, ryzostní č. 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značení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ozdobných předmětech a špercích z drahých kovů musí být ryzost vyznačena a potvrzena značkou státní zkušebny (puncem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R tuto povinnost ukládá a vymezuje Puncovní zákon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značení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konává Puncovní úřad, jako orgán státní správy na úseku puncovnictví a zkoušení drahých kov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uncovní znač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6" descr="http://www.puncovniurad.cz/znacky/CeskeSamotne.jpg"/>
          <p:cNvPicPr/>
          <p:nvPr/>
        </p:nvPicPr>
        <p:blipFill>
          <a:blip r:embed="rId1"/>
          <a:stretch/>
        </p:blipFill>
        <p:spPr>
          <a:xfrm>
            <a:off x="395280" y="1773360"/>
            <a:ext cx="85726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značení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výrobku kromě  puncovní značky i označení pobočky písmen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bočky: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-Praha, J-Jablonec nad Nisou, B-Brno, O-Ostrava, T-Turnov, R-Tábor, Z-Plzeň, L-Olomouc, H-Hradec Králové, K-Červený Kostele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57200" y="1905120"/>
          <a:ext cx="8229600" cy="4848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známení s funkcemi, významem a vývojem peně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, funkce, barter, všeobecný ekvival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Investiční zlat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kup zlata pro uložení dočasně volných finančních prostřed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zlaté mi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zlaté slitky (cihl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yzost 900/1000, 999/100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laté certifikáty, zlaté fondy – investice bez fyzického dodání zl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sou to peníz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nkce peněz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ormy peněz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voj peněz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teré měny plní funkci světových peněz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6. Zjistěte, jaké ryzosti zlata se u nás používaj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7. Co je to investiční zlato a v jaké podobě se s ním můžeme setka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8. Je stále aktuální barter? Uveďte příklad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cs.wikipedia.org/wiki/Ryzo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puncovniurad.cz/cz/znacky.asp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cs.wikipedia.org/wiki/Investi%C4%8Dn%C3%AD_zla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cc"/>
                </a:solidFill>
                <a:latin typeface="Tahoma"/>
              </a:rPr>
              <a:t>Peníze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eníz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eníze jsou takový statek, který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určité společnosti slouží jako všeobecně přijímaný prostředek směny (platidlo)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unkce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rostředek směn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používán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 placení za zboží a služby (platidl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účtovací jednotk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k vyjádření hodnoty zboží či služ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unkce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uchovatel hodnot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uchovávají svoji kupní sílu (úspor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větové peníz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vybrané měny a  zla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ormy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ankovky a minc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základní for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epozit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bezhotovostní peníz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účtech v banká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nné papíry  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Vývoj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zv. samozásobitelská ekonomik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spotřeba pouze vlastních výrob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zv. naturální směna -  barter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, výměna zboží za zboží, problém v různých hodnotách vyměňovaného zbož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Vývoj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moditní (zbožové) peníz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šeobecný ekvivalen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 zboží žádán všemi, slouží jako platidlo (plátno, dobytek, koření, sůl, jantar, kovy), problém ve špatné dělitelnosti, nízké trvanliv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07:20Z</dcterms:created>
  <dc:creator>kabek</dc:creator>
  <dc:description/>
  <dc:language>en-US</dc:language>
  <cp:lastModifiedBy>Igor</cp:lastModifiedBy>
  <dcterms:modified xsi:type="dcterms:W3CDTF">2014-09-13T14:42:45Z</dcterms:modified>
  <cp:revision>33</cp:revision>
  <dc:subject/>
  <dc:title>Peníze a měna</dc:title>
</cp:coreProperties>
</file>