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628A-ADC1-4AA9-87A2-DA65C924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08A0-FA3A-453C-96A7-BC7CE0B3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71AB-B129-4A2B-8869-ABF3808E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4874-E64E-40E1-9F09-4CD0D0DC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ED65-E84F-4823-A60F-EDD0511C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8846-69DA-4AD9-8A6A-89C95C6D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284B-4C33-4876-8673-785B3AC6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552F-8346-41AF-A066-A4E86082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C3A2-BB31-42C1-B1B3-F8EF4B83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894C-8946-48C8-8997-D71EB941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118A-E877-4687-8645-BFB7C1B7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DB7E-EB59-4D22-B826-33F5A410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80B9-1604-44E1-BFA4-6DE7D372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E55E-A8B8-4D55-8927-39BBCDB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D383-CC1E-47A3-871B-CE6E1FC1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087A-F161-4244-AA05-34D0FADA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F37E-9332-455A-8ADA-B1781E63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BABC7-F499-47C0-B7CC-B817121E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321AE-C064-4012-8221-3D05D223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3025A-3342-40FB-BB76-2B3EAD05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A20E5-F555-40E5-BA03-41025CF5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6048-4920-4F98-AC7F-4AF19DB6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ACCB2-12F1-4314-93F1-56097DE2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D941-A6A2-49EA-A983-C2FB214E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1CB2-27EA-4ED7-9760-66B04F67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0C671-BF89-4523-A17D-D2BB5A42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446B1-B577-408E-A0E8-608E5609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B127-5E74-4BD2-95BA-D471F250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7622-44A9-4F90-A587-59BB89CA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00CE8-C708-43FB-8608-A6137D66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3621-2C2E-4E95-8E07-B5991B67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DFCA-33F2-4B5D-A3DE-70F8FAAB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02703-0504-48B9-ACD9-ABF5C204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DFBB-948A-421A-A1A4-2753D8E9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4169-CBD6-4C7B-97E2-FFC1A58F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75BD-7301-4D1B-9C9B-E803E38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6C9A-60D4-4671-9529-3AF45F92D9C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09E3-BEB3-4E0F-8D3B-4EB32CAD548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5D3C-6E04-4060-942C-C2AAFA80681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11280" y="3860640"/>
          <a:ext cx="7561080" cy="4255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11280" y="4500720"/>
          <a:ext cx="7561080" cy="1554120"/>
        </p:xfrm>
        <a:graphic>
          <a:graphicData uri="http://schemas.openxmlformats.org/drawingml/2006/table">
            <a:tbl>
              <a:tblPr/>
              <a:tblGrid>
                <a:gridCol w="3456000"/>
                <a:gridCol w="410508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erace na volném trhu –repooprace, od bank přebytečné peníze, za ně cenné papíry (kolaterál), po uplynutí dohodnuté doby odkoupí ČNB cenné papíry zpět i s úrokem, 2 T reposaz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utomatické facelity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pozitní facilita -  možnost bank uložit přes noc u ČNB  svou přebytečnou likviditu Minimum 10 mil. Kč, depozita úročená diskontní sazb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Marginální zápůjční facilita  - možnost bankám vypůjčit si přes noc od ČNB formou repo operace likviditu. Minimální objem je 10 mil. Kč, úročeno lombardní sazbou ( nevyužívá 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vinné minimální  rezervy – banky mají  uloženy u ČNB 2 % (ze závazků kratších než 2 roky, tj. z vkladů klientů), slouží pro plynulý bankovní sty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bankovním sektorem, kapitálovým trhem, pojišťovnictvím a penzijním připojištěním, družstevními záložnami, směnárnami a dohled nad institucemi elektronických peněz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699920"/>
            <a:ext cx="7010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děluje lic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tření k nápr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stranění nedostatk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měna osob ve vedení a dozorčí rad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í nebo zákaz některých čin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699920"/>
            <a:ext cx="7010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tření k nápr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imořádný au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uta až 50 mil.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nížení základního kapitá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ucená sprá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nětí lic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NB stanoví pravidla, která chrání stabilitu celého finančního trh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grace dohledu do jedné instituce (ČNB) od 1. 4.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í stížnosti na finanční instit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ídá dodržování zákazu nekalých obchodních praktik, zákazu diskriminace spotřebitele a dohled nad řádným informováním o cen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68360" y="1916280"/>
          <a:ext cx="8229600" cy="4168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eská národní ban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ČNB, její funkce a úko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eská národní banka, měnová politika, dohled nad finančním trhem, emise oběživa a peněžní oběh, devizový dohled, banka státu, platební styk a zúčtování ban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bor ochrany spotřebit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ůže rozhodnout o náhradě, zrušení smlouv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ůže rozhodnout o porušení zákona (sankce pro finanční instituci), což je pro klienta důkaz pro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centrální registr úvěrů – úvěrové závazky podnikatelů (fyzických a právnických osob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častníkem všechny tuzemské banky a pobočky zahraničních bank na území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nopolní právo vydávat bankovky a mince včetně mincí pamětníc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bá o plynulý a hospodárný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avuje zásoby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huje z oběhu a ničí opotřebované peníze a poškozené vyměňuje za nov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jišťuje technickou a uměleckou přípravu platidel, jejich výrobu a dod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ílí se na přípravě právní a technické ochrany platidel proti padělání a na její realizac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uzuje a eviduje všechny peníze zadržené pro podezření z paděl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áva devizových rezerv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erace na devizovém trhu (devizové interven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regu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kupuje a prodává cizí měnu, tím ovlivňuje její kur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noví pravidla provádění platebního sty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avidla pro vydávání a užívání elektronických platebních prostředků  a pro bezpečné fungování platebních systém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ozuje systém mezibankovního platebního styku CERTIS (zúčtovací = clearingové centru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účty a poskytuje služby platebního styku zejména státu a banká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státu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bankovní služby pro stát a veřejný sek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účty organizacím napojeným na státní rozpočet (ČSSZ, ÚP, celní úřady, státní fondy) a rozpočet Evropských společenství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státu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í operace spojené se státními cennými papí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 oblasti měnové politiky reprezentantem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stupuje stát na jednání MMF a Světové 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Česká národní banka</a:t>
            </a:r>
            <a:r>
              <a:rPr b="0" lang="cs-CZ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ladní údaje o b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ová polit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Platební styk a zúčtování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Banka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Stížnosti na finanční instit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9. Zjistěte aktuální úrokové sazba stanovené ČN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o_cnb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menova_politik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financni_stabilit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dohled_financni_trh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platidl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platebni_sty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financni_trhy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dohled_financni_trh/vykon_dohled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trální bankou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on o ČN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itická nezávislost ČNB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istence zakotvena v úst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jvyšším řídícím orgánem  bankovní rada, v čele guverné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leny bankovní rady  jmenuje a odvolává prezident republi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rada předkládá poslanecké sněmovně Zprávu o inflaci (4 x ročně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formuje veřejnost o své činnosti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veřejnoprávní subjekt se sídlem v Pra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bočky: Praha, Ústí nad Labem, Plzeň, České Budějovice, Hradec Králové, Brno, Ostr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petence správního úřad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spodaří samostatně s majetkem svěřeným stá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 její činnosti lze zasahovat pouze na základě zák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smí přijímat pokyny od vlá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íle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m cílem je péče o cenovou stabilitu k vytváření podmínek pro udržitelný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spodářský rů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ora obecné hospodářské politiky vlády, pokud není v rozporu  s cílem hlavní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souladu s hlavním cílem tyto úkol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ová polit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55:44Z</dcterms:created>
  <dc:creator>Marek</dc:creator>
  <dc:description/>
  <dc:language>en-US</dc:language>
  <cp:lastModifiedBy>Igor</cp:lastModifiedBy>
  <dcterms:modified xsi:type="dcterms:W3CDTF">2014-09-13T14:42:14Z</dcterms:modified>
  <cp:revision>34</cp:revision>
  <dc:subject/>
  <dc:title>Česká národní banka</dc:title>
</cp:coreProperties>
</file>