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C11-EBB0-4760-A848-72D49986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840-DA5F-4E7C-ADD2-C9AA7A6D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1C1-6A20-4598-928F-01C584BC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5C8-431F-4902-843D-665BFEC9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00A8-B041-4010-A2DB-84969C1D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EEDE-C7B2-463F-97D8-4D0D6789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3C01-AF97-4ACF-8E80-E1462F00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A7DE-FB39-484F-B35A-710318D5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9001-D075-4035-9FF0-94EDD9B9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2EF2-EDD5-459F-B379-3BB44CB6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D84F-79A4-4F69-8C0D-A4EED329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692-2461-416D-ABEA-0B0A0117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1300-A262-46A9-97FA-C3FB37BF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32EB-C64A-4BFB-83D9-19EC6A08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C917-193D-4C4F-BE20-6B71BF7E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5754-1810-4E77-99C7-1ECB5FFF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5FA5-B5ED-4058-BE72-7E7D9BAF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DAF-93AB-4633-8E4D-A8478924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2B1-F153-43E0-8D39-3EEE7A92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C5B-4CE3-4ED5-8E69-1200F6FF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AAB-8D93-43A6-B838-CFDE1E7D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1B3-FEC3-45B7-933A-FEAEC555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FFF-1505-4DD3-B206-39BEBAA7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4D4-3EE8-42F3-A6BF-26EDBC8A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84E4-F184-4188-90D4-67F7712468D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563E-1474-428F-B66F-300295F4369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s.wikipedia.org/wiki/Konvertibilita_m&#283;n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8904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konvertibilní měn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a platná  pouze na územ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ného státu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jí kurz je dán státní institucí, nesmí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e vyvážet ze ze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ová a účetní jednotka Mezinárodního měnového fond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mělá mě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šová měna odvozená  od průměrné hodnoty měn USA, Německa, Japonska, Francie a Velké Británie (EUR, USD, GBP, JP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ód XD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uží jako rezervní hotovostní fond, ze kterého mohou země čerpat v případě krize platební bil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m větší jsou příspěvky jednotlivých zemí, tím více si pak v období tísně mohou půjčov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jem  poplatků se pro každý stát určuje na základě ekonomických ukazatel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o je to likvidit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harakterizujte jednotlivé měnové agregá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veďte příklady konvertibilní a nekonvertibilní měn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do používá SD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 čeho vychází kurz SD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cs.wikipedia.org/wiki/Konvertibilita_m%C4%9B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cs.wikipedia.org/wiki/Zvláštní_práva_čerp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3862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3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měny a základní členění mě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ěna, měnový agregát, nadnárodní a národní měna, zvláštní práva čerp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ahoma"/>
              </a:rPr>
              <a:t>Měna</a:t>
            </a: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krétní peněžní jednotka daného státu se označuje mě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rčité formy peněz mají určito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kviditu (jak rychle lze použít 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bě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likvidity se obecně dělí n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kupiny měnových agregá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1= hotovostní oběž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2 = M1 + vklady na běžných účtech v 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3= M2+ vklady v zahraničních měnách v domácích 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4= M3 + vklady v nebankovních institucích v domácí měně + krátkodobé cenné papíry v domác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5 = M4 +ostatní cenné papíry v domác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4000" spc="-1" strike="noStrike">
                <a:solidFill>
                  <a:srgbClr val="ffffff"/>
                </a:solidFill>
                <a:latin typeface="Tahoma"/>
              </a:rPr>
              <a:t>Konvertibilní měna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měna směnitelná s ostatními měnami v určitém kurzu, kurz je dán poptávkou a nabídkou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) plně směnitelná (konvertibil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a směnitelná všude na světě, nejsou překážky výměny (konverz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částečně směnitelná (vnitřně směnitelná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 stanoví omezující pravidla výměny své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4:34Z</dcterms:modified>
  <cp:revision>23</cp:revision>
  <dc:subject/>
  <dc:title>Peníze a měna</dc:title>
</cp:coreProperties>
</file>