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93A3-4037-4543-9153-6DE51EE2A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88E6-B3B1-4DF3-8373-C5B27723A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31B5-50C0-4AA3-84D1-69AC0424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1D4B-AD85-4394-BFB9-695C4EE9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ACD0-2F5F-4980-BB20-3F921FEB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482B-B9E6-403F-AC4F-0D19E76E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D9F5-2D09-446A-877F-764688C5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CD12-35F7-4F1A-87A2-C9151BAB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E005-570C-4232-92E0-225C7894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14BC-9E6C-42C1-B554-BB754942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D12B-58FC-4669-9F32-84CDE5F6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9CFB-2E9E-493F-9A9B-DB02897E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12D4-F343-4A13-895E-6EC8DD33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A053-80E6-4ADB-ADA8-D663BF18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11B3-3BBB-40A4-B310-F7833FCA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6B16-5AEA-4515-A4D5-6ED6D202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5A1D-B768-48C3-8386-3298CBBC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4EB5-2E56-43D7-BEB7-09F90FCB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2904-A140-4387-AE70-135460C8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3A35E-F5CC-45CA-9B85-36B1B6B5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8F64B-F9DA-4857-BBDD-9FE4F93F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A2A6A-E77A-4D2A-8072-7440908D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068EE-CCC5-4670-9582-75736D75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4A7B0-5207-4FDD-B5DA-2E2F2CBE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0294-F0CF-42F9-8044-E01AD962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2B356-8283-446D-9BB6-EB64BB6C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5C748-66AB-4934-87AC-DB9FE938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968A1-7A1B-4FFB-89B8-FC3B1870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3A616-B8DF-4AF8-A723-5EC9157B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AD28D-6F7B-4FAB-BA6F-C7FCAB1F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B1048-E82E-4F4C-8997-E6F842B1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8CE39-24AE-4FF0-8ED6-52F4EDB0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AECE-A5D0-47D9-9556-69FA331A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9504-60F7-47B7-A597-C9E8D43D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C1C5-B824-407C-99CB-A460330C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F238-A462-4AA8-A3DB-8B1D1C35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B48E-7AC9-4E21-84E8-398904DD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B17E-DF5A-4A01-A5C2-01E5956C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9E41-4135-4C6D-BEDA-359C34FF8973}" type="slidenum">
              <a:rPr b="0" lang="cs-CZ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1AC2-B33C-4F23-BCEA-14A367D46071}" type="slidenum">
              <a:rPr b="0" lang="cs-CZ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67AD-24D7-4F0E-8F62-55012AFBBC86}" type="slidenum">
              <a:rPr b="0" lang="cs-CZ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cnb.cz/cs/platidla/ochranne_prvky/ochranne_prvky_5000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98989"/>
                </a:solidFill>
                <a:latin typeface="Century Gothic"/>
              </a:rPr>
              <a:t>Výukový materiál zpracován v rámci projektu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98989"/>
                </a:solidFill>
                <a:latin typeface="Century Gothic"/>
              </a:rPr>
              <a:t>EU peníze školám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98989"/>
                </a:solidFill>
                <a:latin typeface="Century Gothic"/>
              </a:rPr>
              <a:t>Registrační číslo projektu: CZ.1.07/1.5.00/34.0208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Y_32_INOVACE_12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39640" y="4221000"/>
          <a:ext cx="7561440" cy="1662120"/>
        </p:xfrm>
        <a:graphic>
          <a:graphicData uri="http://schemas.openxmlformats.org/drawingml/2006/table">
            <a:tbl>
              <a:tblPr/>
              <a:tblGrid>
                <a:gridCol w="3527640"/>
                <a:gridCol w="40338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4. Soutisková značk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2" name="Zástupný symbol pro obsah 3" descr="Soutisková značka CR"/>
          <p:cNvPicPr/>
          <p:nvPr/>
        </p:nvPicPr>
        <p:blipFill>
          <a:blip r:embed="rId1"/>
          <a:stretch/>
        </p:blipFill>
        <p:spPr>
          <a:xfrm>
            <a:off x="1692360" y="1700280"/>
            <a:ext cx="5616360" cy="2305080"/>
          </a:xfrm>
          <a:prstGeom prst="rect">
            <a:avLst/>
          </a:prstGeom>
          <a:ln w="0">
            <a:noFill/>
          </a:ln>
        </p:spPr>
      </p:pic>
      <p:sp>
        <p:nvSpPr>
          <p:cNvPr id="163" name="Obdélník 4"/>
          <p:cNvSpPr/>
          <p:nvPr/>
        </p:nvSpPr>
        <p:spPr>
          <a:xfrm>
            <a:off x="1258920" y="4365720"/>
            <a:ext cx="67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íc                      rub                     průh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4. Soutisková značk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z jedné strany bankovky je viditelná pouze jedna část značky, z druhé strany část zbývající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v průhledu proti světlu je značka vidět celá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soutisková značka je kruhová a tvoří ji písmena "ČR"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 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5. Skrytý obrazec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7" name="Zástupný symbol pro obsah 3" descr="Skrytý obrazec"/>
          <p:cNvPicPr/>
          <p:nvPr/>
        </p:nvPicPr>
        <p:blipFill>
          <a:blip r:embed="rId1"/>
          <a:stretch/>
        </p:blipFill>
        <p:spPr>
          <a:xfrm>
            <a:off x="1908000" y="1700280"/>
            <a:ext cx="540072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5. Skrytý obrazec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viditelným tehdy, sklopíme-li bankovku ve výši očí do vodorovné polohy proti zdroji světla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tvoří ho vždy číslo označující nominální hodnotu bankovky 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je umístěn na lícní straně bankovky v ornamentu na rameni portrétu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entury Gothic"/>
              </a:rPr>
              <a:t> 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6. Proměnlivá barv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71" name="Zástupný symbol pro obsah 3" descr="Proměnlivá barva"/>
          <p:cNvPicPr/>
          <p:nvPr/>
        </p:nvPicPr>
        <p:blipFill>
          <a:blip r:embed="rId1"/>
          <a:stretch/>
        </p:blipFill>
        <p:spPr>
          <a:xfrm>
            <a:off x="2195640" y="1773360"/>
            <a:ext cx="475272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6. Proměnlivá barv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založeno na optickém efektu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šestiúhelník s hlavou českého lva vytištěný speciální tiskovou barvou mění své zbarvení v závislosti na tom, v jakém úhlu se bankovka sklopí proti dopadajícímu světlu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2f5897"/>
                </a:solidFill>
                <a:latin typeface="Palatino Linotype"/>
              </a:rPr>
              <a:t>7. Iridiscentní pruh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75" name="Zástupný symbol pro obsah 3" descr="Iridiscentní pruh"/>
          <p:cNvPicPr/>
          <p:nvPr/>
        </p:nvPicPr>
        <p:blipFill>
          <a:blip r:embed="rId1"/>
          <a:stretch/>
        </p:blipFill>
        <p:spPr>
          <a:xfrm>
            <a:off x="2843280" y="1557360"/>
            <a:ext cx="36003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7. Iridiscentní pruh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7f7f7f"/>
                </a:solidFill>
                <a:latin typeface="Century Gothic"/>
              </a:rPr>
              <a:t>duhově lesklý pruh o šířce cca 20 mm na lícní straně blíže pravému okraji bankovky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7f7f7f"/>
                </a:solidFill>
                <a:latin typeface="Century Gothic"/>
              </a:rPr>
              <a:t>při běžném pohledu průhledný, proti světlu barevný nádech zlaté a fialové barvy s kovovým odleskem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7f7f7f"/>
                </a:solidFill>
                <a:latin typeface="Century Gothic"/>
              </a:rPr>
              <a:t>vpravo negativně (světlé) vyznačené číslice 5000 a čtveřice lipových listů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7f7f7f"/>
                </a:solidFill>
                <a:latin typeface="Century Gothic"/>
              </a:rPr>
              <a:t>při sklopení  tyto číslice a symboly  tmavé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8. Mikrotext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79" name="Zástupný symbol pro obsah 3" descr="Mikrotext - líc"/>
          <p:cNvPicPr/>
          <p:nvPr/>
        </p:nvPicPr>
        <p:blipFill>
          <a:blip r:embed="rId1"/>
          <a:stretch/>
        </p:blipFill>
        <p:spPr>
          <a:xfrm>
            <a:off x="1979640" y="1557360"/>
            <a:ext cx="2305080" cy="3024000"/>
          </a:xfrm>
          <a:prstGeom prst="rect">
            <a:avLst/>
          </a:prstGeom>
          <a:ln w="0">
            <a:noFill/>
          </a:ln>
        </p:spPr>
      </p:pic>
      <p:pic>
        <p:nvPicPr>
          <p:cNvPr id="180" name="Obrázek 4" descr="Mikrotext - rub"/>
          <p:cNvPicPr/>
          <p:nvPr/>
        </p:nvPicPr>
        <p:blipFill>
          <a:blip r:embed="rId2"/>
          <a:stretch/>
        </p:blipFill>
        <p:spPr>
          <a:xfrm>
            <a:off x="4788000" y="1557360"/>
            <a:ext cx="2232000" cy="3024000"/>
          </a:xfrm>
          <a:prstGeom prst="rect">
            <a:avLst/>
          </a:prstGeom>
          <a:ln w="0">
            <a:noFill/>
          </a:ln>
        </p:spPr>
      </p:pic>
      <p:sp>
        <p:nvSpPr>
          <p:cNvPr id="181" name="Obdélník 5"/>
          <p:cNvSpPr/>
          <p:nvPr/>
        </p:nvSpPr>
        <p:spPr>
          <a:xfrm>
            <a:off x="1187280" y="4797360"/>
            <a:ext cx="73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 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íc                                               r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8. Mikrotext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tištěn jak tiskem z hloubky, tak tiskem z plochy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na lícní straně tvoří konturu velkého hodnotového čísla, vnitřní šrafuru paprsků pod šestiúhelníkem se lví hlavou a pruhu základní barvy vybíhajícího od portrétu do pravého bílého okraje mikrotext číselně označující hodnotu bankovky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457200" y="1461960"/>
          <a:ext cx="8229600" cy="4916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98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chranné prvky bankov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známení s ochrannými prvky českých bankovek a praktická ukáz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doznak, okénkový proužek s mikrotextem, barevná vlákna, soutisková značka, skrytý obrazec, proměnlivá barva, iridiscentní pruh, mikro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8. Mikrotext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7f7f7f"/>
                </a:solidFill>
                <a:latin typeface="Century Gothic"/>
              </a:rPr>
              <a:t>šrafuru dvoubarevné stuhy tvoří mikrotext ve formě iniciál „TGM“ a její konturu v pravé části mikrotext ve formě zkratky „ČNB“</a:t>
            </a:r>
            <a:endParaRPr b="0" lang="en-US" sz="3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7f7f7f"/>
                </a:solidFill>
                <a:latin typeface="Century Gothic"/>
              </a:rPr>
              <a:t>na rubové straně v pruhu základní barvy mezi státním znakem a pravým okrajem skryt mikrotext slovně označující hodnotu bankovky a v obou spodních rozích mikrotext PRAHA</a:t>
            </a:r>
            <a:endParaRPr b="0" lang="en-US" sz="3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2f5897"/>
                </a:solidFill>
                <a:latin typeface="Palatino Linotype"/>
              </a:rPr>
              <a:t>Úkoly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1. Praktické cvičení – poznejte ochranné prvky na skutečných bankovkách.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2. Na některých bankovkách nejsou všechny ochranné prvky. O bankovky jakých hodnot se jedná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2f5897"/>
                </a:solidFill>
                <a:latin typeface="Palatino Linotype"/>
              </a:rPr>
              <a:t>Úkoly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3. Co je to chybotisk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4. Jaké ochranné prvky navíc má euro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5. Jak se u nás člení padělky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2f5897"/>
                </a:solidFill>
                <a:latin typeface="Palatino Linotype"/>
              </a:rPr>
              <a:t>Úkoly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f7f7f"/>
                </a:solidFill>
                <a:latin typeface="Century Gothic"/>
              </a:rPr>
              <a:t>6</a:t>
            </a: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. Kde se tisknou české bankovky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7. Jsou české bankovky kryty zlatem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8. Jsou napodobeniny peněz padělkem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f7f7f"/>
                </a:solidFill>
                <a:latin typeface="Century Gothic"/>
              </a:rPr>
              <a:t>Zdroj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3399ff"/>
                </a:solidFill>
                <a:uFillTx/>
                <a:latin typeface="Century Gothic"/>
                <a:hlinkClick r:id="rId1"/>
              </a:rPr>
              <a:t>http://</a:t>
            </a:r>
            <a:r>
              <a:rPr b="0" lang="cs-CZ" sz="2400" spc="-1" strike="noStrike" u="sng">
                <a:solidFill>
                  <a:srgbClr val="7f7f7f"/>
                </a:solidFill>
                <a:uFillTx/>
                <a:latin typeface="Century Gothic"/>
              </a:rPr>
              <a:t>www.cnb.cz/cs/platidla/ochranne_prvky/ochranne_prvky_5000.html </a:t>
            </a:r>
            <a:r>
              <a:rPr b="0" lang="cs-CZ" sz="2400" spc="-1" strike="noStrike">
                <a:solidFill>
                  <a:srgbClr val="7f7f7f"/>
                </a:solidFill>
                <a:latin typeface="Century Gothic"/>
              </a:rPr>
              <a:t>(zkráceno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2f5897"/>
                </a:solidFill>
                <a:latin typeface="Palatino Linotype"/>
              </a:rPr>
              <a:t>Ochranné prvky českých bankovek</a:t>
            </a:r>
            <a:br>
              <a:rPr sz="8000"/>
            </a:br>
            <a:endParaRPr b="0" lang="en-US" sz="80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1. Vodoznak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47" name="Zástupný symbol pro obsah 3" descr="Vodoznak"/>
          <p:cNvPicPr/>
          <p:nvPr/>
        </p:nvPicPr>
        <p:blipFill>
          <a:blip r:embed="rId1"/>
          <a:stretch/>
        </p:blipFill>
        <p:spPr>
          <a:xfrm>
            <a:off x="2340000" y="1341360"/>
            <a:ext cx="4392720" cy="312912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4"/>
          <p:cNvSpPr/>
          <p:nvPr/>
        </p:nvSpPr>
        <p:spPr>
          <a:xfrm>
            <a:off x="1332000" y="4797360"/>
            <a:ext cx="76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hled z líce               průhled z rub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1. Vodoznak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viditelný, jestliže se na bankovku podíváme proti  světlu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při pohledu z lícní strany je stranově obrácený oproti portrétu vytištěnému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1" lang="cs-CZ" sz="4400" spc="-1" strike="noStrike">
                <a:solidFill>
                  <a:srgbClr val="2f5897"/>
                </a:solidFill>
                <a:latin typeface="Palatino Linotype"/>
              </a:rPr>
              <a:t>2. Okénkový proužek s mikrotextem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52" name="Zástupný symbol pro obsah 3" descr="Okénkový proužek s mikrotextem"/>
          <p:cNvPicPr/>
          <p:nvPr/>
        </p:nvPicPr>
        <p:blipFill>
          <a:blip r:embed="rId1"/>
          <a:stretch/>
        </p:blipFill>
        <p:spPr>
          <a:xfrm>
            <a:off x="2771640" y="1844640"/>
            <a:ext cx="3600720" cy="3240000"/>
          </a:xfrm>
          <a:prstGeom prst="rect">
            <a:avLst/>
          </a:prstGeom>
          <a:ln w="0">
            <a:noFill/>
          </a:ln>
        </p:spPr>
      </p:pic>
      <p:sp>
        <p:nvSpPr>
          <p:cNvPr id="153" name="Obdélník 4"/>
          <p:cNvSpPr/>
          <p:nvPr/>
        </p:nvSpPr>
        <p:spPr>
          <a:xfrm>
            <a:off x="1835280" y="5157720"/>
            <a:ext cx="71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ohled z líce        průhled z lí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2f5897"/>
                </a:solidFill>
                <a:latin typeface="Palatino Linotype"/>
              </a:rPr>
              <a:t>2. Okénkový proužek s mikrotextem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proužek z umělé metalizované hmoty zapuštěný do papíru, široký 3 mm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při pohledu proti světlu je  vidět z obou stran jako souvislá tmavá linka s prosvítajícím  mikrotextem ČNB 5000 Kč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vystupující části mění svoji kovově lesklou barvu v závislosti na úhlu dopadu světla 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" name="Obdélník 3"/>
          <p:cNvSpPr/>
          <p:nvPr/>
        </p:nvSpPr>
        <p:spPr>
          <a:xfrm>
            <a:off x="2286000" y="17208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3. Barevná vlákn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58" name="Zástupný symbol pro obsah 3" descr="Barevná vlákna"/>
          <p:cNvPicPr/>
          <p:nvPr/>
        </p:nvPicPr>
        <p:blipFill>
          <a:blip r:embed="rId1"/>
          <a:stretch/>
        </p:blipFill>
        <p:spPr>
          <a:xfrm>
            <a:off x="2411280" y="1700280"/>
            <a:ext cx="4392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3. Barevná vlákn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v papíru zapuštěná okem viditelná vlákna oranžové barvy v délce 6 mm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nejlépe zřetelná jsou na bílých okrajích bankovky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gor</dc:creator>
  <dc:description/>
  <dc:language>en-US</dc:language>
  <cp:lastModifiedBy>Igor</cp:lastModifiedBy>
  <dcterms:modified xsi:type="dcterms:W3CDTF">2014-09-13T14:43:39Z</dcterms:modified>
  <cp:revision>20</cp:revision>
  <dc:subject/>
  <dc:title>Ochranné prvky českých bankovek</dc:title>
</cp:coreProperties>
</file>