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0C4-935F-4CC9-80D1-25B4BD3B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36D-CE7B-4AD1-BED2-CCA5FAC6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4D3-BB51-4FAA-BE8B-00BD59A1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DC7-A1E6-4417-93A9-2C097898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209B-4D4C-4D87-88A3-5705A5B3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DE4D-D7EF-49EF-94C6-4442C422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C91-5268-47E3-AC8D-69EF0A29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A6CB-91BE-4118-8DC5-218E0BA4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F585-FEE3-43E4-B3EA-48D60F2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589-CC7D-4E4D-B36E-BF58192A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40F2-43E4-4A4C-863D-654E6F5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D9D-A540-46F6-92B3-FC0AE0B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431B-4731-4E57-8266-B9D2479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B025-47B4-4C99-B4F1-46F5C41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D768-2AC0-45A5-AD1E-F9D55B02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E5FE-068A-4173-9023-173F6D53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15DE-FE8A-4C66-BF4F-2718A0CB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057B-6DA3-403F-856A-4A32DB7C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1F9D-B275-4A80-97D8-B11EB9A9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4F7D-8547-429B-A1EF-8869B46E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3011-61B4-4C7B-8DB1-C73BD7CC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98E6-BE6F-42DF-AA42-544654B6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644-852B-4973-9556-15AAFBDD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C12C5-D503-44A7-BB7B-59F7C1C4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BE22-5371-4307-AA1A-52D912C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72AE-95BC-4BD0-A296-D3FA7737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5917-9292-4DA9-88DB-C54503BE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34EF-320A-4EE8-9EDF-FC417BB9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9A95-ED50-4175-BFA6-F0D2E91F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DFC3-9AF1-4CC8-BD23-9E14FE25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330B-3B91-488B-A70F-FBBE4FF0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A39C-9FFE-4FF2-8CE4-A63CB211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B9DC-F72F-4052-9765-A17ABD38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CE0-C5B2-487A-B7B6-0402F35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7A98-C8FD-4BDD-95BD-642BEA25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9CFE-2FED-446E-9A00-C3B6D964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F16A-3042-457B-BC24-3A235F44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64CD-FE7F-4FFC-A528-631B2A3A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3E6D1-E558-4C76-A193-43BCA694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0E678-4AE2-4A1A-BFB4-E8FB687D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A7006-7E80-452A-BB7B-B8578075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9A61-2160-4C53-986C-CF1D25DC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D55A-8941-4E51-AB42-3A4C8398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6BFCE-C1A2-45CD-8BC3-59FA550E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357-E1DC-41A9-9AC4-6CADB073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2A6EC-6B05-432A-8C1F-6CB5A931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8C9F1-4D5C-4C16-8C12-547485F5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10276-AAB7-47CF-BEF6-494AC02E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F593A-5748-420D-8C3E-93790B6A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D3D6F-F750-43B3-8F92-1C32F2B8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01448-40B8-4476-B686-125C0E5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DB09C-1BE0-4CB5-B225-C23DB786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6B09F-9C19-4194-A7CD-CB0E6753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5888-38E0-4E67-8136-DF6D65E8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CF7BE-400A-434F-B312-CACCE298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5B8-9B4B-4971-87B7-FE6DF56D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FFCF-F769-49EE-A29D-D4C689E0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81DB8-D178-431F-A3F0-36CC367C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A9CFE-0643-4712-B53D-BE8E9B27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7AF04-AEDD-4FB9-98A1-6A4E2F84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FFD44-9BBA-4A87-BD7C-0C13E7A0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3AC98-4DCD-43BF-9D01-3CC7C7DD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FA428-5132-4726-B4BF-557B3810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96263-F82D-46BB-AF0D-90F2DD2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A21DD-0BC3-4F57-8B9C-1014D301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BAB8-14F5-4E61-A03A-3E964F00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9FC-DA0A-4473-AC45-AD4ECED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D28A-92A4-418E-9099-8443EDD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DF7FD-6171-4834-9A30-C73C729B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EAFFA-6779-4FEA-8221-80B4418F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E49EC-A0B0-4218-B354-3A4AFCA6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7B5F-07BB-4CDF-A24B-0C74BD45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C3957-1068-429B-8A67-8C94C779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FF4AA-0F2E-4C3B-86A6-9B6CD692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94C34-0CA8-41A3-9B9E-FC631666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56837-0BFD-4EA2-A58F-82F05C87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5F626-17ED-43E8-9F7D-74BC10C8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E75-CAFF-4EFC-BC1F-933D26C8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F67BE-504E-4D76-A67A-EE1009FD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2CF7D-E6D4-46CD-AC14-A9C1EF6C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2F608-1DAA-48BF-85A3-D17314C8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5B0F5-6D7D-4178-B900-A0C8C5F0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A3EF8-BC01-4488-B2B7-1C6146A0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E91D5-39D8-413D-930E-04831E62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3C8E-7908-4FD9-8AF2-081BAD5E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BCF1C-8135-4A4B-82FA-A40BD85C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B8D2C-8E89-4E3F-8449-BCFF74CB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216A0-CEEB-4844-B396-A94C0E09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2E7-EFCE-4F49-A68B-B568638E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485EA-C195-4A98-B0BE-7AE11180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75C7B-872D-41F7-BC6F-16E64184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A3E3-E671-4702-9AC0-E0A4C48E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C013C-C2E1-4ED7-9D3F-E55C797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37C2B-ABE3-4BAC-84CB-52501BAE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88396-CC11-4849-A311-1ADF8F24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6302E-2B33-4556-AB21-FC366D06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2DFC-2F01-4D0E-989E-44DF0D06E3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5BF7-4ED7-4465-884A-DE3ECA4565A2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49E1-5AD0-4434-BA5A-95CBC741CB6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6731-4029-4B6D-A1F6-8CEE566FCAB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5DD6-C819-43A5-B0D1-9078F56DE47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14E1-E9E9-4C70-8BE0-94EBE2A9771A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6FB5-856E-4E51-80E7-98C251A86350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EFE4-E939-48B8-90CF-61E7D6211E2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remix.nicm.cz/wp-content/uploads/2010/11/POuk%C3%A1zka-C.jpg"/>
          <p:cNvPicPr/>
          <p:nvPr/>
        </p:nvPicPr>
        <p:blipFill>
          <a:blip r:embed="rId3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539640" y="2173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4:01Z</dcterms:modified>
  <cp:revision>34</cp:revision>
  <dc:subject/>
  <dc:title>Poštovní poukázky (složenky)</dc:title>
</cp:coreProperties>
</file>