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8315-01F2-4DD5-9913-E3EE977B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00B3-9271-47BA-A65E-6D43241B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ED8F-E1C7-4CAE-871C-42C55BCC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663F-B90C-4AD7-A236-3FE341C67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1A23-D58B-4C85-B4E2-43F73DBD0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5434-43EF-497B-9084-91C3317A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476A-2AAC-4CC1-BAD8-97D632CB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F6AB-195C-461F-8FA5-3CCCA72A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DFED-D607-40D6-A815-EB3DB13B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0359-EA9E-4811-B2A9-9F0EBED1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DD5E-6969-4E73-B8A5-B2460659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EF9A-B1DD-4811-92F7-52899D19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3930-EBED-4CE9-A114-BD995A5B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74B2-AC38-4514-9A58-8B6C11A9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01A1-4D51-409B-8608-ADD448D9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58AB-1222-4013-8731-E65625A37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58FB-0AC9-4EB3-A041-BA204513F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8F6F5-1676-460B-9E18-A0897EEC3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8CE14-0989-4C8A-9414-88A5AD8F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8FFF7-4E2D-4D02-88EB-23D2D408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DA66B-6D04-4492-B34B-88067C59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56C37-E368-43A2-8785-24AC2925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836B-BA9A-4C64-BD71-B6E6A2CC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B7F0A-10D4-4BAE-B1E1-9E716BE9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2BE6C-CFD7-437B-81F9-F6572A5A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56AD2-B752-4667-8181-4BC92917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2C95F-59BB-4730-8F80-C9EC6BE6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FE45E-BC81-48F1-86A1-E6C69868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C4A2C-B6AA-4665-9B4D-8ADDC2A3D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FD0BE-055C-4359-8FC2-5974FE53B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5307-9718-442C-9E0D-25541399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CC08-75D1-4D56-A5F7-4F929D82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18AC-81F5-43C1-8C04-91E9372A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BF31-8783-4315-B36A-B7159B95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10A0-CED0-4993-8ECD-4B3566E2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F5E5-73CB-44F1-A873-DA358EC4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96A6-9C2F-4979-8AD4-D077361CD22D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F906-51ED-4C4E-8B20-33A874E07054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D2CD-B684-42AF-B8F4-962334049159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539640" y="4292640"/>
          <a:ext cx="7561440" cy="1590480"/>
        </p:xfrm>
        <a:graphic>
          <a:graphicData uri="http://schemas.openxmlformats.org/drawingml/2006/table">
            <a:tbl>
              <a:tblPr/>
              <a:tblGrid>
                <a:gridCol w="3456000"/>
                <a:gridCol w="41054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7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/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inflace podle kvantitativního hledisk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ádivá inflace (cválající, dvojciferná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udký růst c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ůst cen  převyšuje růst výrob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eníze ztrácejí kupní síl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lidé se zbavují peněz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inflace podle kvantitativního hledisk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Hyperinfl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xtré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růst cen ve stovkách, tisících 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lísání mez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eníze ztratily význ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ástečný bar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erný obch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inflace podle projev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zjevná inflace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ůst cen odpovídá naměřené inflac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otlačená (blokovaná) inflace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inflace blokovaná státem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inflace podle projev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skrytá infla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elký podíl stínové ekonomiky nebo   rostou ceny výrobků a služeb nezahrnutých ve spotřebním koši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říčiny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ptávková infl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růst mez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úměrná produktivita prá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nížení da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levné úvě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říčiny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bídková (nákladová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dokonalá konkuren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výšení mez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litické událo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éně kvalitní zdroje surov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539640" y="1844640"/>
            <a:ext cx="184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ůsledky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řerozdělovací efek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kles reálných mez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fixní důchody se nemění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kles hodnoty vkladů u ba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kles hodnoty úvěrů a půjče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ůsledky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sociální dopad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zaměstnano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ociální nepokoj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abová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konomická emigr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ůsledky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ůsobení na rovnováhu ekonomi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ění strukturu spotřeb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ění strukturu výrob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írná inflace působí motivačně pro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ýrobu i zaměstnano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rotiinflační politik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loha centrální banky (cenová stabilita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hyblivá úroková míra u ba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mezování růstu mez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mezení růstu poptáv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8" name=""/>
          <p:cNvGraphicFramePr/>
          <p:nvPr/>
        </p:nvGraphicFramePr>
        <p:xfrm>
          <a:off x="395280" y="1700280"/>
          <a:ext cx="8229600" cy="3816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fl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světlení pojmu inflace, členění a projevy inflace, způsoby měření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flace, cenové indexy, členění a projevy infl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o je to inflac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o je to spotřební koš a co obsahuj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ak často se mění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 čemu se používá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ledujte vývoj inflace v ČR za posledních 10 le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6. Která instituce měří inflac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7. Inflace podle kvantitativního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lediska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8. Inflace podle projev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9. Příčiny infl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0. Důsledky infl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1. Protiinflační politi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užitá literatu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ŠVARCOVÁ, Jena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Ekonomie – stručný přehled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Zlín: Nakladatelství a vydavatelství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ng.  Jena Švarcová , Ph. D., CEED, pro rok 2012/201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SBN: 978-80-87301-16-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ff"/>
                </a:solidFill>
                <a:latin typeface="Arial"/>
              </a:rPr>
              <a:t>Inflac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jev ekonomické nerovnová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ůst cenové hladiny (úroveň ce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nehodnocení (pokles) měn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pakem je defl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Cenové indexy k měření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Index spotřebitelských cen CP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 výpočtu slouží průměrné ceny výrobků a služeb zařazených do spotřebního koš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dná se spotřebu průměrné domácnost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Cenové indexy k měření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Index spotřebitelských cen CP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aždá položka svou váhu určenou podílem výdajů na daný výrobek nebo služb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ový spotřební koš po 5 letech z důvodu změny potřeb domácnost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Cenové indexy k měření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Index cen výrobců (PPI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 různá odvětví a obor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še obsahují výrobky a služby pro výrob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aždá položka má v koši svou váh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incip stejný jako u CP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Cenové indexy k měření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Deflátor HDP (HNP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šem jsou všechny spotřebované výrobky a služby v daném obdob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aždý rok se koš mě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áhou je podíl výrobků nebo služby v produktu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inflace podle kvantitativního hledisk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Mírná inflace (plíživá, jednociferná)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ijatelná pro stát i obč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eny rostou pomal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eny nepřekračují tempo růstu výrob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lidé se nezbavují peněz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21:41:27Z</dcterms:created>
  <dc:creator>Marek</dc:creator>
  <dc:description/>
  <dc:language>en-US</dc:language>
  <cp:lastModifiedBy>Igor</cp:lastModifiedBy>
  <dcterms:modified xsi:type="dcterms:W3CDTF">2014-09-13T14:47:00Z</dcterms:modified>
  <cp:revision>35</cp:revision>
  <dc:subject/>
  <dc:title>Inflace</dc:title>
</cp:coreProperties>
</file>