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E3E-6EFD-4FD1-B59C-2F8DFB12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A46-B552-4D11-8D97-3F6B05CF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825-F77E-4BE8-8B61-6C3AE7B8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65C-B422-4BBB-8E53-1E327C32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DD33-DEA0-49A0-B85C-2A2DC0B2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3BCD-45D8-4F25-B509-7549A30C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18CB-3C24-4C3A-829C-61B026E6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164A-CC09-4B40-9BBA-EB5462F1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CD97-1D54-401C-8E95-AC94EA4F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1C1D-FDDF-4C50-AB8E-962DF998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1929-00DF-491C-A0D1-A28E1E55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1B6B-3E24-4CE4-9FA0-17F0C16C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5C45-C8AA-4D18-AE45-D9EB3036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EC3B-E6A0-4475-A049-25094C87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4CB4-F32D-448C-82F7-4E0FDE11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E73E-ECED-4386-8940-15CC901C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3FA8-4B3A-4757-9A37-1188B808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23418-556D-469F-A6E8-7FC0021E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93A51-D8C2-46DB-82A3-22260A5D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FEBBB-C3B7-42E6-829A-695258DB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D04D-D5F5-41E7-BADB-09BF755B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F915D-B591-4766-8F99-2A7EC3A8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A5C-BEF3-45BD-85E3-F7BC4546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B995D-6EE4-438F-A9E9-08FABF13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CA7B5-C48A-4E25-918A-5636F435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668C6-B170-4FA1-BBF2-927F39AC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3F451-CFC0-417C-8379-43941DD4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2FE3F-91C5-4094-9214-D6416DB4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BC4FD-27C5-4BE0-857B-E0802125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A01F5-7F77-4A28-868D-40543E82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A5D87-48D8-4F0D-8921-3E57FAC3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562E5-671E-4625-A1DC-747B2BEF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68F91-8F30-4D0D-9121-DCE4973F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505-69C5-4794-987D-E1A5376B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E0E05-8D5B-4082-BFE4-0254EFEC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1F408-8A0E-4E76-BEF1-32C81830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3FB30-F4F0-4C89-B942-43F06337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4327D-CE17-412C-88A1-07D839CF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4B3D9-AE6F-49B2-A4E2-63F647F2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BF362-9209-4673-8770-487BC16E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A896A-5D45-4443-9F36-C6B37C4E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E2CD1-94FC-4C70-B55B-BB148CAD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EDB23-1A10-4E3C-8726-EFBA3A65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19F87-CE1D-4AEC-96FE-FDE8D27C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426-434A-470C-A913-AFD681D6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19BF2-1CA4-49DF-B444-A5D84494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0F592-CB5B-4D13-A4C6-3C65E013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A3DFF-AE12-44EA-8BC7-FB3F7C44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0B4B3-CBB8-4060-BE7E-46ED8460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16ACA-15EB-4B69-B9A9-2CF32F18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D364F-0EE1-46EF-B56C-498CFE6F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88B91-A19B-4126-9BF7-A4DEAED6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C0BF7-6ED8-4A4A-9041-63DD3196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CD383-0630-4F81-9106-9C787B3E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81075-FFE7-41D9-87A6-256FB8A1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6B9-F68D-41D2-9490-DF9DD525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318D6-C226-488F-AA22-F8721F00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8B54B-97C5-4B1A-A1D3-D375ECA4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9766C-C5E5-4D32-9494-7586BC43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9A530-1E28-4756-9BC8-F0B314E3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0CAE2-F6BE-4061-969B-CE5907F7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BBC0C-496F-49B0-965C-E25855AE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33B7E-73BC-4193-AA22-ABA7731D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25C60-162E-4539-98DA-95F1DC2E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AE296-C447-4BB0-9AF6-55CE4EEE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51679-7DCB-4CBC-928E-D5D1BFC5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5B0-D60A-45E9-A360-B58CC7FD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EE178-9931-4D3A-BC6B-1B4203EB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24ED0-FD6D-48D5-A3F6-01147258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27795-6CBE-449C-8A28-9D85E937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6E830-3740-4105-8BEE-21D861B1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53C4E-014E-4690-BD81-67797B5E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36402-2502-4B99-AE68-B63EB15D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9DCA9-E145-482B-A18C-DBED15A5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A198B-EDA0-4669-9001-D0241F1B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C17D0-7951-408D-AA4E-5A2087BE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229AA-3FA9-47B0-BD5A-B96E7E60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F637-67D9-40B2-979D-E5A02B6D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A0492-14C7-4F1D-B08B-837528D7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F7F65-668E-4AED-BEA4-FA42ABB5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3CB16-4DF2-4951-8843-D60E53A2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A8DD1-4E6E-4DA0-8E10-C59081E8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C5C8A-7F5C-464E-857E-872E88B5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994B9-0E68-47F0-A378-CF4BC6E9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125CF-62F3-49DC-9BD5-DDCBB9C6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BF31D-7DCF-45AA-B95C-F958EE2F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3DC56-9082-4579-BD14-7FA1492C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F3090-A0E4-4809-9A10-BC4BFC58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533-A071-4435-A488-B7419BFB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EE0B6-0DEC-4D75-A3BC-8EBA2B9E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0BFC9-7CAB-496C-BAE3-6901E26A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A1B3E-B843-495E-87F7-B3B0AEB8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5E2B5-FDB1-47C9-A336-2F0FFCBA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6C5F0-E415-4E75-9F5A-74499FD0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CDCBC-6311-4CAF-BA28-A935830B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24539-7982-46D7-8CA1-02718C2F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C704-F9D3-43B8-ADC7-FFB80435BAE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Rovnoramenný trojúhelní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A5BB-7630-4353-815B-FDD0B31DA582}" type="slidenum">
              <a:rPr b="0" lang="cs-CZ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0B4C-35A3-400C-9229-E81C75278D9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úhlý trojúhelní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Rovnoramenný trojúhelní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římá spojnice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římá spojnice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7502-690C-4BB4-99F3-6BADD31B6E5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7964-2650-4B91-A9A3-C589F11ADCA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C6D1-924B-413F-9A70-5729B106FA6B}" type="slidenum"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2870-C5E0-4BFC-BE93-C4D6EDB73AA5}" type="slidenum"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F951-DA92-4350-B1D7-F8CCE3710CF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eskaposta.cz/cz/sluzby/penezni-sluzby/cr/postovni-poukazka-a-id254/" TargetMode="External"/><Relationship Id="rId2" Type="http://schemas.openxmlformats.org/officeDocument/2006/relationships/hyperlink" Target="http://www.ceskaposta.cz/cz/sluzby/penezni-sluzby/cr/postovni-poukazka-b-id256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0" y="2011320"/>
            <a:ext cx="9283680" cy="4444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39640" y="4365720"/>
          <a:ext cx="7561440" cy="166212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. (variabilní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S. (specifický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K. (konstantní) symbo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okud uváděny, vyplňují se zprava. Prázdná okénka  možno doplnit nulami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 bezhotovostně z bankovního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http://remix.nicm.cz/wp-content/uploads/2010/11/POuk%C3%A1zka-C.jpg"/>
          <p:cNvPicPr/>
          <p:nvPr/>
        </p:nvPicPr>
        <p:blipFill>
          <a:blip r:embed="rId2"/>
          <a:stretch/>
        </p:blipFill>
        <p:spPr>
          <a:xfrm>
            <a:off x="1187280" y="2781360"/>
            <a:ext cx="665172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-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 ve lhůtě jednoho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acovního dne ode dne podá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oustředěné inkaso plateb obyvatelstv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inkasování plateb obyvatelstva ve prospěch PO a dalších oso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dtištěný platební dokl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každý plátce – osobní spojovací číslo (žádost na poště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jemné, energie, TV, rozhlas apod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arianta i pro podniky a bank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na poš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u poštovního doručovatel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jednorázov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trval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rychlá  hotovostní platb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o zákazníky e – shopů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zákazník  předá obsluze vygenerovaný čárový kód a částku platb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obdrží  potvrzení o zaplace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vod hotovostních peněz na účet v zahranič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457200" y="1905120"/>
          <a:ext cx="8229600" cy="4152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eněžní služb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entace v poštovních peněžních službách, vyplnění poukáz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oukázka, variabilní, specifické a konstantní symboly, SIPO, super CASH, Western Union, EUROGI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expresní zasílání peněz v hotovosti po celém svě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ČR v Kč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zahraničí v místní měně, příp. USD, EU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lužba Poštovní spořiteln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vyplace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ariabil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 identifikace plátc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číslo faktury, rodné číslo fyzické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osoby, IČO právnické oso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Specifický symbol 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dodatečný symbol identifikující např. jednotlivé měsíce u plateb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onstant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určuje charakter služ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1. Vyplňte podle návodu poštovní poukázku typu A a C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Jakým typem poštovní poukázky zaplatíte např. zálohy n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3. Jakým typem naopak dostanete přeplatek z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4. Zjistěte, jaký  konstantní symbol se používá pro platby služeb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5. Jaký je rozdíl mezi platbami zahraničními poštovními poukázkami a platbou přes Western Union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6. Jaký je rozdíl mezi platbou prostřednictvím zahraničních poštovních poukázek a službou EUROGIR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7. Jaké jsou výhody platby přes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8. Kde kromě pošty můžete zaplatit v systému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Nadpis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0582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9. Jak si zařídíte SIP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10. Jak zařídíte platbu SIPO trvale z účtu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www.ceskaposta.cz/cz/sluzby/penezni-sluzby/cr/postovni-poukazka-a-id254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ceskaposta.cz/cz/sluzby/penezni-sluzby/cr/postovni-poukazka-b-id256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c-id257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d-id258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sipo-id259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western-union-id262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eurogiro-id263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 -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hotově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bezhotovostně bance  na úče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.optys.cz/data/foto/-3/999-3_l.jpg"/>
          <p:cNvPicPr/>
          <p:nvPr/>
        </p:nvPicPr>
        <p:blipFill>
          <a:blip r:embed="rId2"/>
          <a:stretch/>
        </p:blipFill>
        <p:spPr>
          <a:xfrm>
            <a:off x="755640" y="2349360"/>
            <a:ext cx="7620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Částka Kč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, prázdné místo před částkou se proškrtne dvojitou vodorovnou čarou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údaji "haléře"  dvě nuly, příp.  zamezovky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e prospěch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Číslo účtu se může skládat z předčíslí a hlavního čísla účtu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ód bank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Musí být vždy vyplněn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Nadpis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8889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Odesílatel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a 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Zpráva pro příjemce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hůlkovým písme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Igor</cp:lastModifiedBy>
  <dcterms:modified xsi:type="dcterms:W3CDTF">2014-09-13T14:44:22Z</dcterms:modified>
  <cp:revision>34</cp:revision>
  <dc:subject/>
  <dc:title>Poštovní poukázky (složenky)</dc:title>
</cp:coreProperties>
</file>