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B274-A302-4001-825C-A4C6B837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0F2-B830-4BA4-AEDA-588C54BF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1F3B-F543-4D03-B4F5-AD8C3767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4FEF-9F95-4E20-875C-6EB9F1FB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4D0F-E653-4E3C-9A3B-36F71B7E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73BD-41B1-41A7-BA2F-40789890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8BC7-8970-4122-B326-A17BC5CB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250F-5870-44E6-AF17-9B7A5BC6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DAE6-E388-4E1A-94E3-29C971BB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7B2A-9C19-4A7D-A6E2-A79CE830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6EF9-315A-47A2-86EF-4D68C77B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0578-D38A-4E24-8851-7D8B6C76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3E3F-C5C1-4958-8F82-EE4AF0AF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5C4E-5782-42FA-809F-00AA767F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6B2E-19C4-4944-A8CB-6B043070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7B12-5A11-4A7E-865E-EA68E84D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4FBB-E4CF-486E-9E1F-E936AD63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0C5F-B730-43D1-AE8D-EFF7F4BC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D34E-C411-4BB0-93FE-381346FE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1D0-55ED-4691-9B5C-F6DCE501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7EB-5556-4F0F-9236-6435D8A7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5F5-104C-4395-9F6B-97AAA00F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246F-9D7B-41E9-81D3-0A3ECC65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7495-AC7C-448E-B890-7E6E5ECC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3CB3-72D5-46CA-809B-077A6EC0F68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3534-471E-4315-B1EB-5B47AA3B0F7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3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221000"/>
          <a:ext cx="7561440" cy="1590840"/>
        </p:xfrm>
        <a:graphic>
          <a:graphicData uri="http://schemas.openxmlformats.org/drawingml/2006/table">
            <a:tbl>
              <a:tblPr/>
              <a:tblGrid>
                <a:gridCol w="3311640"/>
                <a:gridCol w="42498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ovní líste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evalvace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pokles (znehodnocení) kurzu domácí mě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Revalvace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výšení kurzu mě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 jakého hlediska je sestaven kurzovní lístek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aký je rozdíl mezi valutou a devizou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pomoci kurzovního lístku vypočítejte přímý a nepřímý kurz Kč k EUR, USD a GBP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tázk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počítejte křížový kurz zahraničních měn z minulé otáz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Jak ovlivňuje Česká národní banka plovoucí kurz české korun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droj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asopis Ekon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905120"/>
          <a:ext cx="8229600" cy="3686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4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rzy mě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cvik práce s kurzovním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ístk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rzovní lístek, deviza, valuta, typy kurz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ahoma"/>
              </a:rPr>
              <a:t>Kurzy mě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 měn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ímý kurz – počet peněžních jednotek měny domácí k jednotce měny zahraniční Př. 1 EUR = 26,- Kč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přímý kurz - počet peněžních jednotek měny zahraniční k jednotce měny domácí Př. 1 Kč = 0, 038 EU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 měn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řížový kurz  - kurz dvou zahraničních měn k sobě navzájem vypočítaný z kurzu třetí měny, např. kurz EUR k USD a naopak vypočítaný z kurzovního lístku Kč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ovoucí kurz (floating) – kurz měnící se v závislosti na nabídce a poptáv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 měn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evný kurz (fixní) – kurz pevně stanov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ficiální kurz – kurz stanoven centrální banko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oficiální (černý) kurz – kurz u překupní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ovní líste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deviza nákup - příjem cizí měny na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deviza prodej – nákup cizí mě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 úč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ovní líste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valuta nákup – prodej valut směnár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valuta prodej - nákup valut ve směnár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střed – aritmetický průměr kurzu nákup a kurzu prodej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ovní líste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obrazuje aktuální kurzy komerčních bank (směnáren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dejní i nákupní kurz je uvažován vždy z hlediska banky (směnárn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hraniční peníze v hotovosti – valu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hraniční peníze bezhotovostní - deviz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07:20Z</dcterms:created>
  <dc:creator>kabek</dc:creator>
  <dc:description/>
  <dc:language>en-US</dc:language>
  <cp:lastModifiedBy>Igor</cp:lastModifiedBy>
  <dcterms:modified xsi:type="dcterms:W3CDTF">2014-09-13T14:45:15Z</dcterms:modified>
  <cp:revision>30</cp:revision>
  <dc:subject/>
  <dc:title>Peníze a měna</dc:title>
</cp:coreProperties>
</file>