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998B-87B8-44D5-817A-EEEF86CAAF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1CD5-9BA5-49A3-B86B-B2A72FFF8D4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A6A-762B-463F-B4EE-0D751BF6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FCA-F76C-40F4-BD45-386FF80B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AF4-0475-4714-93F6-B3BEA107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4BB-DF71-42B3-87F8-F832F367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C817-4EA6-4C2A-9477-0EB0C0E9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299E-4927-4F4E-8E83-87F8DC53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B6A7-BF52-4C50-B7CA-7E4089B4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14A9-97B4-419A-B759-42EFB716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6372-22BD-48B3-B80A-A60F2238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8795-B285-49A3-95F3-83B7DC7C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4286-3106-4D36-9EA7-1299D450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A5B-B17F-4B39-B157-F183A9B9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C1CA-B958-4397-9AC2-8B7E4ADE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AE37-C596-4363-8E13-566C16D9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EB83-5AD0-4796-8FE5-7F784A25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983E-0073-4816-BAA7-3DFE45A8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7868-B324-4935-AAC0-F14FFEA7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933-0138-4123-89C5-7DC5B066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568-94FD-4E3B-90A5-7ECC9D17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D9C-61FB-4ABE-8E85-4ED11D93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5BD-A086-49B1-9864-AE17AD88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67D-AEF2-4A8C-931E-5D8A600B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DD9-A82B-4429-8E4E-57577D8F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458-F0E6-4BDE-BF5B-1467D37C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D952-A2D0-4598-9F60-B21FFC67B8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322E-226C-41FF-A127-C139312ACDC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sas.cz/banka/nav/osobni-finance/servis-24-mobilni-banka/o-produktu-d00019607" TargetMode="External"/><Relationship Id="rId2" Type="http://schemas.openxmlformats.org/officeDocument/2006/relationships/hyperlink" Target="http://www.csas.cz/banka/nav/osobni-finance/servis-24-mobilni-banka/o-produktu-d00019607" TargetMode="External"/><Relationship Id="rId3" Type="http://schemas.openxmlformats.org/officeDocument/2006/relationships/hyperlink" Target="http://www.kb.cz/cs/lide/obcane/ucty-a-platby/internet-telefon-mobil/mobilni-banka.shtml" TargetMode="External"/><Relationship Id="rId4" Type="http://schemas.openxmlformats.org/officeDocument/2006/relationships/hyperlink" Target="http://www.csas.cz/banka/nav/osobni-finance/mobito/o-produktu-d00018799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11280" y="3068640"/>
          <a:ext cx="7561080" cy="5763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11280" y="3860640"/>
          <a:ext cx="7561080" cy="15544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3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íjení kredi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cení přes mobilní peněžen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ychlé zaplacení v obchod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etové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ýkoliv počítač připojený k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/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duché ovlád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utorizace plateb = bezpe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finan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etové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ění plat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edování pohybů na účt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é výpi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jednání úvěru, kontokorentu, platební karty nebo pojišt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íjení mobi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etové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měna limitu pro platby kartou na internetu a pro výběry hotovosti v bankom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ímání a placení faktur, pojistné a složenky elektronicky (e-faktu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ehledné grafické ztvárn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omeba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remní bankovnictv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ojení s bankou pomocí internetu a nainstalovaného speciálního progra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ipová karta s elektronickým podpisem (nutná čtečka elektronických kare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omeba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/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ění plat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duché ovlád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finan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unikace s bankou on–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é výpi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omeba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ímání a placení faktur a složenek (aktivace elektronických faktur, e-faktura = předvyplněná faktu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urzovní líst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istence účetních programů podporujících homeba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výhody jako internetba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Virtuální platební kar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šestnáctimístné číslo (+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 platnosti a kontrolní kód CVC/ CVV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bezpečení SSL -zámeček, údaje obchodníkovi šifrova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é použi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latební embosovaná kar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ento způsob není příliš  oblíben, strach ze zneuži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rta musí být pro placení na internetu aktivována v bance, nastaven limit plat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latební embosovaná kar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tšina internetových obchodů podporuje systém 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daje o kartě (číslo karty, datum platnosti, CVV/CVC kód)poskytuje přímo b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rázový kód pro autorizaci plat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457200" y="1628640"/>
          <a:ext cx="8229600" cy="4748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ektronické bankovnictví a elektronické platební prostřed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hled elektronického bankovnictví a elektronických platebních prostředků, použití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lefonní, mobilní, internetové bankovnictví, homebanking, embosovaná karta, elektronická peněženka, PayPal, PayU, PayS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 společnosti založit účet, na něj převést např. z běžného účtu určitou část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pojit se svou embosovanou platební kartou aktivovanou pro placení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možno platit i platby přijí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ozující společnost si strhává poplatky, platí je obchod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placení v internetových obchod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bchodník musí být přihlášen do systém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 platbě propojení obchodníka s platební bránou 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azník platí přes internetbanking nebo embosovanou  platební kartou aktivovanou pro 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bezpečení SS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platky provozovateli obchod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Elektronická peněženk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banky složí hotovost do peněženky = neúročený plovoucí úč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by obchodníkovi z tohoto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by internetem, mobi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se dají z peněženky vzít zpě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aySec, Mobito…… 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elefonní bankovnictv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bilní bankovnictv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rnetové bankovnictv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meban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cení na internetu – embosovaná platební kar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Placení na internetu – elektronická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ěžen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Placení na internetu –  PayPal, 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Vyhledejte další systémy placení 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rnet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Zdroj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www.csas.cz/banka/nav/osobni-finance/servis-24-mobilni-banka/o-produktu-d000196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bdélník 4"/>
          <p:cNvSpPr/>
          <p:nvPr/>
        </p:nvSpPr>
        <p:spPr>
          <a:xfrm>
            <a:off x="411120" y="25653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http://www.kb.cz/cs/lide/obcane/ucty-a-platby/internet-telefon-mobil/mobilni-banka.s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http://www.csas.cz/banka/nav/osobni-finance/mobito/o-produktu-d000187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bdélník 5"/>
          <p:cNvSpPr/>
          <p:nvPr/>
        </p:nvSpPr>
        <p:spPr>
          <a:xfrm>
            <a:off x="372960" y="348768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www.csas.cz/banka/nav/osobni-finance/servis-24---internetbanking/o-produktu-d000190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www.csas.cz/banka/content/inet/internet/cs/faq_ie_12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s://www.erasvet.cz/pravnicke-osoby/ostatni/stranky/firemni-bankovnictvi-max-homebanking/popis-produktu.a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http://finance.idnes.cz/nejbezpecnejsi-platby-kartou-na-internetu-nabizeji-tri-banky-pu5-/bank.aspx?c=A110914_143118_bank_b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s.wikipedia.org/wiki/Pay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Elektronické bankovnictví a elektronické platební prostřed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lektronické (přímé) 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elefonní bankovnictví (tele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bilní bankovnictví (mobil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rnetové bankovnictv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internet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mácí bankovnictví (home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lefon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latné zákaznické telefonní li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éř nebo automatická hlasová služ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ístup k účtu 24/7 z tuzemska i zahrani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ktuální přehled o zůstatku na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SMS, e-mai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lefon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ntrola pohybu na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operace zadané telefonicky levnější než na poboč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rázová bezpečnostní hesla pro komunikaci s bankou (SM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Phone, iPad, iPod touch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ím víc funkcí, tím širší nabídka služ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/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plikace internetového bankovnict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duché ovlád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pojení kdekoli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hlížení stavu a historie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ění plateb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hledání nejbližší pobočky nebo bankom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kenování složen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nanční úspora (levnější příkazy než na poboč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ehledná grafika aplik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ísná bezpečnostní opatř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unikace s bankou on–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pisy z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stavení vzhle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9:21Z</dcterms:modified>
  <cp:revision>47</cp:revision>
  <dc:subject/>
  <dc:title>Platební nástroje</dc:title>
</cp:coreProperties>
</file>