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2A8-56C2-4ADB-81D2-69AAAFFF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F9B-E144-432D-8E1B-F6EEA148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E85-3FEB-4003-85F2-7958EDC1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18E-7A74-4FA6-A0B6-5B968F11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0286-7511-4A9A-86C1-E68E4EA0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64E8-D99A-4B31-9EE0-54DA0DFD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73F1-E0EE-418B-A3C7-1C1DA8D2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B4A9-8DC1-4F93-B0A8-6BDCBC75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1F47-FCDF-487C-8258-83B9EC59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BE9F-2F8B-45D8-AF9A-E5E60A3D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A87A-DC48-46DA-BCFF-38726A81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DC4-0FFB-43FD-805C-994C7FA2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0F5-91D8-4FC4-88E9-C85A193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C4F4-04D5-4533-892B-39B9CD94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3BC3-B152-4F08-B748-C22BCE14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0CF-2178-4C7D-8D94-FF3D3254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E660-1E3C-4E6C-9E3B-85047A7D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D5F-5CF2-41BD-B38E-D294CF33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6DA-8E97-44B9-90A0-0FAC8D52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3F6-6D06-4C37-8AFE-F6446BC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7F8-AAEA-440A-BCBD-E5716F7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A63-B7FD-40AF-A126-98415AE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84C-B315-46A9-B7F1-8351096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882-1C27-46D4-9991-435DF0C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96F7-FA09-4A3E-9EA3-BCE7E41864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AA5A-880A-411C-AA63-EE8E8E56D75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284640"/>
          <a:ext cx="7561080" cy="576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149720"/>
          <a:ext cx="7561080" cy="1698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ciz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5637_l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listiny jako směnka  v nadpisu i v text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částku uvedenou ve smě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 – u směnky vlastní je to výstavce, u cizí směnky směne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atnost směnk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sto, kde má být placeno -  není-li místo uvedeno, místem placení je uvedené sídlo nebo bydliště směneční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lastnoruční podpis výstavce pod textem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musí být předložena k proplacení majitelem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povinností dlužníka majitele vyhledá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odepření placení musí být sepsán písemný záznam – protestní list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testní listina -  zákonný důkaz o nezaplac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vydat soud, notář, ob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d na směnce doložka „bez protestu“, pak bez protestní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leduje soudní ří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é řízení u soudu rychlejší a jednodušš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čí předložení směnky u so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ůkazní břemeno na obžalovan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zkoumání listin soud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ý platební rozkaz (splatnost nebo námitka 3 dny od doruč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omocný rozsudek lze vymáhat exekuč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 proti přímým dlužníkům 3 roky, pak nárok zani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skontní úvěr – odkoupení směnky bankou před datem splatnosti, částka snížená o úrok (diskont) a poplatek bance (eskontní proviz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eeskontní úvěr – odkoupení eskontované směnky před datem splatnosti od banky centrální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učitelský (avalský) úvěr – banka se zaručuje směnkou zaplatit za svého klienta v případě nesplácení 3. osob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ombardní úvěr – úvěr u banky zastaven smě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gociační úvěr- obdoba eskontního úvěru v zahraničním obcho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akování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akteristika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a směnka ciz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upravujíc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 při nezaplacen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rotestní list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její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směnka vlastní, směnka cizí, použití, náležitosti, protestní lis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směnečný a šekový č. 191/1950 S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věrový cenný papí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psaný v přesně stanovené form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dlužnický závazek, který dává majiteli směnky  právo požadovat ve stanovenou dobu stanoven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eskontního nebo obchodního úvě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placení a ruč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hotovosti před dobou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ástí dokumentárního akreditiv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izí zdroj  financování fir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směn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– bezpodmínečný příslib dlužníka zaplatit a obsahuje slovo „zaplatím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cizí ( trata) – bezpodmínečně přikazuje jiné osobě, aby byla směnka uhrazena a obsahuje slovo „zaplaťte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vlast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5676"/>
          <p:cNvPicPr/>
          <p:nvPr/>
        </p:nvPicPr>
        <p:blipFill>
          <a:blip r:embed="rId1"/>
          <a:stretch/>
        </p:blipFill>
        <p:spPr>
          <a:xfrm>
            <a:off x="826920" y="1844640"/>
            <a:ext cx="741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47Z</dcterms:modified>
  <cp:revision>38</cp:revision>
  <dc:subject/>
  <dc:title>Platební nástroje</dc:title>
</cp:coreProperties>
</file>