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D72-5BB8-41A6-BCA6-5BAC58F939C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05CF-05C8-4BF8-A2CB-F6EBB8AFD6F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484-B869-4A75-8B5E-1B81C690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24A-3581-4C11-AF0D-6CE837B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091-CDBC-48E1-AFEE-093D41AB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908-48D4-44CF-92EA-B7417EDD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5BBF-236C-41A5-BA85-743997B7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96FF-B8CE-4BE5-9EF1-C608F26E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7A6E-673E-4619-A755-4C88727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7F5C-3AC6-4203-8799-0D05707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1B6C-E022-494C-B1FD-BE68C0F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ED46-67F2-41D8-87EC-1CE445DE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5029-BC83-473E-A4DE-09A925C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824-C14A-4FC0-AD70-10FFBEB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8C85-AB8B-4686-BC99-3A347F9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DF5C-8595-4019-A422-10E5CE27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1C5F-A1D5-480B-B6E5-C13F10C8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8243-C2DA-444C-8EAD-6B87F487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7A4B-1E6F-464E-A07E-5BE25F9A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A77-4F37-44CF-8A46-62AF69C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739-F91C-4CFD-92A8-6DA46512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CBC-C8F7-457D-93FB-F08A8818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035-FEDA-4925-B868-D64860C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731-54B5-4A90-B461-C9424C5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0FD-79AD-412F-8103-89F7BC9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DAD-5897-4045-A568-1A0F7C2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8EC-2C03-4413-BEDF-84BA0FFC964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D57-968B-4FF9-ABBC-26CAC308CCC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sas.cz/banka/nav/podnikatele-firmy-a-instituce/podnikatele-a-male-firmy/dokumentarni-inkaso/o-produktu-d00010045" TargetMode="External"/><Relationship Id="rId2" Type="http://schemas.openxmlformats.org/officeDocument/2006/relationships/hyperlink" Target="http://www.finance.cz/zpravy/finance/214007-bankovni-zaruky-aneb-jak-snizit-podnikatelska-rizika-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3357720"/>
          <a:ext cx="7561080" cy="5029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1280" y="4149720"/>
          <a:ext cx="7561080" cy="1836720"/>
        </p:xfrm>
        <a:graphic>
          <a:graphicData uri="http://schemas.openxmlformats.org/drawingml/2006/table">
            <a:tbl>
              <a:tblPr/>
              <a:tblGrid>
                <a:gridCol w="3600360"/>
                <a:gridCol w="3960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5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astníci platb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davate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doda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běrate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běrat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kasní podmínk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zaplacení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akceptaci  smě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otevření bankovní záruky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.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zavření obchodní smlouvy mezi dodavatelem a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zřízení dokumentárního inkasa u banky dodavatele a předání dokument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mezi bankou dodavatele a odběratele předání inkasních příkazů a příslušných dokum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dlužník je informován o přijmu dokumentů a o inkasních podmínkách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příslušný  inkasní úkon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předání dokumentů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inkasní plně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vyzvednutí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ávazku je dlužník (odběratel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 mezi vývozcem  a dovozcem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uzavření kupní smlouv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dovozce požádá sv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banku  o otevření akreditiv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vývozce odešle zboží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vývozce  prostřednictvím své bank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ešle doklady bance dovozce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á je v případě splně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ek předá dovoz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banka dovozce  proplat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reditiv vývozci z účtu dovoz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nezaplacení nese ban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směřuje k elektronickému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ou elektronická tržišt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apírová podoba pro složitější případy a rozvojové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– v námořní dopra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šířená forma ručení v mezinárodním obch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 závazkové 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neposkytují žádné finanční prostředky, ale zaručují se za svého klienta, že provede svůj závaz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zahraniční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, hladká platba, dokumentární platba (inkaso, akreditiv), IBAN, cenné píry osvědčující vlastnictv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typ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záruky platební - banky se zaručují za provedení peněžního plnění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záruky neplatební – banky se  zaručují za kvalitu provedených prací dodav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faktu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splacen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leasingových splá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potřební da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, kterou banka posou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věří bonitu žad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hodne, zda se za klienta zaručí či niko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 kladném vyřízení banka s klientem sjednává smlouvu o poskytnutí bankovní záru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ne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předloženou nabídku do veřejné soutěže (záruka v tendru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vrácení platby předem (záruka za vrácení akont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náležité provedení kontraktu (kauční záru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staví záruční listinu obsahující písemné prohlášení banky, že uspokojí věřitele do výše sjednané finanční částky, pokud klient nedostojí svému závaz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škeré náklady spojené s bankovní zárukou obvykle hradí klient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IBAN a jak je konstruová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jděte ho na výpisu z úč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ho inkas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záru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sas.cz/banka/nav/podnikatele-firmy-a-instituce/podnikatele-a-male-firmy/dokumentarni-inkaso/o-produktu-d000100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finance.cz/zpravy/finance/214007-bankovni-zaruky-aneb-jak-snizit-podnikatelska-rizika-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střednictvím směnárenské činnosti a oblasti cestovního ruc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(nedokumentár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IFT – společnost pro celosvětovou finanční telekomunika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BAN – mezinárodní číslo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IC kód – mezinárodní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platb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bezzávazkový systé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praven mezinárodními pravid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pracují s dokumenty nikoliv se zbož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37:48Z</dcterms:modified>
  <cp:revision>36</cp:revision>
  <dc:subject/>
  <dc:title>Platební styk tuzemský a zahraniční</dc:title>
</cp:coreProperties>
</file>