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B2E-7401-45B4-BA25-5053F629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DFA-2D7F-4847-AA0A-0AEE6729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BC0-CD9D-46D4-81F0-97ECA9BF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9C9-1642-4745-9BCF-0DAC8DA1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AB5A-8D9F-407D-89ED-D33015A1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09DA-EB6F-4C8B-BEC8-D80D8873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9FC8-5379-425F-B8F7-B0B31447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FCAA-A381-4CC0-8F3E-ADCEBFBF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C06A-A5E6-43CF-B361-7503B976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DC0D-5626-48C0-956C-FD784E2A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02F8-E1D5-4DB6-BE54-42A0F28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2DD-A741-4DB3-A6A7-196A7B08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E09B-0184-4585-9417-0F243C12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3A8C-9A21-45AA-8584-ED2FBF18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8E9B-0942-44F0-933F-DA137B9A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58A7-73CE-48A1-B13A-CD71F295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83CC-60B4-4092-A527-591D481D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CF5-7E95-4399-9A70-295C4CAC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8C1-553C-4CA2-9B85-A7EED331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AC0-4D96-4001-A230-F8BFD644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382-C0E0-4FB5-99B3-28748D01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C3E-F75C-4B16-90D9-4ED08322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6BB-47F6-4F36-9BDC-49A3F850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5DF-A350-4A79-B795-42B69AD9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2EC6-2FAC-44B9-BBD3-BF4628CA65A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741A-83D3-4FC3-8DCD-5F9BE382F77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1280" y="3645000"/>
          <a:ext cx="7561080" cy="5047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1280" y="4400640"/>
          <a:ext cx="7561080" cy="162072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ájemné zakládání účt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ostro účet – účet, který má banka otevřen u jiné zahraniční ba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oro účet (vostro účet) – účet, který vede zahraniční banka pro jinou ban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zahraničním platebním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learingov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tuzemském platebním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chodní banky mají u clearingové banky účet a přes ní jsou spoje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learingové (zúčtovací) centrum ČNB, systém CERT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e to vkladom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Co je to platbom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Vysvětlete podstatu výběru hotovosti na pokladně obchodů (cashback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K čemu slouží zúčtovací centrum ČN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Způsoby propojení ban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lší způsoby hotovostního platebního styku tuzemskéh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Bezhotovostní platební styk tuzemsk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847880"/>
          <a:ext cx="8229600" cy="4173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tuzemského platebního sty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, vklady a výběry v hotovosti, vklady a výběry na účet, cle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Tuzemský platební sty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styk z hlediska form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bez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styk z hlediska teritor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tuzemsk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zahrani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hotovostního platebního styku</a:t>
            </a: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žením hotovosti ve prospěch účtu příjemce - pokladní slože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o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ukazem peněžních prostředků ze svého účtu k výplatě v hotovost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em k výplatě v hoto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hotovostního platebního styk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běrem prostřednictvím výběrního lís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latební kart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pokladně obchodů cashbac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skutečnuje se na základě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ou příkazů k zúčtování (platebních příkaz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ů k zúčt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ch platebních kar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lektronického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 tuzemsk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zv. hladké platby na základě příkaz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nitrobankovní platební styk - převod peněz mezi 2 klienty stejné ba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ezibankovní platební styk - převod peněz mezi 2 klienty různých ban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ba převodu v tuzemsku  do 24 ho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28:34Z</dcterms:modified>
  <cp:revision>29</cp:revision>
  <dc:subject/>
  <dc:title>Platební styk tuzemský a zahraniční</dc:title>
</cp:coreProperties>
</file>