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B1D-C8C8-4EFF-A54C-4BB6FCB4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701-0714-40B7-834E-BE35151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45D-F9A8-4212-BF1F-5C028FDD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9AF-FA94-4B71-97FD-93F77D6F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1F6-3B13-4F8C-B8F6-97B55E99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2E4-1A65-496E-8F14-582DFC2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DB72-3704-4C97-9613-13A60FDE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4D1-7150-4B0D-A788-1D1BC394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D2DE-C2B8-4592-B636-654CE9E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E5A-9F27-44F5-87CA-6720AB82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551-5903-437E-B384-EB78190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9A9-91E2-4703-BAA0-ECC5BBC4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9C49-70C1-47DC-9F50-D357A74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C923-C0AC-4C3D-A9BB-084683C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A36C-0B54-4178-B66B-4B9A28D2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0B9D-C945-461A-9888-9174037F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B633-C944-4F7A-B549-DDE29A55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822-9113-4CBC-9B7B-35054EA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574-26A2-4B7D-9183-5E9C526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255-BCC9-47EE-BDE2-6BCBC47C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E02-BB7A-4DEF-AAE7-85764496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55C-E513-42CE-95AD-811029F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0BC-12BC-4C43-9571-54273B45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DC3-517A-4F36-BD8A-5A8436D2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20CC-D587-4A71-9108-35E5AEFC73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D2D-B8CB-4BCB-B473-9C83832F1EF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2852640"/>
          <a:ext cx="7201080" cy="720720"/>
        </p:xfrm>
        <a:graphic>
          <a:graphicData uri="http://schemas.openxmlformats.org/drawingml/2006/table">
            <a:tbl>
              <a:tblPr/>
              <a:tblGrid>
                <a:gridCol w="1508040"/>
                <a:gridCol w="1440000"/>
                <a:gridCol w="1509840"/>
                <a:gridCol w="2743200"/>
              </a:tblGrid>
              <a:tr h="78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789360"/>
          <a:ext cx="756108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užité technologi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gnetický proužek – v něm údaje o účtu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technologie – údaje ukryty v čip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ybridní karty -  magnetický proužek i č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karetních asociac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erican Ex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ners Cl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sh  back – hotovostní výběr na pokladně obcho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– brandová karta – vydána ve spolupráci s obchodníkem, u kterého jsou při placení touto kartou výh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říbrná, zlatá, platinová karta – k účtům s vysokým zůstatkem, za kartu vyšší poplatek, výhody: cestovní pojištění, odtahová služba a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dotyková – pro platbu do 500,- Kč varianta embosované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platební k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ý platební terminál – zúčtovací c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cký snímač (žehlička) – pouze pro embosované platební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pážky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o internetu – aktivace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kamžité oznámení bance telefonicky nebo na  pobočce banky (důkaz o oznámení -  zákazový kó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okamžiku oznámení karta zablokována (blokace – u elektronických karet, stoplistace – u embosovaných karet), poplatek dle sazebníku, může být i zda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Zablokovaná karta se dostane na stoplist – seznam zakázaných kar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Odpovědnost od okamžiku oznámení nese banka, někde spoluúč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Žádost o novou platební kar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Nalezenou ztracenou kartu odevzdat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žnost pojištění zne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debetní, kreditní, charge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podle potisk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druhy kar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tráta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obní účast na školení o bankovních produk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platebních kar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, debetní, kreditní, charge, embosovaná, elektronická, cash back, co-branded, blokace, stoplist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troj k bezhotovostní platbě, který vydávají fyzickým i právnickým osobám nejčastěji banky (nákl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placení v obchodě nese obchod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 výběru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e vkladu do bankomatu (vkladoma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betní – k běžnému účtu, vybírá se do zůstatku na účtu, možno zřídit k účtu kontokorent ( krátkodobý úvěr, vybírání do sjednaného úvěrového rám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editní karta 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ge karta – k úvěrovému účtu, vyúčtování na konci měsíce, bezúročné období pro splacení  celé částky do konce následujícího měsíce, jinak vysoké ú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kupní úvěrové kar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karty - hladký potisk (ident), slouží pro výběr z bankomatu, placení u obchod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bosované karty - s tzv. reliéfním (plastickým) písmem, pro výběr z bankomatu, placení u obchodníka, navíc v mechanických snímačích a pro platbu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17Z</dcterms:modified>
  <cp:revision>35</cp:revision>
  <dc:subject/>
  <dc:title>Platební nástroje</dc:title>
</cp:coreProperties>
</file>