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D2D-BAED-4BFF-A8C9-C50FC9E4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D5D-7842-4AD9-8E50-DBD86115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F07-0698-4599-9CEA-27F1E169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9F9-34A9-4153-BCA4-7330A2CD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7F46-C02F-4212-859F-09E73548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83E4-2545-4FFB-AEC5-61AD607A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AF49-4367-423E-8DAF-70B19E7F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89E0-8262-48A3-8496-CB5EAD2B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0DA1-2A69-4B95-A371-7B42F7B7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F7EA-E81E-4EEF-86F2-E6C4C833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673B-A877-4C4A-8C65-602274B8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EDE-9D09-4793-A2EC-BEDA9808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F8D0-2FA0-4C5E-B5A2-2D1C0495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DABD-9E9D-462E-AA4D-16CD8A26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1A5D-CDC5-462E-BB20-D74CA21F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0C1E-498A-4D66-BC93-37F061F5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6F10-7A4E-43D4-A0EC-B4F38F6C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F056-7D0E-4656-9764-AC3D7392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0D7-F91E-4323-9BFC-FE808E0B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BA7-2FA0-4CC1-89B0-332DA160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E4B-9E20-4886-9AE2-1D07B22A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103-F13A-45EF-9AAE-9AFD9E4E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153-5BF3-4DFD-A9FF-DBA30422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7C2-AB3E-48E3-AA5E-A44D4AD8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A231-2364-4F36-B44F-73416B49F8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EC9C-1D5A-40B1-A5E1-61AF406CB46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068640"/>
          <a:ext cx="7561080" cy="64764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4005360"/>
          <a:ext cx="7561080" cy="162720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4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inanč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řízení majetku bez nutnosti mít cel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látkový kalendář – rozpis splátek po dobu trvání leasing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Operativ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nci sjednaného období nedochází ke změně vlastnických vztah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jemce platí běžný náj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tšinou krátkodob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odej nebo zpětný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prodá bance majet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zavře s bankou smlouvu, že tento majetek bude užívat po sjednanou dobu za jednorázovou platbu nebo na splát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acto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orfa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stata leasing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inanční lea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perativní lea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3755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tatní platební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hled ostatních platebních nástrojů bank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toring, forfaiting, lea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Ostatní platební nástro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kup krátkodobých pohledávek před datem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měna věřit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louva o faktoringové spoluprá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loha 60 – 90 % z pohled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ový poplatek a 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teritori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uzemsk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portní (vývoz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mportní (dovoz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rizik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 s rekurzem (regresní) – riziko nezaplacení  zůstává na kliento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 bez rekurzu (bezregresní) – riziko nese ban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orfai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kup  pohledávek před datem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ávky zajištěny jinou ba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jištěny směnkou, dokumentární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kreditivem, bankovní záru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ávka ihned proplacena s určitou sráž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poskytuje banka pří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prostřednictvím dceřiných společ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ilná konkur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asing finanč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asing operativ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dej nebo zpětný lea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inanč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jemce platí pravidelné splátk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vní zvýšená splátka (akonta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nci sjednaného období dochází ke změně vlastnických vztahů z pronajímatele na nájem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= finanční pronájem s následnou koupí najaté věc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40:22Z</dcterms:modified>
  <cp:revision>25</cp:revision>
  <dc:subject/>
  <dc:title>Platební nástroje</dc:title>
</cp:coreProperties>
</file>