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DE9-A7E9-4484-A45A-60F7F26C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55F-5D9F-45DF-B6EE-359F2D6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909-1F6A-4EC0-B261-00CAA176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924-6651-45B2-A928-516DA551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887-5C44-48BA-9E32-C38E2CC7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A8D9-0A4A-4050-A26A-EBA16FD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DF28-79DD-4C19-A695-0A7FA6D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F184-52F2-4C92-B0F8-6CEDFB5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B29-FB95-4EED-9B80-E6442F0B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2E8-2928-40FC-BBD2-CB5FCE9D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674D-09EB-42F6-9E15-D37DD34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C5C-D0DC-4C4D-8F40-5DB643FB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5A5F-CF0B-4A46-A7E4-72F4CDF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D94-967A-4A8F-88D5-556215D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CD7-3396-4A8E-BF65-FA11CFF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F33A-79C8-4957-9DEE-C24A930E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57F-1123-4DF1-9F37-9CBC1385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375-0E50-47BD-9159-7F773D74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8CC-7258-42B7-8C8A-F0AEE6EE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ECE-93E1-40A3-9BEB-74F0273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681-DF6F-4C68-A8C4-E0E038A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FDF-9CC3-4FC1-874C-C00F9C7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02B-176C-4F61-B516-09BFF7F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92C-B29F-46BD-865A-C8CB031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D096-98D3-4E90-85F2-61754F8D17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312F-5C62-43D0-90F1-B8985007330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86064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„šek“ v textu listiny v jazyce, ve kterém je šek vystav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určitou peněžní sum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 (šekov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 místa, kde má být plac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-li uvedeno, je to sídlo šekov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is výstavce v souladu s podpisovým vzorem B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může požadovat další úda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měle vytvořeny pro potřeby cestovního ruc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sou to skutečné šeky, nevztahuje se  šekové prá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y Obchodním zákoník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pují se, proto plně kry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dávány velkými bankami a finančními instituce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 světových mě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zaokrouhlených nominálních hodnot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znam a charakter še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u nás nejsou šeky příliš rozšířen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eky bankovní a soukrom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upravujíc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oditelnost še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stovn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jeho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šek bankovní, soukromý, převoditelnost šeků, náležitosti, cestovní 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átkodobý cenný papír, který obsahuje bezpodmínečný příkaz výstavce šeku bance (šekovníkovi), aby vyplatila z jeho účtu oprávněnému majiteli šeku peněžitou částku uvedenou na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 Směnečným a šekovým zákonem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. 191/1950 Sb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cházejícím z Ženevských konve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elizace č. 29/2000 S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přímého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ždy splatný na viděno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bankov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banka na žádost svého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u plně kryt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ho vystaví až za něj klient zaplatí z účtu nebo v hotov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soukrom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soukromá osoba - klient, který má v bance vedený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ován na předtištěném formuláři v tzv. šekové kníž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řevoditelno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řad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 na určitou osobu, převod  indosamentem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jméno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 jméno oprávněné osoby, nelze indos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majitel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-  majitelem šeku je osoba, která  šek momentálně vlast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oužit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kladní šek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k výběrům hotovosti z 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k zúčtová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- šekovník ho může vyrovnat jen bezhotovostně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na šeku uvedeno „jen k zúčtování“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46Z</dcterms:modified>
  <cp:revision>25</cp:revision>
  <dc:subject/>
  <dc:title>Platební nástroje</dc:title>
</cp:coreProperties>
</file>