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A5F-85FB-488B-B5B1-13F59AED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571-40BB-47CD-A546-7F98D99A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030-B64D-47A3-8729-1E6E42DB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B21-37A4-4E1D-A678-92C8CF0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674D-57DE-4A89-9A31-30A3DC12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821-3500-47C1-8A57-9C9B15DF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BCA5-80EA-43ED-8835-C5D6AA8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C7BA-8472-4198-A159-257AD607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2E4A-9413-4370-9EA2-E5FCE2E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F21B-87FB-4672-B939-CF73780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90F-39BF-4489-8512-60E992B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0F0-A443-4BE5-ADD2-5A15100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7BD-AAC7-43DB-B459-6A41686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485E-1841-49F3-8E93-D06581C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18DF-4AB6-457D-B6D0-68813EF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5CFC-29FF-43FA-A969-EA83B714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C4D9-33D3-4C43-9A1E-CA32268A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5BC-633E-40A9-8F92-391BCF0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A1E-EE12-4B69-9FAD-37570FA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997-B5B7-4FA4-844E-F20E64F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6A0-BCA8-43C2-897D-F359F8F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FCA-0982-4362-9D79-702AD41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5D7-1E43-444B-AE2B-4D97371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39A-90B1-4897-902B-C6D8A44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DC5E-3134-44BC-A41C-10D5D28F56C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B76-34DD-4CFC-9F1B-A5906411E0B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73360"/>
          <a:ext cx="756108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22100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a v české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, elektronický podpis nebo jiný kó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 - vyjadřuje ekonomický charakter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splatnosti - den, kdy mají být prostředky odepsány z účtu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- slouží k identifikaci platby pro příjem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– identifikace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slo faktury, rodné číslo fyz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y, IČO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fický symbol – dodatečný symbol identifikující např. jednotlivé měsíce u plat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říkazu k úhradě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–určuje charakter služby, pro platební styk s účty státního rozpočtu povinn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xtová zprá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vystavení příka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e vnitro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 mezi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příkazem k úhradě a příkazem k inkas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veďte příklady k jednotlivým příkazů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97200"/>
          <a:ext cx="8229600" cy="383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druhy, náležitosti, vypln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jeho druhy, náležit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úhrad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přikazuje bance, aby z jeho účtu poslala peníze na ji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inkas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dává souhlas k tomu, aby si z jeho účtu stahoval  peníze příjemce platby, může být nastaven lim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jednorázov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neopakující se plat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trval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platbu pravidelně se opakuj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jednotliv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pro jednu plat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hromadn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více plateb  najedn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elektronickou form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internetbanking, mobilbanking, homebankin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na papírovém formulář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zda se jedná o příkaz k úhradě nebo k inka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látce - číslo účtu a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říjemce - číslo účtu a 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56Z</dcterms:modified>
  <cp:revision>29</cp:revision>
  <dc:subject/>
  <dc:title>Platební styk tuzemský a zahraniční</dc:title>
</cp:coreProperties>
</file>