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016-2736-4D6E-BEBF-4BD3824D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A55-22AA-4A1A-B322-E01A896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3A4-3BE9-42EF-9AF9-88326939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3F3-7D67-4A56-8241-23DD2ED6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0FF1-EF7E-4130-9EBE-F90F0A19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0C22-1ABB-4697-92CB-820E7EB6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1C7C-6EF9-4682-B52E-851F2D09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F0CB-1907-4855-A3B9-1105DA9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3315-3B68-4245-B013-7EA0BD4E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96C8-9390-48CE-8F99-A70CB4C2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6D47-16EC-4F77-81D8-CB85EF5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D54-5BEA-4427-A07C-274EBE0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9B4B-8E78-4E55-ABAA-C986F9A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D25D-24FE-49A3-A395-4224660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FC2-7623-46B9-8EBD-C8854D34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DBAB-D482-41EF-BA8A-76A489F0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D9A6-2A95-40B0-B1A8-34496012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5D6-86FE-440E-9720-FAE53C43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590-4311-4856-A2ED-F947C16A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322-BFFD-4CED-B0BF-7426EA81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FB6-A1B4-4973-A86D-A270F78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5E4-2841-4B8D-8579-AE63FA4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EC4-2BEC-4BB6-AD96-D2EF98D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DDF-8906-427B-B852-80BE7D2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521-CA0F-4D3D-8761-46A2866C9CE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3272-3826-438F-A524-FCE2B333F92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672000"/>
                <a:gridCol w="3889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lužníka: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átní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unální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dávají obce a kr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obchodních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oukromé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emise C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romadně vydávané - 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dividuálně vydávané -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odle podob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nihované – zápis v Centrální evidenci cenných papírů (dříve Středisko cenných papír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né – fyzická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kladniční poukáz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dluhopis, získání peněz pro různé úče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á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epozitní certifiká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obchodovatelný úročený cenný papír, který vydávají převážně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zní na maj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ho úkolem je aktivizovat dočasně volné peněžní prostřed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tím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razuje akcie do doby splacení jejich jmenovit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ominální) hodno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sou s nimi spojena práva, která vyplývají z akci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ato práv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zisk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vid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řízení společn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ávo na podíl z likvidačního zůsta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yto povin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platit za akc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antiém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íly na zisku představenstva a dozorčí r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má nominální a tržní hodno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ominální hodnota (jmenovitá)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hodnota akcie na ní napsaná a za tuto částku se  emit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ržní hodnot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(kurzová)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výše závisí na vztahu nabídky a poptávky po akciích na trhu s 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ob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listinné pod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itulní list: základní úd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pónový arch: pro výplatu divid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alón: pro vydání nového arch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zaknihované podobě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zápis u Centrální evidence cenných papí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é papí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cenných papír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ý papír, pokladniční poukázka, depozitní certifikát, zatímní list, akcie, dluhopis, podílový list, finanční deriv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řevod této akcie na jinou osobu probíhá tzv. rubopis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je převoditelná předáním jiné os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kladatels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dány při založení podniku, jsou zároveň kmenové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priorit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 přednostní právo na dividendu, majitelé nemají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kmenové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městnane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rodávány vlastním zaměstnancům za výhodnějších podmínek, motivační charak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při odchodu povinnost nabídnout k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kupu fir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tvoří max.  5 % základního kapit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luhopis (obligace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dlouhodobý úvěrový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závazek emitenta vůči věřitel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mitovaný s cílem získat peněžní prostředky na delší do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atnost je pevně stanove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dluhopis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aneck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ypoteční zástav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CP, forma dluhopis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vají hypoteční banky k získání prostředků na poskytování hypotečních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y zástavou nemovit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riz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ílový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jetkový cenný papí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jeno právo majitele podílet se na výnosu fondu, který list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o na odpovídající část majetku podílového fondu (otevřeného nebo uzavřenéh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tav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Cenné papí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inanční deriv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vozené cenné papíry, právo koupit nebo prodat jisté aktiv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warr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cenné papí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finančního trh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majetkových prá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převoditelnosti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 Druhy cenných papírů pod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chodu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 Pokladniční poukáz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 Depozitní certifiká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 Zatímní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hopi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Podílový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2. Další typy cenných papír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a, která zachycuje právní vztah mezi 2 nebo více subje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žitosti určuje Zákon o cenných papír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kapitálu, se kterým se obchoduje na finančním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dlužní závazek nebo majetkový nárok vlastníka vůči tomu, kdo CP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finančního trh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eněžní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krátk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kapitálové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dlouh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 majetkových práv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ěcn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zajištění pohledávek vě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užni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, šeky,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majetk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akcie, podílové lis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spozič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 práva na nějakou vě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převoditel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ajitelem je ten, kdo je předl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jméno oprávněn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řad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oprávněnou osobu jménem, s doložkou na ř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ůchod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e stál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 proměnn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eúroče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31:47Z</dcterms:created>
  <dc:creator>Marek</dc:creator>
  <dc:description/>
  <dc:language>en-US</dc:language>
  <cp:lastModifiedBy>Igor</cp:lastModifiedBy>
  <dcterms:modified xsi:type="dcterms:W3CDTF">2014-09-13T14:52:42Z</dcterms:modified>
  <cp:revision>34</cp:revision>
  <dc:subject/>
  <dc:title>Cenné papíry</dc:title>
</cp:coreProperties>
</file>