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762A-82BD-4798-B9C7-CB82A649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49AF-5B0D-4703-ADB2-9669C95B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2B77-701D-4DF1-B645-7277B8A8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1761-6169-426B-A61E-B2B0A00F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39B6-C6EB-49CF-8357-27E5437D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EB5-0372-4461-9A39-EB6BA33B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EDE1-2B7A-4B88-9775-2211BE7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D98F-D66D-4658-AC5D-142EA8C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A24C-7929-46C8-BB5F-60DB7235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4449-435C-4F45-A19F-565C8EAF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F7C2-9AB4-4CAA-8B24-85A4DF7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6474-EB69-4709-B314-A1DF208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155-9122-4AF9-9CD2-20C496F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E1B9-7964-4754-A41A-1E9AF67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177-53CC-4B87-A752-6E869C1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53EB-D81D-4897-8A4B-A5153FCE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87F8-0655-4E0B-9B6D-70A35DDC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7C58-FC5E-418E-A592-BEAF2985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C596-7107-429D-ADEE-FBDC48D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D32F-041E-4894-B84A-A7E34A63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0ACD-788B-477B-A775-30CCBD7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4E41-7FF7-458B-9430-D4776F45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5636-EF4E-462A-AA88-9E2DA80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5C0E-03FC-4E8C-8F7A-BE37630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5A43-FAA5-45AB-9A8A-A831BFC3AD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D38-3DBE-481F-B9DD-058B459348D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uj-bankrot.cz/dokumenty_k_oddluzeni" TargetMode="External"/><Relationship Id="rId2" Type="http://schemas.openxmlformats.org/officeDocument/2006/relationships/hyperlink" Target="http://www.penize.cz/exekuce/18830-osobni-bankrot-petileta-cesta-z-dluh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9640" y="4221000"/>
          <a:ext cx="7561440" cy="16639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roveň požádá, aby její úpadek nebo hrozící úpadek byl řešen formou oddluž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je ochranou před exekutor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ekuce, mohou  soudem nařízeny, ale nemohou být vykoná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řitelé musí přihlásit své pohledávky za dlužníkem v rámci insolvenčního říze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rozprodáním majetku dlužníka ne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splácením podle věřiteli schváleného splátkového kalendář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ou je, aby  bylo splaceno alespoň 30 % celkového dluh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zaváže do 5 let uhradit maximální možnou část dlu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 výši jednotlivých splátek rozhodne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usí zůstat životního  minim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musí pracovat, aby měl dostatečný pravidelný příj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ým soud splátkový kalendář nepovol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případě neplnění stanovených povinností může soud zrušit souhlas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oddlužení se musí podílet manžel, manželka, pokud nemají zúžené a vypořádané společné jmění manželů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šichni dlužníci, kterým soud osobní bankrot povolí, vedeni v  insolvenčním rejstří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řejně přístupný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něm  všechny důležité úkony spojené s osobními bankro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 ukončení insolvenčního řízení soud dlužníka ze seznamu vyškrt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dstaty osobního bankro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, podmínky, návrh na oddlužení, způsob oddlužení, splátkový kalendář, zrušení, insolvenční rejstř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osobní bankr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y osobního bankro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na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působ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Zrušení souhlasu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Insolvenční rejstří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www.muj-bankrot.cz/dokumenty_k_oddluz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2"/>
              </a:rPr>
              <a:t>http://www.penize.cz/exekuce/18830-osobni-bankrot-petileta-cesta-z-dl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dlužení fyzických os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ákona č. 182/2006 Sb., o úpadku a způsobech jeho řešení (insolvenční záko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 má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íce věřitelů (nejméně dva)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ité závazky, s jejichž úhradou je více než 30 dnů v prodlení po splat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schopen tyto závazky plnit (tzv. platební neschopno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dluhy z podni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yzická osoba, která není podnikatelem, podá soudu na speciálním formuláři návrh na prohlášení insolv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se podává na krajský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znam majetku a seznam závaz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klady o příjmech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ísemný souhlas nezajištěného věřitele (= dostane méně než 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18Z</dcterms:modified>
  <cp:revision>18</cp:revision>
  <dc:subject/>
  <dc:title>Osobní bankrot</dc:title>
</cp:coreProperties>
</file>