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1811-34D3-41E8-AE69-0384FF60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9862-3FD1-42F3-91E5-111A5C86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AB68-6BA9-4276-A056-8F1CE678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8A90-3A98-4666-A897-CC3E42B5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6CA5-83C6-4E8C-B70D-6B622FFE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4C2A-D4A6-402A-BF79-D25643FD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149E-A4F0-4E32-AC13-2ADE335A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91CB-FD70-41BA-AF0A-0A0EB76A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6B53-FCAD-49F1-A4D1-C945F21C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3D06-7876-4D79-996E-CC2A4E3C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AA2A-89D4-492B-BD23-C0A1C495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C366-BFCE-4372-A2E9-EA757EB7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589D-DA54-4E60-A1C6-63964559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BB03-E863-4537-A49B-7A4059E4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2EA1-C2EE-421A-869E-032F02C1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BDA7-97BF-44F4-9F9B-0DCB9B50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CAC2-DC34-4567-A4F5-DEA3A791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876F1-2CE7-4D05-8E4D-CF870FBF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D7D08-90AD-4412-9523-385FCCA6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626C7-99B8-4B3F-993D-AF55CD55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14D12-884B-46FD-A104-94B110E7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4E374-F1FB-45CD-95E5-F6DE4365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9E23-8EA5-4BAB-AB03-68A395F0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20756-EA41-436C-A73A-4C4F1440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96BE8-B078-450C-B2C9-83DCD4D6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41541-69D7-40CD-AF97-3BD557F3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087F5-64EB-4103-BBDB-215D3082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87E3E-B720-4D8F-ACB3-651AE905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5B45E-E506-41C3-9D4B-E4728974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64DB2-4252-4879-B3F4-E01102D5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8009-4D3A-453A-8658-6E4D3D05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8679-C63D-422A-8A3E-D86C7248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3186-10EA-466B-8546-31AD2527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C28D-51DB-49F1-B292-CF6A79AC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E933-09DF-4A31-AA2E-AA809090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3747-DEE7-4877-923B-CF49076E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80DA-0BD7-4613-B751-9CA2D65D570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2598-D682-4D49-9E6B-BB3E3432A07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A3D8-45BA-4EFA-9EC5-18F9471DB06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1835280" y="476280"/>
            <a:ext cx="5295600" cy="1295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900000" y="1989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539640" y="4221000"/>
          <a:ext cx="7561440" cy="1662120"/>
        </p:xfrm>
        <a:graphic>
          <a:graphicData uri="http://schemas.openxmlformats.org/drawingml/2006/table">
            <a:tbl>
              <a:tblPr/>
              <a:tblGrid>
                <a:gridCol w="3384720"/>
                <a:gridCol w="417672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Jednoduch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4"/>
              <p:cNvSpPr txBox="1"/>
              <p:nvPr/>
            </p:nvSpPr>
            <p:spPr>
              <a:xfrm>
                <a:off x="2556000" y="2637000"/>
                <a:ext cx="4176720" cy="24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 ……………….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 ………………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stupní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t………………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úročený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a, po kterou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 kapitál úroč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…………………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čet období, po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terá se úroč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…………………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nui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4"/>
              <p:cNvSpPr txBox="1"/>
              <p:nvPr/>
            </p:nvSpPr>
            <p:spPr>
              <a:xfrm>
                <a:off x="1908000" y="1700280"/>
                <a:ext cx="547236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ú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1" name="Rectangle 7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6"/>
              <p:cNvSpPr txBox="1"/>
              <p:nvPr/>
            </p:nvSpPr>
            <p:spPr>
              <a:xfrm>
                <a:off x="1908000" y="4005360"/>
                <a:ext cx="547236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2987640" y="1700280"/>
                <a:ext cx="3384720" cy="19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Rectangle 7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6"/>
              <p:cNvSpPr txBox="1"/>
              <p:nvPr/>
            </p:nvSpPr>
            <p:spPr>
              <a:xfrm>
                <a:off x="2340000" y="3860640"/>
                <a:ext cx="4897440" cy="19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3059280" y="1700280"/>
                <a:ext cx="324144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t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Rectangle 7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8"/>
              <p:cNvSpPr txBox="1"/>
              <p:nvPr/>
            </p:nvSpPr>
            <p:spPr>
              <a:xfrm>
                <a:off x="2195640" y="3933720"/>
                <a:ext cx="5113080" cy="200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t</m:t>
                        </m:r>
                        <m:r>
                          <m:t xml:space="preserve">∗</m:t>
                        </m:r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4"/>
              <p:cNvSpPr txBox="1"/>
              <p:nvPr/>
            </p:nvSpPr>
            <p:spPr>
              <a:xfrm>
                <a:off x="1692360" y="2421000"/>
                <a:ext cx="5400720" cy="21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t xml:space="preserve">i</m:t>
                        </m:r>
                        <m:r>
                          <m:t xml:space="preserve">∗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Kombinované úrokování  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 ………………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 ………………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stupní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t………………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úročený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a, po kterou je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pitál úroč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Kombinované úrokování  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n…….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počet úrokovacích 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období (ukončenýc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l ……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počet úrokovacích období 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(neukončenýc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Kombinova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684360" y="3068640"/>
                <a:ext cx="756108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∗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"/>
          <p:cNvGraphicFramePr/>
          <p:nvPr/>
        </p:nvGraphicFramePr>
        <p:xfrm>
          <a:off x="611280" y="1557360"/>
          <a:ext cx="8229600" cy="4527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ednoduché a složené úroková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ákladní pojmy a vzorce pro výpočet úrokování. Vzorové příkla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Úrokování jednoduché, složené, dekurzivní, anticipativní, úrok, kapitál, doba splatnosti, úroková míra, anuita, bankovní měsíc, ro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lient si vypůjčil z banky  65 000,- Kč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10 % úrok p. a. dek., jednoduché úrokování, dekurzivní. Kolik musí vráti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70 254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počítej původní jistinu a úrok, jestliže půjčka i s úroky byla splacena po 327 dnech. Úrok 12 % p. a. dek., jednoduché úrokování, dekurziv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225 000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4 525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lik si můžete půjčit peněz, pokud víte, že za 3/4 roku budete mít na úhradu dluhu  200 000,- Kč, při úrokové míře 8 % p.a. a složeném úrokování dekurzivní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88 783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dlouho byl v bance uložen kapitá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30 000,- Kč, vzrostl-li při jednoduchém úrokování dekurzivním při sazbě 0,05 na 36 500,- Kč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1560 dn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rči úrokovou sazbu, byl-li kapitá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 000,- Kč úročen čtvrt roku a vzrost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6 075,- Kč. Úrokování jednoduché, dekurziv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 = 0,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 = 5 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konom firmy vystavil 15. 4. 2009 vlastní směnku za dodávku zboží v hodnotě 100 000,- Kč se splatností za 6 měsíců. Zjistěte směnečnou sumu, jestliže úrok je 9 % p.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04 500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vzroste kapitál  500 000,- Kč uložený do banky 3. 2. 2006, který si klient vybere 6. 8. 2009 při úrokové míře 8 % p. a.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) jednoduché úročení de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) složené úročení de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) 640 333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) 654 986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se zúročí úvěr 1 milion korun, když byl úrokován složeným způsobem při 0,05 p. a. dek., po dobu 2 let 6 měsíců 27 dnů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1 333 868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dlouho byl uložen vklad 25 000,- Kč, vzrostl-li na 29 246,50 Kč při úrokové sazbě 0, 04 p. a. dek.? Složené úrokování, dekurziv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4 ro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kolik % byl úročen kapitá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8 500,- Kč, pokud za 3 roky vzrost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20 000,- Kč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ování složené, dekurziv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i = 0,02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 = 2, 63 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Jednoduché a složené úrokování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vzroste kapitál 240 000,- Kč s úrokovou mírou 8,5% p.a. uložený na období 22. 2. 2006 až  17.6. 2009 při kombinaci jednoduchého a složeného úročení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 314 873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MÉKALOVÁ, Darina. 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Finanční a pojistná matematika pro střední školy ekonomického zaměření,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strava:  Montanex,s.r.o. , 1996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BN:  80-85780-39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rokován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kurzivní - polhůtn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nticipativní – předlhůtn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vní rok – 360 dn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vní měsíc – 30 dn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rokován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. a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oční 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. s.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loletní 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. q.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tvrtletní 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. s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ěsíční 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rokován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ečítací metoda (německá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výpočet počtu dnů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. Vypočítej počet dnů v období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5. 7. 2007 – 4. 9. 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(4–15) + (9–7)*30 + (2009–2007)*360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= - 11 + 60 + 720 = 769 dn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Jednoduch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 ……………….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 ………………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stupní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t………………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úročený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a, po kterou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 kapitál úroč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Jednoduch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5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9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0"/>
              <p:cNvSpPr txBox="1"/>
              <p:nvPr/>
            </p:nvSpPr>
            <p:spPr>
              <a:xfrm>
                <a:off x="2195640" y="2205000"/>
                <a:ext cx="489744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ú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i</m:t>
                    </m:r>
                    <m:r>
                      <m:t xml:space="preserve">∗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Rectangle 23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2"/>
              <p:cNvSpPr txBox="1"/>
              <p:nvPr/>
            </p:nvSpPr>
            <p:spPr>
              <a:xfrm>
                <a:off x="1116000" y="4149720"/>
                <a:ext cx="68407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∗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Jednoduch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3059280" y="1628640"/>
                <a:ext cx="381780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∗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Rectangle 7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6"/>
              <p:cNvSpPr txBox="1"/>
              <p:nvPr/>
            </p:nvSpPr>
            <p:spPr>
              <a:xfrm>
                <a:off x="3132000" y="3789360"/>
                <a:ext cx="3745080" cy="21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23:34:46Z</dcterms:created>
  <dc:creator>Marek</dc:creator>
  <dc:description/>
  <dc:language>en-US</dc:language>
  <cp:lastModifiedBy>Igor</cp:lastModifiedBy>
  <dcterms:modified xsi:type="dcterms:W3CDTF">2014-09-13T14:50:43Z</dcterms:modified>
  <cp:revision>25</cp:revision>
  <dc:subject/>
  <dc:title>Jednoduché a složené úrokování</dc:title>
</cp:coreProperties>
</file>