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C358-4472-43BF-BFC4-00F47C21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CB9B-EEC8-4760-B85E-BFD9FE9A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8339-7AD9-4780-9C3B-810095FB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5BA6-E167-437B-83BE-D857B318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57FC-0116-4B57-AF5E-CE1AFBC9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85B2-4983-4616-A158-751CA2D1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7E65-75A2-40EF-84CA-59F608B6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63FD-2595-4057-A165-F22EDB06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16F3-A43B-42C1-9E24-DFC7BE6D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BD25-CB2F-44A4-9D97-B97A6C0C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85DC-9D9E-438B-8BF6-822EEC4B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3063-A51F-481A-AD6A-9B5925FC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7FBC-21A4-4197-AA9C-3720DA86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1523-E416-427E-810F-4EF60967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7BD5-F40E-45DE-95E3-C86CC4D8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63E7-653F-4FFE-BB31-1678EB1A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7A1F-A273-4ADC-91E5-48BA94A6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3C4-4E87-48A5-A8E4-1571CAEC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3813-8F4C-40F7-B08E-6C8710B8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BEEF-9DD3-4757-B0BC-4C1EE225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F735-473D-44AD-8479-5786CD16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85CC-ACA1-4A2A-8C51-EE889C15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4A87-3E39-4443-A866-6E14CA92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5537-ED41-4CB1-86E3-3CB0B897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1436-BC60-4E8A-84AB-C40002EEABA6}" type="slidenum">
              <a:rPr b="0" lang="cs-CZ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03EE-22A7-4971-BA94-72699733F1C6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finarbitr.cz/cs/financni-arbitr/pusobnost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89000" y="304920"/>
            <a:ext cx="5699160" cy="1431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476000" y="1989000"/>
            <a:ext cx="6705720" cy="13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39640" y="4149720"/>
          <a:ext cx="7561440" cy="159084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 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do výše částky  50 000 eu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eaeaea"/>
                </a:solidFill>
                <a:latin typeface="Tahoma"/>
              </a:rPr>
              <a:t>Důvod vzniku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klady soudního sporu vysoké, často převyšují spornou část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dlouhavost soudního říz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armonizace práv ČR v rámci Evropské un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ísemně poštou, e-mailem opatřeným zaručeným podpisem nebo prostřednictvím datové schránky, osobně, resp. ústně do protokolu v sídle Kanceláře finančního arbit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vrh musí obsahovat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dentifikační údaje navrhovatele a finanční institu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lad o tom, že instituce byla neúspěšně vyzvána k nápravě (vyřízení, zamítnutí reklamac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plné a srozumitelné vylíčení rozhodných skutečností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ůkazní prostředky nebo označení důkazů (smlouvy apod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značení, čeho se navrhovatel domáh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hlášení, že nepodal v téže věci žalobu k soudu nebo k rozhodčímu soudu nebo rozhodci ,že neuzavřel s institucí dohodu o mimosoudním vyrovnání a je si vědom závaznosti nález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nou moc, je-li navrhovatel zastoupen na základě plné moci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tum a podpis navrhova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aeaea"/>
                </a:solidFill>
                <a:latin typeface="Tahoma"/>
              </a:rPr>
              <a:t>Průběh řízení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hradně pro klienty, návrh podává kli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platn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dená proti finanční instituci nikoliv proti klientov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Průběh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arbitr rozhodne do 30 dnů ode dne zahájení řízení, ve zvlášť složitých případech  do 60 dnů, nelze-li rozhodnout ani v této lhůtě, může ji  přiměřeně prodlouž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Průběh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arbitr rozhoduje nález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ti nálezu lze uplatnit opravné prostředky – námit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lez je soudně vykonatelný a má účinky srovnatelné se soudním rozhodnutí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5187960" cy="143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539640" y="1484280"/>
          <a:ext cx="8229600" cy="5173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ční arbit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znam instituce finančního arbitra pro klienty finančních instituc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ční arbitr, spory, působnost, návrh klienta, průběh říze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Průběh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 případě nesouhlasu s konečným rozhodnutím finančního arbitra je možné podat k soudu proti němu žalobu o přezkum rozhodnutí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Spory mimo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př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 nenáleží finančnímu arbitrov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 věci již rozhodl soud nebo bylo zahájeno soudní říz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aeaea"/>
                </a:solidFill>
                <a:latin typeface="Tahoma"/>
              </a:rPr>
              <a:t>Spory mimo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př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 již řeší nebo řešil finanční arbit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ylo již rozhodnuto v rozhodčím řízení nebo bylo zahájen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Úkoly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74400" y="2334960"/>
            <a:ext cx="670572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stituce finančního arbitr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ůvod vznik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ůsobnost finančního arbitr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vrh klient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ůběh řízen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imo působnos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ttp://www.finarbitr.cz/cs/financni-arbitr/poslani-a-ukoly-fa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finarbitr.cz/cs/financni-arbitr/pusobnost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ttp://www.finarbitr.cz/cs/financni-arbitr/pruvodce-podanim-zadosti.html#for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515680"/>
            <a:ext cx="7315200" cy="177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eaeaea"/>
                </a:solidFill>
                <a:latin typeface="Tahoma"/>
              </a:rPr>
              <a:t>Finanční arbitr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066320" y="4768560"/>
            <a:ext cx="754380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imosoudní orgán k řešení spo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arbitr s právem rozhodovat sp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ídlo Kanceláře finančního arbitra v Pra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ho arbitra jmenuje vláda na návrh ministra financí na 5 l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arbitr je odpovědný za svou činnost vlá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 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ezi institucemi provádějícími převody peněžních prostředků (zejména banky) a jejich klienty – např. o správnost zaúčtované plat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 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ezi institucemi, které vydávají a zpětně vyměňují elektronické peníze (platební karty) a jejich držitel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 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ezi věřiteli nebo zprostředkovateli a spotřebiteli při nabízení, poskytování nebo zprostředkování spotřebitelského úvěru (např.o správnost výše úvěru nebo účtovaných poplatků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ezi investičními fondy, investičními společnostmi a spotřebiteli z fondů kolektivního investování, které shromažďují peněžní prostředky od veřejn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(např. o správnost poplatků)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or</dc:creator>
  <dc:description/>
  <dc:language>en-US</dc:language>
  <cp:lastModifiedBy>Igor</cp:lastModifiedBy>
  <dcterms:modified xsi:type="dcterms:W3CDTF">2014-09-13T14:50:31Z</dcterms:modified>
  <cp:revision>22</cp:revision>
  <dc:subject/>
  <dc:title>Finanční arbitráž</dc:title>
</cp:coreProperties>
</file>