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3C91D-D38F-4679-971B-30209322A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E1392-C4A8-4467-955B-90AC2EABF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873BB-993A-4FC3-A757-D474A12A2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8673C-E0C2-4897-A928-FADF1CB50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08FC4-F503-4090-8BCB-DEB7E7CDC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B1A75-995D-49EB-84CA-418753252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64296-0602-475F-82F3-08D79CDB4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0A0C5-19E6-47BC-B25E-A318EFF53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E770F-F57E-4DAB-9EF6-6A48C0128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16931-DB19-446A-A20E-DDE3F3E5A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A1064-E81B-4A47-939C-9500BE452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22553-42AB-4E39-9EE9-4171E3C9C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8D896-E4E0-42F5-B3BB-3DA9D315C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035C4-B32A-4D00-A0C5-EE72199B2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2FDCE-C2E9-41A8-AB70-5482DE6E2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B5992-0BF4-4A31-9B67-E03425905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23455-9176-4A59-ADA6-568B183BF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D4B28-83DC-4077-B141-E009E5F89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81B69-D6B1-4D7C-A5E5-808C0E721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5E0FD-C81A-4AF6-99D1-0BDAC5C97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1CD74-ED58-46AB-A987-E0040DDE7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E9FF7-5D6F-46E8-AD55-86C3E7CF5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961CF-740F-4862-84FA-938BD87D8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7D6CA-A427-40F7-98CD-3BBD2F983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7ECA7-95AA-45AA-BE8B-CB83F20421B2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B9145-3BBB-4344-BBDA-CD0BE9566568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ahoma"/>
              </a:rPr>
              <a:t>Výukový materiál zpracován v rámci projektu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ahoma"/>
              </a:rPr>
              <a:t>EU peníze školá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ahoma"/>
              </a:rPr>
              <a:t>Registrační číslo projektu: CZ.1.07/1.5.00/34.0208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9" name="Picture 3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083280" cy="1487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0" name=""/>
          <p:cNvGraphicFramePr/>
          <p:nvPr/>
        </p:nvGraphicFramePr>
        <p:xfrm>
          <a:off x="539640" y="3573360"/>
          <a:ext cx="7561440" cy="503280"/>
        </p:xfrm>
        <a:graphic>
          <a:graphicData uri="http://schemas.openxmlformats.org/drawingml/2006/table">
            <a:tbl>
              <a:tblPr/>
              <a:tblGrid>
                <a:gridCol w="1584360"/>
                <a:gridCol w="1511280"/>
                <a:gridCol w="1584360"/>
                <a:gridCol w="2881440"/>
              </a:tblGrid>
              <a:tr h="7866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Y_32_INOVACE_165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1" name=""/>
          <p:cNvGraphicFramePr/>
          <p:nvPr/>
        </p:nvGraphicFramePr>
        <p:xfrm>
          <a:off x="539640" y="4365720"/>
          <a:ext cx="7561440" cy="1590480"/>
        </p:xfrm>
        <a:graphic>
          <a:graphicData uri="http://schemas.openxmlformats.org/drawingml/2006/table">
            <a:tbl>
              <a:tblPr/>
              <a:tblGrid>
                <a:gridCol w="3311640"/>
                <a:gridCol w="4249800"/>
              </a:tblGrid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g. Yvona Špílová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49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. ročník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3-41-M/02   Obchodní akademi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6/201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Druhy vkladů – termínovaný vklad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vklad na dobu určitou s  předem stanovenou úrokovou sazbou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úroková sazba je vyšší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sankce za předčasný výbě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může být veden i v cizí měně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Druhy vkladů – termínovaný vklad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Stavební spoření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termínovaný vklad na 6 let s výhodným úrokem a státním příspěvkem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účel spoření není omeze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může být poskytnut výhodný úvěr k potřebám bydlení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Druhy vkladů – spořící účet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výhody běžného účtu a termínovaného vkladu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je úročen vyšší úrokovou sazbou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bez výpovědní lhůty (některé s výpovědní lhůtou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bývá doplňkem běžného účtu (přebytečná hotovost se převede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Pojištění vkladů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ze zákona pojištěny neanonymní vklady u bank a družstevních záložen, u Fondu pojištění vkladů do výše ekvivalentu 100 tisíc EU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vklady u poboček zahraničních bank na našem území pojištěny za stejných podmínek v mateřské zemi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Pojištění vkladů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neanonymní vklad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vklady na jméno, adresu a datum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narození vkladatele u fyzických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osob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vklady na obchodní firmu nebo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název, sídlo a IČO u právnických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osob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Opatření proti praní špinavých peněz</a:t>
            </a:r>
            <a:r>
              <a:rPr b="0" lang="cs-CZ" sz="40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při identifikaci klienta se zpracovávají identifikační údaje fyzických osob i osob jednajících za právnické osob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identifikace se provádí zpravidla při osobní přítomnosti klienta a na základě platného průkazu totožnosti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Neutrální obchody banky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Neutrální –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nepatří do rozvah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obchody, při nichž banka nevystupuje ani ve věřitelském ani v dlužnickém postavení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všechny poplatky a provize, které neovlivní rozvahu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Neutrální obchody banky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poplatky ze směnárenských činností a devizových operací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přijímání a vydávání peněz, výměna peněz poškozených, prodej pamětních mincí apod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příkazy k inkasu a k úhradě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dokumentární akreditiv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Neutrální obchody banky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dokumentární inkaso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bezpečnostní schránky (úschova a správa cennosti za  poplatek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služby poradenské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zprostředkování obchodu  s cennými papír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leasing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ff"/>
                </a:solidFill>
                <a:latin typeface="Tahoma"/>
              </a:rPr>
              <a:t>Úkoly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78080" indent="-47808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Běžný úče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478080" indent="-47808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Termínovaný vklad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478080" indent="-47808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Spořící úče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478080" indent="-47808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Vkladní knížk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478080" indent="-47808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Pojištění vkladů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478080" indent="-47808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Opatření proti praní špinavých peněz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478080" indent="-47808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Neutrální obchody bank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1741320" y="274680"/>
            <a:ext cx="566136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3" name=""/>
          <p:cNvGraphicFramePr/>
          <p:nvPr/>
        </p:nvGraphicFramePr>
        <p:xfrm>
          <a:off x="457200" y="1905120"/>
          <a:ext cx="8229600" cy="44766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inance, daně, finanční trh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ématická oblas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ankovní obchod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ankovnictví a finan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ázev učebního materiálu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asivní a neutrální bankovní obchod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ýstižný popis způsobu využití, případně metodické pokyny: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harakteristika a použití vkladových produktů bank, neutrální obchody bank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114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ěžný účet, vkladní knížka, termínovaný vklad, spořící účet, pojištění vkladů, neutrální obchod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Zdroje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HARTLOVÁ, Věra  a kol. </a:t>
            </a:r>
            <a:r>
              <a:rPr b="0" i="1" lang="cs-CZ" sz="2000" spc="-1" strike="noStrike">
                <a:solidFill>
                  <a:srgbClr val="ffffff"/>
                </a:solidFill>
                <a:latin typeface="Tahoma"/>
              </a:rPr>
              <a:t>Učebnice bankovnictví pro střední školy a  veřejnost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, Praha: Nakladatelství FORTUNA , 2004. 1. vydání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ISBN:  80-7168- 990-9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propagační materiály bank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cc"/>
                </a:solidFill>
                <a:latin typeface="Tahoma"/>
              </a:rPr>
              <a:t>Pasivní a neutrální bankovní obchod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Pasivní bankovní obchody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vklady, v rozvaze na straně pasiv, banka v postavení dlužníka, klient v postavení věřite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banka vyplácí úroky (nákladové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Druhy vkladů – běžný účet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netermínovaný účet, běžné vklady a výběr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pro hotovostní a bezhotovostní platební styk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navazují další produkty – platební karta, elektronické bankovnictví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nabídka odlišná pro občany a firm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Druhy vkladů – běžný účet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nízké úročení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bezhotovostní platební styk pomocí příkazů k úhradě nebo k inkasu (papírová nebo elektronická forma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hotovostní platební styk na přepážce nebo pomocí bankomatu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může být veden i v cizí měně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Druhy vkladů – běžný účet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Založení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2 doklady totožnosti u občanů, doklady o existenci firmy- podnikatelé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počáteční vklad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písemná smlouva (úročení, poplatky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podpisový vzo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výpisy papírové nebo elektronické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Druhy vkladů – vkladní knížka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nejstarší forma spoření u nás, dříve anonymní, dnes na jméno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založení, vedení, vklady, výběry zdarm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jednoduchá obsluh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tradiční podob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přehled o zůstatku na vkladní knížc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Druhy vkladů – vkladní knížka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s výpovědní lhůtou – vyšší úrok, ale je třeba při porušení termínu sankc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bez výpovědní lhůty – výběr kdykoliv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výherní – není úročena, slosování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dětská vkladní knížka – s výpovědní lhůtou, zvýhodněné úroky, do 18. roku věku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1T16:57:10Z</dcterms:created>
  <dc:creator>Marek</dc:creator>
  <dc:description/>
  <dc:language>en-US</dc:language>
  <cp:lastModifiedBy>Igor</cp:lastModifiedBy>
  <dcterms:modified xsi:type="dcterms:W3CDTF">2014-09-13T14:49:51Z</dcterms:modified>
  <cp:revision>25</cp:revision>
  <dc:subject/>
  <dc:title>Bankovní obchody</dc:title>
</cp:coreProperties>
</file>