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88CE-A3E6-4C80-B60F-A0D92019D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2AB0-C3E3-4A7D-828E-82A308DF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3120-1C65-43A9-A48A-8D04C5AD3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B922-45CA-4BB7-B6CA-155BEF66C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79AD-905E-4B48-B88F-E34787B08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23C0-D18F-47B2-BE9F-5E138678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C6F1-D0F2-4E7D-B018-8770E089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E0399-71D1-42EF-8984-A5FB7A15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C39C-F0EB-4E3D-A210-D3A6FFD8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10CB-6802-4ED6-997F-B3D39768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8CA9-045E-48B0-899F-EEFBE897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6C9C-C114-4944-B6F9-6DDC7452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E950-7889-4B80-B10C-6C467747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88F5-1447-4EC1-9113-A17452F0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9F63-43B5-4D45-8378-47CEAD98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A1BF-1EF3-4DFE-8423-B18FC9DF6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2349-32EE-465A-8A29-BAB84E9B5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9EE3-AAB0-44A3-9F7A-F419C594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3B9F-99F3-457F-86F8-CAE57104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DB5A-9728-417C-9682-24E63991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2969-8CCA-487F-879B-E2DF66CD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671B-CCBA-4B6F-BC14-58255A7B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BA00-08E4-497C-841F-B1B97378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2E45-8097-4CE5-B394-D0BC9C8A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4603-AE03-4F58-BA78-074407155711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A9C9-1A90-4C7A-AF2E-B9912FCE2E43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1908000" y="404640"/>
            <a:ext cx="5295960" cy="1295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900000" y="1916280"/>
            <a:ext cx="73152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39640" y="3573360"/>
          <a:ext cx="7561440" cy="43200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6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39640" y="4292640"/>
          <a:ext cx="7561440" cy="15904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7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6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lenění bank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velikosti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alé – do 5 poboče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třední – do 50 poboče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elké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lenění bank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teritoria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hraniční – v zahraničí pobočky, v mateřské zemi centrál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uzemské – centrála i pobočky v tuzems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egionál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ákladní funkce 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epozitní (vklad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věrová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unkce platebního sty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innosti 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kládání a vedení účtů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věr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ezhotovostní platební styk domácí i zahranič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atební kar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še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elektronické bankovnictv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innosti 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20840" y="164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měnárenská činno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evizové opera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prostředkování obchodů s cennými papí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ezpečnostní schrá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radenské služb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skytování dokumentárního akreditiv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innosti 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skytování dokumentárního inkas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skytování bankovních  záru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tavební spoře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enzijní připojiště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leas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jištění</a:t>
            </a:r>
            <a:br>
              <a:rPr sz="3600"/>
            </a:b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ásady bankovních operací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ásada bankovní likvidity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schopnost vrátit  peníz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1. hotovostní peníze a vklady na účtec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2. vklady u jiných ban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3. cenné papí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4. úvěry od jiných ban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ásady bankovních operací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ásada bankovní ziskovosti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výnosy vyšší než náklad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ýnosy – úroky z úvěrů, poplatky, proviz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áklady – úroky z vkladů, mzdové náklady, náklady na energie, vybavení, nájem, odpisy, provoz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ásady bankovních operací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ásada bankovní bezpečnosti vnitřní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předčíslování dokladů, klíčový režim, dvojí podpis, kamery, bezpečnostní služb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66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ásada bankovní bezpečnosti vnější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audit, kontrola ČNB, kontrola finančního úřadu, zpráva o hospodaře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9212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Rizika bankovního podnikán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věrové - riziko nesplacení úvěrů ze strany klient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rokové  - riziko vyplývající ze změn úrokových sazeb na finančních trzíc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ěnové  - riziko ztráty ze změn kurzů mě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611280" y="1557360"/>
          <a:ext cx="8229600" cy="4956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í obcho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y a jejich postavení v ekonom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znam banky v ekonomice státu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Způsob fungování bank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a, základní funkce, bankovní soustavy, členění, zásady, rizika, hodnocení, marketing, marketingový mi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Rizika bankovního podnikán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akciové riziko - nejistota vývoje cen akcií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iziko likvidity - riziko neschopnosti dostát aktuálním splatným závazkům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iziko ztrát způsobených lidským faktor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Rizika bankovního podnikán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iziko selhání informačních systém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rávní riziko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iziko špatného obchodního záměru, chybného marketingového rozhodnut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iziko ztráty dobrého jmén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iziko tržní -  ze změny cen na trhu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Hodnocení 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služe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dobrého jmén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výše poplatk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dostupnos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kvality personál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Hodnocení 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klasifikace pohledávek ( 5 skupin  pohledávek podle splácení – standardní, sledované, nestandardní, pochybné, ztrátové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úvěrové angažovanosti – limity poskytování úvěrů jednotlivcům, skupinám a ostatním banká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Hodnocení 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kapitálové přiměřenosti – poměr mezi kapitálem a rizikovým aktivů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likvidity banky (solventnosti) –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atební schopnost, stanovena ČNB, povinné minimální rezerv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Marketing v bankovnictv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arketingová strategie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jdůležitější je přání klient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bízený produkt musí vycházet ze znalostí o trhu a klientec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a by měla předvídat měnící se požadavky na trh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Marketingový mix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pora prodej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eny produkt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istribuční míst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ovní produk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liv politického, sociálního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ekonomického prostředí a konkurenc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koly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o jsou to banky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ákladní údaje o bankách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unkce bank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Činnosti bank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Etický kodex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ásady bankovního podnikání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izika bankovního podnikání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koly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8.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Hodnocení bank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9.  Marketing v bankovnictví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10. Marketingový mix v bankovnictví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11. Bankovní soustav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droj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ARTLOVÁ, Věra  a kol.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Učebnice bankovnictví pro střední školy a  veřejnos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, Praha: Nakladatelství FORTUNA , 2004. 1. vydání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SBN:  80-7168- 990-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Tahoma"/>
              </a:rPr>
              <a:t>Banky a jejich postavení v ekonomice</a:t>
            </a:r>
            <a:r>
              <a:rPr b="0" lang="cs-CZ" sz="4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inanční instituce, která přijímá vklady, poskytuje úvěry a zprostředkovává platební sty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rávnická osob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usí vlastnit licenci k provozování ba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Bankovní soustav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jednoúrovňová – jedna nebo několik málo bank, z nichž jedna plní i úlohu banky centrální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vouúrovňová 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1. stupeň: centrální ban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2. stupeň: obchodní (komerční) banky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ákladní údaje o obchodních bankách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činnost bank podle Zákona o bankách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činnost ovlivňována ČNB                                     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 udělení licence rozhoduje ČNB v dohodě s MFČ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ákladní údaje o obchodních bankách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a je akciovou společnost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K banky musí být minimálně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500 mil. Kč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ávady v činnosti banky důvodem pro udělení pokuty, nucenou správu, odebrání licenc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Etický kodex ČB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bsah kodexu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becné zásady chování ban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ztah pracovníka k bance, v níž je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městná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ztahy banky a jejich zaměstnanců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e kliente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ztahy bank navzáj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lenění bank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produktů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univerzální – všechny bankovní produk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ecializované - prodej pouze určitých bankovních produktů (např. stavební spořitelny, hypoteční banky)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1:10:29Z</dcterms:created>
  <dc:creator>kabek</dc:creator>
  <dc:description/>
  <dc:language>en-US</dc:language>
  <cp:lastModifiedBy>Igor</cp:lastModifiedBy>
  <dcterms:modified xsi:type="dcterms:W3CDTF">2014-09-13T14:48:19Z</dcterms:modified>
  <cp:revision>25</cp:revision>
  <dc:subject/>
  <dc:title>Banky a jejich postavení v ekonomice</dc:title>
</cp:coreProperties>
</file>