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233-E3FB-413E-9F59-AB1619F9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929-6D5A-475D-BA00-76189E8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E51-5C93-401D-9797-8649B664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0D6-1A60-4C3D-8E4B-6823DC17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B0C-03C7-4151-B0AC-0AFA2315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F2B4-4354-4D0E-A74E-88739D44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B860-EF9F-495D-AD7F-541D7415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C5E4-595A-40D4-B152-5BBA755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E9DF-E0DD-43C7-BBAF-F0A9EF23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27B0-2842-456E-B4C3-ACEF1D36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5621-CEB4-4AC3-9030-6463EAA1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FF1-F43E-489F-922F-79438CF1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97A7-987A-43AE-8004-4BC832F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A392-8C3E-420A-9CCE-0D920C1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C87C-2CF2-41EB-BD16-AEF34C0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7716-27AC-492A-83F1-D73CAB2B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4BC3-A335-4191-99E9-DEA9B8B0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2C0-517F-44A6-86AE-98686BA6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AC6-AEA9-4479-86BF-88BC93B8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3FF-6BD7-4EEC-A5F6-44642C06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2CC-7D08-4F53-9E75-1DAE0D14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6F1-50E7-48E1-98FE-CE1CF0F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12B-C1FD-4B82-B25A-75AB6872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1FD-D7E4-4C63-833E-F89B55F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47B-A489-4C80-A498-9C10D0E004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E280-2904-430D-8EED-566EEC7B9A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9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ak se připravit na poho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jistěte si co nejvíce informací o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usíte se připravit na setkání s personalistou, proto si zjistěte co nejvíce informací o tom, co byste měli ve firmě dělat, jaký je hlavní obor činnosti firmy, ale i to, jaká je její konkurence a firemní kultura. Přehled o situaci potvrdí vaši motivaci a zá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ezměte si s sebou potřebné dokum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ktuální životopis, ukázky prací, ale i kontakty na případné reference od bývalého zaměstnavatele jsou nezbytné minimum, které byste při pohovoru měli mít s sebo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ipravte se na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myslete si, jaké jsou vaše pracovní priority a jaký očekáváte plat. Pokud nevíte, o kolik si máte říct, využijte internet – najděte si srovnání plat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míte odpovědět, proč odcházíte ze stávajícího zaměstnání nebo proč zrovna vy jste nejvhodnější kandidát na pozici, o niž se uchází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rsonalista se vás také může ptát na tzv. diskriminační otázky (např. rodinné zázemí, dě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uďte aktivní a sami se zajímej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tejte se na chod společnosti a detaily týkající se vaší pozice. Zajímejte se také o to, kdo bude váš nadřízený a s kým budete spolupracovat v rámci firmy i mimo ní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 kolik si říct na pohovor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.   Zmapujte si, jaké jsou vaše životní nákl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očítejte si, kolik si musíte minimálně vydělat, abyste pokryli své náklady a životní minimum. To je základ pro další určení požadované mz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.   Jakou výplatu jste v minulém zaměstnání dostáv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emusí vždy vypovídat o tom, kolik si vyděláte ve svém příštím zaměstnání. V jiném regionu a jiné firmě si můžete vydělat třeba i více. 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.   Zmapujte si situaci na trhu práce ve svém oboru a v regionu kde chcete pracovat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lik je nabídek práce a tedy jaká je aktuální poptávka firem zjistíte na internetu, např. na stránkách Prace.cz. I od toho se může odvíjet výše plat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.   Platy ve svém oboru a lokalitě si můžete zjistit na internetu, na stránkách Prace. cz v sekci Porovnání platů.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ww.prace.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8360" y="1495440"/>
          <a:ext cx="8229600" cy="513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 k seznámení studentů s personálním řízením, cíli a organizací personální práce, s náborem pracov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dské zdroje, personální řízení, cíl personální práce, organizace personální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ersonalistik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nik potřebuje k zajištění své činnosti výrobní faktory – půdu, kapitál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rác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ké charakteristiky práce budou pro firmu nejdůležitějš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Lidské zdroj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souhrn pracovníků, jejich kvalifikační a věková struktura, úroveň pracovní ochoty (motivace, kreativita, flexibilita a adaptabili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ersonální řízen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řízení lidských zdrojů s vnějšími vazbami na trh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Cíl personální prá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dostatečně výkonného person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sociálních cílů zaměstnanců (spokojenost zaměstnanců s prací, s výší odměny, s možností profesionálního rozvoje,… To vede ke spokojenosti pracovníků a k jejich loajalitě k podnik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yto cíle jsou protikladné – vysoké mzdy uspokojí zaměstnance, ale vedou ke zvýšení nákladů firmy a tím ke snížení její konkurenceschopnosti. Naopak snížení mzdových nákladů vede ke snížení spokojenosti zaměstnanců a k poklesu jejich výko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Je proto třeba vytvořit vyváženost mezi oběma cí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Organizace personální prá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lánování pracovník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lánování potřeby pracovníků, jejich počtu, profesní a kvalifikační struktury a jejich rozmístě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získávání a výběr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určení metod a způsobů získávání pracovníků z vnitřních i vnějších zdrojů podn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rozmisť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ařazování do pracovních funkcí, přesuny pracovníků uvnitř podniku, povyšování, ukončování pracovního poměru, penzion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předpokladů pracovníků k výkonu činností a plánování osobního rozvoje pracovníků, hodnocení pracovního výkonu a chování pro potřeby systému 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áce a popis pracovních mís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nároků jednotlivých pracovních míst a funkcí pro podnikové katalogy prací a tarifní systé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vorba nástrojů pracovní motivace a podnikových mzdových systémů a systému účasti na hospodářském výsled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odnikové systémy vzdělávání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identifikace potřeb vzdělávání, plánování, příprava, organizace a vyhodnocování účinnosti vzdělávání, programy rekvalifik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kolektivní vyjednávání a pracovněprávní agendy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jednání zaměstnavatelů a odborů o uzavření kolektivní smlouvy, příprava jednání, dohled nad dodržováním pracovněprávních předpisů a závazků, spolupráce s úřady prá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sociální péče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organizace sociálních služeb pro zaměstnance, bezpečnost a ochrana zdraví pří práci, zdravotní péče, kontrola pracovních podmínek, organizace aktivit volného čas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ersonální informační systém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 potřeby podniku i mimopodnikových orgán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Nábor pracovník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očívá v poznávání a získávání nových nebo stávajících pracovníků pro běžná a budoucí pracovní mí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Nábor se provád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střednictvím osobních kontaktů, inzercí, návštěvami škol, učilišť a univerzit pracovníky osobního oddělení, z Úřadu prác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ces výběr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hodnocení zaslaných životopis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ní pohovor, talentové zkoušky, inteligenční testy, testy osobnosti, reference od dřívějších zaměstnavatelů, škol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chazeč o zaměstnání by měl přijít na pohovor připraven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Jak byste se co nejlépe připravili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Kde byste získali informace pro vaši přípravu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5:44:27Z</dcterms:created>
  <dc:creator>klapuchova</dc:creator>
  <dc:description/>
  <dc:language>en-US</dc:language>
  <cp:lastModifiedBy>Igor</cp:lastModifiedBy>
  <dcterms:modified xsi:type="dcterms:W3CDTF">2014-09-13T15:06:05Z</dcterms:modified>
  <cp:revision>12</cp:revision>
  <dc:subject/>
  <dc:title>Personalistika</dc:title>
</cp:coreProperties>
</file>