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FCA-FC23-4B7C-B86E-7EFDA65D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73E-4C1B-45BC-9B25-A5D7A095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93D-840A-4D3B-84AD-BC2081FD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896-C3C8-4840-9696-D6120883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F2BB-CF35-46A0-A8A6-4CF20280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3222-302D-41C6-B6A6-1C16E5D6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2E7F-0F5D-4C0D-814E-3022B0EC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98C1-9D2A-4206-91D0-6D68E568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0A32-3764-423D-9CBE-D18C7EAD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0A55-3877-4E98-83FC-7C59ACE7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6181-F15B-4209-BDF3-2EFFAFAF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0F58-E1EA-427E-89A7-43EBEC30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CEA1-75A3-49E5-8F20-BA220B80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33E4-043F-4267-85E8-E283EDA8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176D-C970-43A0-A92F-8F51E46E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442D-4AE4-46EF-9306-E5B428B7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6B75-B5FC-4D48-A39A-FAD183A5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7BC-AB74-45A7-B903-B774C542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A37-18BC-4356-A1EF-964779B1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558-01AC-4748-8780-0C7F7689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DBE-2C0E-49B9-BAAE-343B0535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5D6-ECAD-4AD6-97EF-68021406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197-E8EE-40C0-B638-88354E3C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AFD-96D1-4AFD-B302-8E3A2EC5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2C08-0140-4B3A-ABF6-B48F93BCB96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26BA-40C9-4018-9243-C44EE99501D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q-tester.c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 9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Inov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tvůrčí, má mnoho nápadů, umí řešit náročné úkoly, je flexibilní a dovede vymyslet řešení odlišné od konvenčních zvyklostí a tím posunout problém výrazně dopřed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zabývá se méně podstatnými věcmi, je plně zaujat vymýšlením vlastních nápadů a když je čas na realizaci věci, stále předkládá nové nápady. Nekomunikuje s ostatními příliš efektivn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yhledávač zdro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plný energie a zapálený pro věc, hledá nové kontakty, objevuje další možnosti uplatně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očáteční nadšení z něj může rychle vyprchat, někdy je nebezpečně optimistick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560" y="188640"/>
            <a:ext cx="80074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Realiz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spolehlivost, disciplína, dokáže měnit myšlenky na skutky, z abstraktních návrhů dělá konkrétní produkt, uvažuje prakticky a racionálně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ní flexibilní, těžko reaguje na změnu podmíne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Analytik, vyhodnocova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dovede volit optimální strategii, hodnotí všechny možnosti, jeho úvahy jsou přesné, od ostatních požaduje kvalitní prác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dovede motivovat ostatní členy týmu, může být příliš kritický až destruktiv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Týmový pracov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sociálně zdatný, dokáže mírnit a hasit konflikty, stará se o ostatní v týmu, vytváří příjemnou atmosfér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ní schopen dělat důležitá a náročná rozhodnut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60280"/>
            <a:ext cx="80074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Dotahovač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hlídá si termíny a limity, posouvá problém do konce, když už ostatní přestávají pracovat, je spolehlivý, pečlivý a svědomitý. Dbá na to, aby dílo bylo bez chyb a hotové podle zadání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často má zbytečné obavy, neumí spolupracovat s druhými /zejména protože, by mu narušili pořádek v jeho prác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 loajální a má rád svůj obor, jeho znalosti jsou velmi cenné, odhodlaně pracu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zabývá se pouze úzkou oblastí, ve které se vyzná, sleduje to co jej osobně zajímá, nedokáže skupině dát dynamiku a energi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59920"/>
            <a:ext cx="8007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Koordiná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bevědomí, pomáhá lidem v týmu, aby spolupracovali, dává je dohromady. Ujasňuje cíle, dodává energi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ho přínos je především mezilidský, profesně si práci zjednodušuje, může manipulovat druhými lidm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Usměrňova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 to velmi energický člen týmu, který tvoří hnací motor. Je odvážný a odhodlaný řešit i náročné úkoly a nečekané obtíž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rovokuje a někdy uráží ostatní, nepřispívá k dobrému klimatu ve skupině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k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0" lang="cs-CZ" sz="3200" spc="-1" strike="noStrike" u="sng">
                <a:solidFill>
                  <a:srgbClr val="3dccff"/>
                </a:solidFill>
                <a:uFillTx/>
                <a:latin typeface="Arial"/>
                <a:hlinkClick r:id="rId1"/>
              </a:rPr>
              <a:t>www.iq-tester.cz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i můžete zkusit testy on-line: test vrozené inteligence, test numerické inteligence, testy osobnosti a pracovní psychotes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: www.iq-tester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5440" y="244440"/>
            <a:ext cx="5769000" cy="143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68360" y="1725480"/>
          <a:ext cx="8229600" cy="5135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i se seznamují s různými druhy testů, se kterými se mohou setkat u přijímacích pohovorů do zaměstn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Q testy, psychotest týmových rolí, pracovní psychotest, testy osob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28600" y="2936520"/>
            <a:ext cx="7715520" cy="14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Testy u přijímacích pohovor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IQ testy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8007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Složky intelig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teligence je schopnost řešit úkoly, která se dělí na jednotlivé složky –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atematická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storová ori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D ori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erbální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torická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aměť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Správný IQ test by měl testovat a měřit všechny tyto složky intelig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Inteligence je vrozená schop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tzn., že nelze ovlivnit její výši, ale můžeme ji pomocí modelových situací nebo zkušeností dále rozvíj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inci obvykle nevynikají pouze v jediné oblasti inteligence, ale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osahují lepších výsledků hned ve více oblastech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Nicméně je inteligence často zaměřená na určitou oblast, ve které vyniká více než v jiné. Překladatelé a básníci budou vynikat ve verbální inteligenci, architekti zas v oblasti prostorové představivosti. Každý jedinec má při vyplňování testu pocit, že na některé otázky se mu odpovídá snadněji než na jin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333360"/>
            <a:ext cx="80074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á inteligence se projevuje napříkla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chopnostmi logického myšl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a logických analýz situací a problémů nebo správného používání matematických operací. Úkoly v IQ testech mají často podobu číselné řady, kde některá čísla chyb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ou inteligenci mohou měřit i úkoly s doplňováním písmen, pokud mají matematický princip.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apř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oplňte následující písmeno: O Q S T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storov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rostorová inteligen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yjadřuje, jak člověk vnímá svět kolem sebe. Tuto schopnost mívaj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soce rozvinutou například architekti, nebo sochař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Úlohy na tento typ inteligence zahrnují otáčení tří-rozměrných objekt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izuální „2D“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izuální inteligence jde 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ozpoznání optických rozdíl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podobností na předměte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99640" y="188640"/>
            <a:ext cx="800748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rbální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erbální inteligenc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e projevuje jazykovým citem k mateřskému i cizímu jazyku, používáním vhodných slov, chápáním významu slov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uměním rozlišit rozdíly ve významech slov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Často tímto druhem inteligence oplývají překladatelé, právníci či básníc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nkrétní příklady na zjištění tohoto druhu inteligence mají podobu například vyřazování slov, která nepatří mezi ostatní nebo doplnění částí slov, aby výsledná slova dávala smys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torick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ezi složky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otorické inteligenc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ůžeme například zařadit koordinaci pohybů, potřebu být v pohybu nebo schopnost práce a manipulace s různými předměty. Někdy se též nazývá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ligence praktick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amě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pamět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akožto další složka inteligence se testuje spíše výjimečn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Testy osobnosti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980640"/>
            <a:ext cx="80074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pravidla se jedná o sadu otázek na níž klient odpovídá volně nebo volí z nabízených možností. Některé takové testy jsou také dostupné on-line, i když obvykle s nimi ještě zachází psychologov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o měří testy osob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y osob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ěří především temperament. Ten představuje soubor relativně stálých a vrozených vlastností. Jeho změna je možná jen do velmi omezené míry. Typicky temperamentovými komponenty jsou napříkla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xtrovert – introvert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bo všeobecně známá typologie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flegmatik-cholerik-sangvinik-melancholi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Člověk, který často vybuchuje a je prudší povahy, ale rychle se uklidní takový bude v podstatě celý život, stejně jako se flegmatický kliďas pravděpodobně nezačne v pozdějším věku více stresovat.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y osob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umožňují jemnější rozlišení těchto vlastností. Tím se testy osobnosti liší o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Q testů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Pracovní psychotesty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67920"/>
            <a:ext cx="8007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sty používané v psychologii práce – pracovní psychotesty zjišťují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hodnost osoby pro danou pracovní poz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chopnosti a profesní orientaci člověka, jeho silné a slabé stránky ve vztahu k povol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kupinovou roli konkrétního jedi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alší specifické vlastnosti lidí podle požadavků zaměstnavatele a pracovního mí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jčastěji se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sychotest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 pracovní oblasti používají k výběru vhodných zaměstnanců, při rozvoji zaměstnanců – pomůžou jim ukázat jejich silné a slabé stránky a také k nasměrování jedince na jakou práci se hodí. 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sychotest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zpravidla zadává personalista nebo pracovní psycholog, některé firmy používají psychotesty on-line, které jsou dostupné na internet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Psychotest týmových rolí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836640"/>
            <a:ext cx="80074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ždý člen týmu má jistou pozic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r. Meredith Belbin popsal devět týmových rolí. Tým nemusí mít právě devět členů. Jeden člověk může mít dvě i více rolí (zpravidla máme role dvě, jednu dominantní a jednu více skrytou). Každá role je v konkrétním týmu zastoupena různou měrou. Záleží také na tom, co právě tým dělá. Společenství je schopné pracovat, i když nějaké role chybí. Efektivita takového týmu je však nižší. Belbin popisuje následující skupinové rol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Inov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yhledávač zdroj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Realiz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Analytik, vyhodnoc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Týmový pracovní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Dotah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oordin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směrň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Belbin zdůrazňuje, že naše role nejsou neměnné. Pokud změníme kolektiv lidí, můžeme změnit i svojí roli/svoje role. Autor sestavil také vlastní test, kde se může každý otestovat a zjistit, kam v týmu patří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2:48:23Z</dcterms:created>
  <dc:creator>Administrator</dc:creator>
  <dc:description/>
  <dc:language>en-US</dc:language>
  <cp:lastModifiedBy>Igor</cp:lastModifiedBy>
  <dcterms:modified xsi:type="dcterms:W3CDTF">2014-09-13T15:26:16Z</dcterms:modified>
  <cp:revision>5</cp:revision>
  <dc:subject/>
  <dc:title>Snímek 1</dc:title>
</cp:coreProperties>
</file>