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3423-D04C-44AD-AF97-55B79908B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5015-2054-4A63-8D10-201F2BD0B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4827-3E34-4CE9-982B-53A0FFA08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F37C-5E3D-420B-9796-8D3AB0C43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C986-14C2-4EC9-A62D-25C960B26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D2C2-3D7B-4519-A4B6-48844B6A2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726B-AAE3-417B-97DD-464B15B46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862F-BC81-403F-B5B9-FC80AF899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0968-1504-4EE3-8CE6-0276C6F70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6C05-E96C-4B45-9D5B-000CDF8E9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7BB7-AA6B-4C92-BE18-C1F151784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FF05-2F58-4996-B732-64669942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59E20-F892-4540-A04C-D21B5678A7A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44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_32_INOVACE_2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. Bohuslava Klapuchov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 10. 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aměstnanec má hrubou mzdu 21 500,- Kč. Vyživuje 3 děti. Vypočítejte čistou mzdu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HM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21 500,-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   21 500*0,065 =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1 398,-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ZP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   21 500*0,045 =   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968,-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superHM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   21 500*1,34 =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28 900,-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(zaokrouhleno na 100 Kč nahoru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daň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   28 900*0,15 =  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4 335,-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slevy na dani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         - 2 070,-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- (3*1117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daňový bonus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1 086,-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ČM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21 500 – 1 398 – 968 + 1 086 =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20 220,-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Úko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městnanec má měsíční mzdu 25 000,- a vyživuje dvě děti. Vypočítejte čistou mz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53964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ŠVARCOVÁ, J.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Ekonomie – stručný přehled,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dání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 rok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012/2013 Zlín : Nakladatelství a vydavatelství Ing. Jena Švarcová, Ph. D., CEED, 2012. ISBN 987-80-87301-16-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"/>
          <p:cNvGraphicFramePr/>
          <p:nvPr/>
        </p:nvGraphicFramePr>
        <p:xfrm>
          <a:off x="468360" y="1495440"/>
          <a:ext cx="8229600" cy="54403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nikání a podnikové čin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ální čin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konom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enti se seznamují s postupem výpočtu mezd, počítají základní typy příklad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ubá mzda, sociální pojištění, zdravotní pojištění, superhrubá mzda, daň z příjmu, daňový bonus, čistá mzda, ostatní srážky, mzda k výplat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ruhy mez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99ff"/>
                </a:solidFill>
                <a:latin typeface="Arial"/>
              </a:rPr>
              <a:t>HM = základní mzda + příplatky + prémie + odměny + osobní hodnocení + náhra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Základní mz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časová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hodinová – podle počtu odpracovaných hodin v měsíc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měsíč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stálá mz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úkolová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podle odpracovaného množstv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proviz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podíl v % z realizovaných obchodů jednoho obchodní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68360" y="188640"/>
            <a:ext cx="8229600" cy="63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říplat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zda za práci přesč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hrady mzdy za odpracované svát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platky za práci ve ztížených podmínkách a na zdraví škodlivých pracoviští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platky za práci v no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rémi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v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Odměny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- pevná část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Osobní hodnocen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měsíční část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áhrady mzd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volená, neodpracované svátky připadající na PO – P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kážky z důvodu obecného záj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šetření u lékař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školení, studium při zaměstn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lastní svatba, svatba dětí, rodič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hř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mr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4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4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4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4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4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4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4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4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4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4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4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4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Které zákonné srážky ze mzdy znát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Existují i jiné než zákonné srážky? Uveďte příklad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ociální a zdravotní pojištění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9152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Ze mzdy zaměstnance se sráží pojistné, a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4,5% z hrubé mzdy na všeobecné zdravotní pojiště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6,5% z hrubé mzdy na sociální pojiště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Pojištění hrazené firmo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9% z hrubé mzdy na zdravotní pojiště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5% z hrubé mzdy na sociální pojiště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Daň z příjmů ze závislé činnos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4247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 způsob zdanění mzdy daní z příjmů ze závislé činnosti je rozhodné, zda má zaměstnanec podepsáno prohlášení k dan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Má-li zaměstnanec podepsáno prohlášení k dan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pouze u 1 zaměstnavatele), je daň z příjmů srážena ve formě zálohy na da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Nemá-li zaměstnanec podepsáno prohlášení k dan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potom je pro způsob zdanění rozhodující výše mzd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rubá mzda do 5 000 Kč – srážková da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rubá mzda nad 5 000 Kč – záloha na da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zdíl mezi zálohou na daň z příjmů a srážkovou daní je mimo jiné v tom, že záloha na daň podléhá ročnímu vyúčtování, ale srážková daň je konečná a nelze ji již zúčtov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ýpočet mez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ociální pojiště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= hrubá mzda * 0,06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Zdravotní pojiště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= hrubá mzda * 0,0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uperhrubá mzda = hrubá mzda * 1,3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aň z příjmu = superhrubá mzda * 0,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Daň z příjmu po slevách na dani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= daň z příjmu – slevy na da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Čistá mzd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= hrubá mzda – sociální pojištění – zdravotní pojištění – daň z příjmu po slevá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Mzda k výplat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= čistá mzda – ostatní srážky + nemocensk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539640" y="259920"/>
            <a:ext cx="835344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říkl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městnanec má hrubou mzdu 20 000,- Kč měsíčně. Vyživuje jedno dítě. Vypočítejte čistou mzd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H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20 000,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20 000*0,065 =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1 300,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ZP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20 000*0,045 =   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900,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uperH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20 000*1,34 =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26 800,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daň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26 800*0,15 =  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4 020,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levy na dani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-2 070,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1 117,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daň po slevách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833,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Č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20 000 – 1 300 – 900 –833 =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16 967,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9T10:06:20Z</dcterms:created>
  <dc:creator>Ing. David Holzbauer</dc:creator>
  <dc:description/>
  <dc:language>en-US</dc:language>
  <cp:lastModifiedBy>Igor</cp:lastModifiedBy>
  <dcterms:modified xsi:type="dcterms:W3CDTF">2014-09-13T15:25:22Z</dcterms:modified>
  <cp:revision>11</cp:revision>
  <dc:subject/>
  <dc:title>Snímek 1</dc:title>
</cp:coreProperties>
</file>