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6B0-0A85-4C58-A723-BF352288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9ED3-69AD-4C48-8991-CC921388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16E-049A-419C-8AB0-DA60B84F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BF95-DAA3-45DA-9E88-42EDAAD8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B48-4468-43F1-AA36-8A80D8DC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A42-EB57-480D-B35A-F38361AB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40E-7444-424F-9072-BF08BF7C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8C9-6DF5-439E-B338-BCAD7242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5F73-F07A-40A7-8CFC-D6D79234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370-1E30-4F46-833F-8F18B005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3E8-3181-4717-8553-610DE2C0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6E4-6C99-4665-B962-48A7699A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F9FB-EB4B-48A8-8797-E3146B2BCC4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10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68360" y="1495440"/>
          <a:ext cx="8229600" cy="5129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ální 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onom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se seznamují se systémem odměňování, s faktory ovlivňujícími výši mezd, s formami mezd, příplatky ke mzdám a navazujícím složkám mez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měňování,nabídka a poptávka po práci, mzdové tarify, formy mezd, navazující složky mzdy, příplat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měň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333399"/>
                </a:solidFill>
                <a:latin typeface="Arial"/>
              </a:rPr>
              <a:t>Jaké znáte formy odměňová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lavní form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dměňování pracovníků = pení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 i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alší form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aměstnanecké výhody, pracovní prostředí, morální ohodnocení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stém odměňování by měl být takový, aby motivoval pracovníky k lepší práci a zároveň aby byl pracovníky považován za spravedliv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Faktory ovlivňující výši odměny za prá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Arial"/>
              </a:rPr>
              <a:t>Jaké faktory podle vás ovlivňují nejvíce výši odměny za prá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kolik by měl pracovník dostat za svou práci ve vztahu k ostatním pracovníkům fir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ráce je posuzována z hlediska zkušeností, iniciativy, kvalifikace, znalostí, stupně zodpovědnosti a rozsahu kompet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cílem je stanovit takový systém odměňování, který zajišťuje správnou diferenciaci jednotlivých prací pomocí vyjmenovaných hledis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truktura peněžní odměny často odpovídá hierarchii funkcí v podniku, existují ale i výjimky – např. pracovníci v odbytu, kteří pracují za proviz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diferenciace mezd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– aby firma získala a udržela si zaměstnance, musí jejich mzdy konkurovat mzdám v jiných firmách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laty a mzdy jsou určovány nabídkou a poptávkou po prá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livy působící na nabídku prá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ografické vli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ečenské no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dalšího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další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gulace vlád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livy působící na poptávku po prá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 národní ekonom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 mezinárodní ekonom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ádní regu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ferenciace odmě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Jakými způsoby se na trhu práce řeší nesoulad mezi nabídkou  a poptávk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šší mzdy a platy mohou způsobit přesun pracovníků z míst, kde jsou mzdy a platy nižší do míst, kde jsou vyšší. Existují ale překážky v těchto  přesunech, např. dobré vztahy na pracovišti, atraktivní pracovní podmínky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měna za práci – může být stanovena jak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ová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ová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síční pl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569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še mzdy je zpravidla odstupňováno do tříd (kvalifikačních stupňů) práce, od nichž se pak odvozují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mzdové tarif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= peněžní vyjádření příslušné kvalifikační třídy za určitou časovou jednotku vynaložené prá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romě mzdových tarifů existují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amostatné navazující složky mzd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ve kterých se zohledňuje výkonnost pracovníků odměny, výkonnostní příplatky, prémie, účasti na výsledku hospodaření,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ákladní formy odměňov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zda úkolová – závisí na odvedeném výk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zda časová – závisí na odpracovaném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síční plat – např. u státních zaměstnan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avazující složky mez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émie, odměny, výkonnostní složky mezd, podíly na výsledku hospodaření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platky ke mzdovým tarifů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cenění za ztížené pracovní podmínky, práci v noci, ve dnech pracovního klidu,… Jsou sjednány v kolektivní smlouvě nebo jsou dány zákon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Co je to kolektivní smlou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lektivní smlouv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sjednávají se zde základní podmínky odměňování práce, další podmínky práce a poskytování sociálních výhod zaměstnancům. Vychází se při tom z výsledků tzv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ripartitního jedn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ástupci zaměstnavatelů, odborů a stát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07:34:44Z</dcterms:created>
  <dc:creator>Guest</dc:creator>
  <dc:description/>
  <dc:language>en-US</dc:language>
  <cp:lastModifiedBy>Igor</cp:lastModifiedBy>
  <dcterms:modified xsi:type="dcterms:W3CDTF">2014-09-13T15:04:58Z</dcterms:modified>
  <cp:revision>10</cp:revision>
  <dc:subject/>
  <dc:title>Snímek 1</dc:title>
</cp:coreProperties>
</file>