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5CF7-E4F2-42F4-B642-44969E8708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F3B8-8FBF-4CDE-9523-5A912D49C25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9EBD-919F-42BF-AE4C-ECC935AE6B6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5F72-E4F4-4CD8-8CFF-1FC66109279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512A-9CAE-4FB0-97F7-C2747889769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A1EB-13F5-4A56-8A39-F2A55D1FA4D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BD8B-4A7F-4E1B-996C-0423D30DDE4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6B62-F70F-446F-B65D-764A0D2EA90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641-1D7E-4798-B927-E1C6544D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46B-38EE-4532-9BCA-920B0A2A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1D6-8088-48AC-A6F0-46F52DD8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838-B5E0-4920-BCFD-54874390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9CC9-33C1-4ADC-A95C-80A5FF6D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E9EF-8AAD-4299-A437-7FDFC986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91D8-3A2D-4C8A-98A9-41338A99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1F32-DF17-4277-98A2-2247D363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A734-58ED-45DF-9EC5-50599C8E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F1A4-5A5E-4191-A388-D83188DA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E277-5BDE-4733-B0DE-6BA729C2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33F-F5C5-4909-AA57-E3ABA1A9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9F84-2C82-4B5C-AE22-102B20A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89BC-3B4B-40F5-A108-64FCB394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B425-2248-4F64-8384-9278F0AC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16D8-E253-471D-9C04-1FF11FBF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C254-0DE2-4295-AF4C-6982ABDE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DDF4-6732-4682-A8C4-7F03DFC1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8A3F-1E67-4EC9-8DD3-E520BB2C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419D-BCDC-46EC-86E4-AF07FFA8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3FAA-E6F0-41A2-A6BB-CB8C448B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C3C6-0D01-489A-8493-05EC5502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167-3244-445D-8208-0A66BEB6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DD63-D3BC-49DB-ADB1-AEEBEF86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F8D9-2B94-4035-9540-0ECE7C5B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7959-31A1-404F-81B4-C62EACF4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89AA-1C0D-420C-AA9E-9EFED651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A865-11CC-4732-A74F-B96F2292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61D4-2054-4208-ADE6-46403CDB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A236-6ADE-45A2-BABA-83E829B5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A28A-ABC9-409D-AE95-FDEE7A25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EE316-F5B4-4CFD-9CF7-35E9CF2F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3E0F-E190-4E30-AF6D-9D4A698F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AC7-920A-4BC9-9D64-9146DD77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92238-A6F6-4781-B649-2CC8AFD1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44C4-C875-4C01-9EF0-0288490B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0DA5D-64B3-4D58-808A-B283A6C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450C3-D619-4367-861D-0E6337E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D336A-2341-451A-9560-EA96A00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4B56-3E27-4ABE-80F6-DB105C82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5D11-C716-4A62-968D-6EC5FE52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A98D-6EEA-4648-A685-32EE8BBA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8FE3-A57C-448E-8488-086B7F4D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B7A6-E4A9-4B68-959F-587DC73A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AB7-C9C8-420E-B3FA-C148C5F5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DA226-A358-46DC-A2EB-F948065B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DF68-22CE-43F6-AA96-ECF797A5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10892-FA98-4D3B-8849-0731DEC1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F7B39-75B8-4AE7-BC36-D9ECB549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CBDC-C840-490E-8A5D-D00BA996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8655-3A82-4473-8F9A-237FDF8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47D85-D5B5-401C-9BAE-AD6312AA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B3F38-EF13-4196-BB60-CDE4ED41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3191-F641-4281-820A-9DE47634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0C3B-CD91-425A-9225-F7882FF6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A53-F321-4E20-BA73-6EBF3C05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7CF77-EE52-4740-811F-A87C9094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33258-EE42-4545-98A0-DA6D14D1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4D76A-31D6-4ECB-8967-85E72656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83E7F-3188-4079-A626-E9854C5C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CC7D2-C0DF-408B-9697-69D83FB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F6633-DDAF-4EC8-A1DA-AFEB0668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36FC0-E8B0-403C-8F87-099B2099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E12F2-CA57-4958-B020-3CF88940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C7010-003F-4514-936A-364F1A4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2AA93-C77A-4DE2-BA48-0852FA5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A19-2DD8-403F-867D-C57561E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D93B4-6B18-437C-A5CB-0A097F6D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18E8-FC99-4BFD-87C5-D698F33D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98F7C-D9C0-490E-8695-DE270BBC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F348B-F26A-4188-B868-C4A21EBB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A94F-62C3-4B2F-A94D-74B1B32C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E675E-7D03-440A-8EC0-1B3073C2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F2939-8485-44B4-BCF2-BB900DBF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B55A-CA34-4FE7-86A1-468D6FA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FAF0E-6700-4395-B799-E77566F3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751A-350F-48E7-81E9-6D1F1D5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55B-BDB4-4540-BDF3-269E1BE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CB33C-91C3-4E43-82D2-00F7DCD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3EF59-C1C2-4213-8F9C-AE2CF30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A178-8E25-432B-AB20-5D3FF0C5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FB547-DFE9-4CBD-9315-9046AE59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4F8AA-B17F-43FD-B900-0721787E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71B71-95F1-4BEF-8787-E631C042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FB7F6-C1BE-41AC-BB0F-BA59D544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72C3-5EDA-41B2-ACE1-E3E93922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73D3E-EB41-43B9-A02F-835222B7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10455-2DB3-4C7F-A615-BA75419B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AAE-DECD-4B19-89B9-73736477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92CF0-5AFF-4C10-AA33-E8FA7A1C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AF3D-528A-4EF7-89B9-B92C6EF8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DBC67-E9D2-42F4-A6F9-3B247A12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BF06E-5AE8-45C1-928F-53C0C8B2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22C7E-8F6C-41FA-A426-A930F341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99AF6-A0A9-4E63-A854-8B0ECA1F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6D447-CC58-4E15-8998-ACDF1E85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80B5-827A-4ECD-8683-353E0B90E8E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650B-101F-4778-B370-E447C30A8BA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348D-1795-4D7D-BAEB-6E9AFEFB8763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D9D4-73E1-4506-A2E3-BA4958A7CC8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CE31-55BA-4E94-8CA5-0CD2A8C29AA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AE47-9A1B-4315-977B-DC2453FE5B4C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E4CE-1DC5-4727-9B7E-C2DD6204B173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B5D4-6991-4E95-92AE-4CAEF7CF1063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LINCOL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6" name="Zástupný symbol pro obsah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LINCOL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8" name="Zástupný symbol pro obsah 2" descr=""/>
          <p:cNvPicPr/>
          <p:nvPr/>
        </p:nvPicPr>
        <p:blipFill>
          <a:blip r:embed="rId1"/>
          <a:stretch/>
        </p:blipFill>
        <p:spPr>
          <a:xfrm>
            <a:off x="1994040" y="2421000"/>
            <a:ext cx="5025960" cy="333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APIT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0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JEFFERSO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Zástupný symbol pro obsah 3" descr=""/>
          <p:cNvPicPr/>
          <p:nvPr/>
        </p:nvPicPr>
        <p:blipFill>
          <a:blip r:embed="rId1"/>
          <a:stretch/>
        </p:blipFill>
        <p:spPr>
          <a:xfrm>
            <a:off x="2257560" y="2276640"/>
            <a:ext cx="490680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ARLINGTON CEMET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4" name="Zástupný symbol pro obsah 2" descr=""/>
          <p:cNvPicPr/>
          <p:nvPr/>
        </p:nvPicPr>
        <p:blipFill>
          <a:blip r:embed="rId1"/>
          <a:stretch/>
        </p:blipFill>
        <p:spPr>
          <a:xfrm>
            <a:off x="1944720" y="2205000"/>
            <a:ext cx="5291280" cy="38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shington,_D.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Fotografie z Washington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M.Frolí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258920" y="1700280"/>
          <a:ext cx="7416720" cy="4967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hingt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Washingtonu, nejzajímavější místa a památky. Prezentace slouží jako podpůrný materiál při výkladu učiva o amer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hington, sightseeing, D.C.,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WASHINGTON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IN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60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.C. = District of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the Potomac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4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376360" cy="1251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ENTRE OF THE 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6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ENTRE OF THE 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8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0" name="Zástupný symbol pro obsah 5" descr=""/>
          <p:cNvPicPr/>
          <p:nvPr/>
        </p:nvPicPr>
        <p:blipFill>
          <a:blip r:embed="rId1"/>
          <a:stretch/>
        </p:blipFill>
        <p:spPr>
          <a:xfrm>
            <a:off x="1871640" y="2133720"/>
            <a:ext cx="5437080" cy="40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HITE HOUSE - TREAS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2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ASHINGTON MONU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4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6:47Z</dcterms:modified>
  <cp:revision>43</cp:revision>
  <dc:subject/>
  <dc:title>EUROPEAN UNION</dc:title>
</cp:coreProperties>
</file>