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236-067F-4F09-B62F-DD192706DA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141-D2BD-4EC1-A4AB-21901240DC0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31F-E09A-4B0B-B136-3D3658C757D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886C-93B4-4D00-A845-4412203B98E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6EA-0692-434B-A8BF-8CAD88295D5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659E-3392-41F0-8661-A41884C03FA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1B8-23EE-40CC-B06A-50981237C6F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A7B-7690-47F4-B974-CD2B27B000D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B3D-9F70-4E78-8000-26F6F836445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4DE-4C45-4AD3-923F-CEE91310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1B1-CA3B-4063-89B2-7122FCF0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B65-4CC5-44AD-9B69-F06BFA2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A7A-6098-4B5E-A059-CFED4553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226-B03D-4AAB-81B1-11DCC6BF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345-32F8-4219-B9C5-C9C1AB7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A63-E387-44C8-98AB-018DA697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BA0B-4940-4620-A2C7-D5AC3143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9A7-7790-4CE2-9F9D-5229624C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2A1-272D-41F6-8F06-CE5312E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597B-558A-4052-AB08-232B90F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839-E501-439E-B01A-C6ABF21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F57-D157-4493-9B32-88BE524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A2D9-4DE4-4ECC-8683-C5D096E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26F-FB4A-44FF-982A-D8310B4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7D1-9104-46D5-91FE-8ACBBC6F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A86-9A61-438A-88D3-95102F8F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F3C0-779A-4390-BA2E-066229B1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30F3-D192-4F7B-9DCC-941F9FD6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569A-D38F-4FEF-8252-FECAD24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4246-F616-4ADF-95B4-C07D1F2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26F9-82B2-40BB-AA87-1AF0F14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ED6-1994-4ABB-B8B9-E8906DD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1C72-A372-47BE-A3D9-2A19B7B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714C-94F0-47DF-8C08-42BBE4E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1A86-99EB-4F51-A32C-5A8E193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396F-D03A-4A9B-B7ED-CE7E6A15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79A0-55E1-4028-A826-D5F62F9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E088-7D98-4971-A669-DFA1F439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805A-FFD9-4B78-872A-E7D78BDA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2E3A-08DB-4673-B0F6-56E63C70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4CB1-A644-4371-9A56-146D31AC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5F5C-B704-4251-BE08-92DD87AB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866-EC25-42E5-AB51-521F21B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8333-5A6E-4306-B93F-4AE41E05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CC11C-A41C-4583-B76A-5D92CED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5096-EEC0-4DC7-B970-30CD74B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8A21-7C65-456A-8448-1A550F9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8D01-C300-45F8-84AC-C1EBCED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F837-D53E-40D8-BADC-DEE676E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0740-D504-4F18-B4C9-4A1AB50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2F5B-31B8-460C-B399-A3E798AD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0F38-0B88-4ED0-9FB2-0B45A8B3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8B7-A6BC-41B6-9A9C-8B0ED353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9AA-F36D-4309-A77F-F63A099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E50-D171-4512-89B9-21451C5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D4B-0B52-4F23-ABA8-666D80E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FA1-F519-48F9-8393-2D22A63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204-A0E1-4716-851F-B29201B1AE2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B3E-DDD6-4878-8D51-FA9DC4222EA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08B8-D922-463D-BF1E-D28981C7C28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7E31-C52E-4720-A09A-B0922D9E8BA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shall respect fundamental rights, as guaranteed by the European Convention for the Protection of Human Rights and Fundamental Freedoms signed in Rome on 4 November 1950 and as they result from the constitutional traditions common to the Member States, as general principles of Community law…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Nice - 200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institutions of EU to be able to accept 10 new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ing the way of v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roducing the principle of double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force on February 1,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AK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ENI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7" descr="ceska_republika"/>
          <p:cNvPicPr/>
          <p:nvPr/>
        </p:nvPicPr>
        <p:blipFill>
          <a:blip r:embed="rId1"/>
          <a:stretch/>
        </p:blipFill>
        <p:spPr>
          <a:xfrm>
            <a:off x="550872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Picture 8" descr="polsko"/>
          <p:cNvPicPr/>
          <p:nvPr/>
        </p:nvPicPr>
        <p:blipFill>
          <a:blip r:embed="rId2"/>
          <a:stretch/>
        </p:blipFill>
        <p:spPr>
          <a:xfrm>
            <a:off x="5508720" y="3429000"/>
            <a:ext cx="57600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9" descr="slovensko"/>
          <p:cNvPicPr/>
          <p:nvPr/>
        </p:nvPicPr>
        <p:blipFill>
          <a:blip r:embed="rId3"/>
          <a:stretch/>
        </p:blipFill>
        <p:spPr>
          <a:xfrm>
            <a:off x="5508720" y="3933720"/>
            <a:ext cx="5713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10" descr="madarsko"/>
          <p:cNvPicPr/>
          <p:nvPr/>
        </p:nvPicPr>
        <p:blipFill>
          <a:blip r:embed="rId4"/>
          <a:stretch/>
        </p:blipFill>
        <p:spPr>
          <a:xfrm>
            <a:off x="5508720" y="443700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11" descr="slovinsko"/>
          <p:cNvPicPr/>
          <p:nvPr/>
        </p:nvPicPr>
        <p:blipFill>
          <a:blip r:embed="rId5"/>
          <a:stretch/>
        </p:blipFill>
        <p:spPr>
          <a:xfrm>
            <a:off x="5508720" y="494172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ONIA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THUAN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TV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YPRUS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estonsko"/>
          <p:cNvPicPr/>
          <p:nvPr/>
        </p:nvPicPr>
        <p:blipFill>
          <a:blip r:embed="rId1"/>
          <a:stretch/>
        </p:blipFill>
        <p:spPr>
          <a:xfrm>
            <a:off x="5580000" y="2924280"/>
            <a:ext cx="5907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8" descr="litva"/>
          <p:cNvPicPr/>
          <p:nvPr/>
        </p:nvPicPr>
        <p:blipFill>
          <a:blip r:embed="rId2"/>
          <a:stretch/>
        </p:blipFill>
        <p:spPr>
          <a:xfrm>
            <a:off x="5580000" y="3429000"/>
            <a:ext cx="5745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9" descr="lotyssko"/>
          <p:cNvPicPr/>
          <p:nvPr/>
        </p:nvPicPr>
        <p:blipFill>
          <a:blip r:embed="rId3"/>
          <a:stretch/>
        </p:blipFill>
        <p:spPr>
          <a:xfrm>
            <a:off x="5580000" y="393372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0" descr="kypr"/>
          <p:cNvPicPr/>
          <p:nvPr/>
        </p:nvPicPr>
        <p:blipFill>
          <a:blip r:embed="rId4"/>
          <a:stretch/>
        </p:blipFill>
        <p:spPr>
          <a:xfrm>
            <a:off x="5580000" y="443700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1" descr="malta"/>
          <p:cNvPicPr/>
          <p:nvPr/>
        </p:nvPicPr>
        <p:blipFill>
          <a:blip r:embed="rId5"/>
          <a:stretch/>
        </p:blipFill>
        <p:spPr>
          <a:xfrm>
            <a:off x="5580000" y="4941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Apri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democratic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ated a post of a European Foreign Min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7" descr="Single act"/>
          <p:cNvPicPr/>
          <p:nvPr/>
        </p:nvPicPr>
        <p:blipFill>
          <a:blip r:embed="rId1"/>
          <a:stretch/>
        </p:blipFill>
        <p:spPr>
          <a:xfrm>
            <a:off x="5867280" y="3141720"/>
            <a:ext cx="208764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and the Netherlands voted 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 leaders declared a period of ref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9" descr="book"/>
          <p:cNvPicPr/>
          <p:nvPr/>
        </p:nvPicPr>
        <p:blipFill>
          <a:blip r:embed="rId1"/>
          <a:stretch/>
        </p:blipFill>
        <p:spPr>
          <a:xfrm>
            <a:off x="5600880" y="3546360"/>
            <a:ext cx="2090520" cy="13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– 2007-2013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ANIA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OATIA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rumunsko"/>
          <p:cNvPicPr/>
          <p:nvPr/>
        </p:nvPicPr>
        <p:blipFill>
          <a:blip r:embed="rId1"/>
          <a:stretch/>
        </p:blipFill>
        <p:spPr>
          <a:xfrm>
            <a:off x="514836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5" descr="bulharsko"/>
          <p:cNvPicPr/>
          <p:nvPr/>
        </p:nvPicPr>
        <p:blipFill>
          <a:blip r:embed="rId2"/>
          <a:stretch/>
        </p:blipFill>
        <p:spPr>
          <a:xfrm>
            <a:off x="5148360" y="342900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Obrázek 1" descr=""/>
          <p:cNvPicPr/>
          <p:nvPr/>
        </p:nvPicPr>
        <p:blipFill>
          <a:blip r:embed="rId3"/>
          <a:stretch/>
        </p:blipFill>
        <p:spPr>
          <a:xfrm>
            <a:off x="5148360" y="3941640"/>
            <a:ext cx="573120" cy="3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sbon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previous treaties adopted so f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December 13, 2007 in Lisb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s recently come into for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ll 27 countries ratified the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voted „NO“ in the first referend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zech republic was the last to 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Historie Evropské Unie po roce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po roce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Euro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HISTORY OF EU AFTER MAASTRI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freedoms of „Single Market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 – important d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3 Maastricht Trea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5 Schengen agreement (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 countri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The treaty of Amsterd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Agenda 2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9 introdution of Euro for commercial and financial trans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 countries in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USTRIA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NLAND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WEDE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15" descr="rakousko"/>
          <p:cNvPicPr/>
          <p:nvPr/>
        </p:nvPicPr>
        <p:blipFill>
          <a:blip r:embed="rId1"/>
          <a:stretch/>
        </p:blipFill>
        <p:spPr>
          <a:xfrm>
            <a:off x="4716360" y="299736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16" descr="2"/>
          <p:cNvPicPr/>
          <p:nvPr/>
        </p:nvPicPr>
        <p:blipFill>
          <a:blip r:embed="rId2"/>
          <a:stretch/>
        </p:blipFill>
        <p:spPr>
          <a:xfrm>
            <a:off x="4716360" y="357336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17" descr="svedsko"/>
          <p:cNvPicPr/>
          <p:nvPr/>
        </p:nvPicPr>
        <p:blipFill>
          <a:blip r:embed="rId3"/>
          <a:stretch/>
        </p:blipFill>
        <p:spPr>
          <a:xfrm>
            <a:off x="4716360" y="4149720"/>
            <a:ext cx="60984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chengen agreement - 199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travel without having their passports check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study in other countries with EU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ok effect in 7 countries (GER, FRA, SPA, POR, BEL, LUX, N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Europe more pow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entrate more resources on employment and the rights of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is founded on the principles of liberty, democracy, respect for human rights and fundamental freedoms, and the rule of law, principles which are common to the member states“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45Z</dcterms:modified>
  <cp:revision>15</cp:revision>
  <dc:subject/>
  <dc:title>EUROPEAN UNION</dc:title>
</cp:coreProperties>
</file>