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1F5D-2C1E-46CA-9103-91821E6167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1587-8616-4187-9539-AA8FDCF7486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0995-3B2A-4145-B603-97952298D85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5F1-25F6-4739-ABE4-90E0D5083BD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A18-5C56-4AF7-9573-5A6C3DEC23C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59D-23BA-4300-9705-A55BCDF3800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408A-3B77-4F70-B770-7A59EF6D651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0FF9-9D78-4896-81C7-7D83F41DFAA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1B6-27E6-448E-8A89-E23D8D99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38F-7AC3-49E9-937F-5C27E05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F8D-97DA-4491-8EE9-DA50AA16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BF3-677E-4913-9ADC-08A34A8F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5E2C-2292-4747-AAED-384577E6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3ED-1CE7-4171-B93A-993DD836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4D36-45EB-4C7B-BCB9-B5235D33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E0A4-D9D9-4A5A-B5EA-191E925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16ED-28CD-4B90-98E7-A19AB51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A8A-B689-495A-A4CC-50F2DCD3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DFF5-9737-4AE8-811F-22F02CE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EC1-A440-4894-8D01-0F69F0E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1F54-D8AA-47C4-AF3B-DF6CB1C7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9429-06CD-4B7D-AE7B-FCFA5E3D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EEA-E181-4887-A400-A4787E03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796E-5A58-400B-A758-BB0A8B6B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31E9-37E7-47ED-97A4-34130FE3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463C-FAA3-4B83-8532-AD7A19E4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368D-091E-4D60-926B-B646B98E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CEF4-2D04-4962-AA1E-DD8FC50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1F0E-FB2E-48E5-86B4-1094D67C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EE7F-BA5C-4F49-AA15-6C4C0B58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3C4-D9E7-488D-863E-A58AE5E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35C8-674C-4F50-9CD0-B3B23780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9265-51C6-4D19-9A88-BAB8B677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9629-83F3-4549-A839-E1D5EB7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706D-6E5D-4320-834D-80FE8B0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BA50-A670-4A7A-80B7-239AAF23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3694-657B-41B0-A97C-E44A9750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7A71-42F1-4C60-9E89-DAB1EE8E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E066-20AA-477B-84DB-2BDAEB6C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611F0-564B-46B8-A19D-092435D4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A13A-5EB9-4FC4-B354-7B8E16CA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E35-CFD8-40CB-AA63-4550C877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ED8FE-A35D-4940-8B5D-DCAB4B5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2538-C04D-4ACF-B071-C5B83B69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52B5-B135-4997-B894-20BFF9E6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EE6E-0AC2-4905-9026-9F77D26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42BB-F5D3-4489-8A42-A32C0088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2AFF-6EC7-4225-87AC-C97DE4E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3A98-C839-447A-85C7-1D8AB2CA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930C-CD16-43E9-85A6-245C1F1C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C387-ED48-4FA8-AC71-9DE72B4C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105-5BC9-4276-979F-FE7F5300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AF1-5C0F-4675-9C0F-B8E782CA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E7F-4D9B-4BBE-96FA-2619101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3B6-F9CA-400F-BCD9-6BF35FD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53E-77AB-4518-9A02-F4A9ADE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3BC7-C1C9-4E91-A409-E87A3ED7015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FF8-4CCC-4ECE-B330-927137C1CD7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4C89-2A12-4D1D-B729-4D36AB19924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E9F7-F3AB-4B5C-8278-69880221CD1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7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Nixon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- Watergate Affai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Nixon had to resig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in 2002 awar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bel Prize for Peace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5468760" y="2781360"/>
            <a:ext cx="23479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8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oviet Union proclaimed the Empire of Ev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89 G.Bu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Bush S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anama Inva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ulf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end of 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ATO operations in Yugoslav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00 - n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264d"/>
                </a:solidFill>
                <a:latin typeface="Arial"/>
              </a:rPr>
              <a:t>What do you know about the US history in the last 15 years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5375160" y="2637000"/>
            <a:ext cx="2421000" cy="30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 – 20th centu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oodrow Wilson proclaimed neutr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17 USA involved in the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son helped to establish Czechoslovak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08280"/>
            <a:ext cx="2301840" cy="3073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TWEEN THE W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ter the war prohib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29 – Black Thursday (started on October 24 at the Stock Exchange, big economic crises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w Deal – economic plan 1933-19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251320" y="3141720"/>
            <a:ext cx="296712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1 – Japanese attacked Pearl Har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USA involved in the 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iroshima, Nagasa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iberation of Plze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113440" y="2997360"/>
            <a:ext cx="3147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SHALL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8 – European Recovery Program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nounced by the minister of foreign affairs Marshall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8-1952 (13 bil.doll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oslovakia refu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665680" y="3062160"/>
            <a:ext cx="196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5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50 – 1953 Korean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3,000 American soldiers d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eneral MacArth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5" descr=""/>
          <p:cNvPicPr/>
          <p:nvPr/>
        </p:nvPicPr>
        <p:blipFill>
          <a:blip r:embed="rId1"/>
          <a:stretch/>
        </p:blipFill>
        <p:spPr>
          <a:xfrm>
            <a:off x="4986360" y="2997360"/>
            <a:ext cx="311616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6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Fitzgerald Kenne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1 – Cuba (an attempt to capture Castr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2 – Cuba cr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rtin Luthe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etnam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5627520" y="2924280"/>
            <a:ext cx="2184480" cy="278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20Z</dcterms:modified>
  <cp:revision>57</cp:revision>
  <dc:subject/>
  <dc:title>EUROPEAN UNION</dc:title>
</cp:coreProperties>
</file>