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5D6D-FD36-4CE8-9987-FCE4B7B20A9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7470-CC40-46C7-B80D-F3BBEE8B321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4D5E-BB55-41AC-A8E4-F7B0BA76E24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BF39-B81D-41D8-843D-97227479653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CD89-43EB-48A7-867D-C540749F5CC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1A2B-0239-443D-8D3E-AA811F7B5A6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FC39-7085-41E5-BD47-F4531ED6F08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3C5A-0E20-4FFF-90E6-C6D4F3E7348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B647-5EA6-43D9-A23A-E5174AC8C70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42E-545E-413D-A4D9-6328316D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2D9-4187-4279-89DD-27828674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0C0-C43D-492F-830E-03617E8E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86A-F626-4D3B-8665-86A7C388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B01C-F891-4563-9641-E6D291A8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CF76-C13D-4DB7-9AA4-B189C4EB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B222-7CD7-47D4-A869-B83DBE19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E8EF-1BB2-4101-8FF4-29D9BBAB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115C-53DC-4E39-8517-B529EC2B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9D2D-4F66-4006-A3EA-F124952F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1D94-9887-4CBE-A377-32A6BCF1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53F-4FA9-4462-809C-A210869E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0560-931E-4F10-AAB6-A3A82BFB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05E9-2104-4DFC-810E-EBC00C1B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03A5-85EE-4D5E-AFBE-ECBD04B0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0B32-4DF9-4BA3-907B-C54FADBF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C95F-EC52-4DED-8399-469A2D84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22FE2-84D9-4A7F-8159-3F56CEFF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95661-DF14-4C5E-9F19-45DDABFF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2AC7-49C3-494B-B2F5-DF08E70A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AB9B0-E49E-4497-A566-53915D54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3AFAF-FC09-4889-A496-F00B36A8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9BD-E085-4DCD-9955-8B99115B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533D7-729D-4972-8AB7-967A6609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575CE-652A-41B4-8E14-9E6CD9BF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5D90E-7828-4EED-9493-B3E301F5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ACA82-48B2-4135-8D47-F76D41FC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DA526-E521-4D01-9282-CB74E7E1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2BBF2-72F3-48DD-8A31-8909781C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FF7BD-236A-4C91-BF0E-17675396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3007-3E0E-46D2-94DB-56F30A47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BD4A8-281D-4C98-BB51-9F62E9DE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E79B4-0F48-4340-B888-65E05D04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F45-698A-48DA-B910-5350D9F3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E822-A52A-4352-8831-0E8E2D92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94637-BED0-4568-9D9D-2861A205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54167-2833-480C-B266-1F70BC88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037B0-0CF3-4DC8-8D27-96E77A24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F3150-E646-4CB6-A251-AED31E3C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40092-0642-4C9B-B16D-E8C2EC40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EC1E2-5729-415E-93C9-C1C25953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013EA-9B69-40C4-8330-A72D2BE1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DB87B-584A-4CF1-9A4F-491C89A2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B4F-3D65-4B13-BD21-C5CB20FC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07A-C5FD-4170-8C0D-D0B48E8B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55B-3F09-4556-A2D5-E7FA60AE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472-93C3-4304-856F-2C4B487E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70B2-D032-4B50-9D2E-DFA6A216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BAE3-DE7C-4B2C-81E7-877B6F4CEA6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CA33-5106-481D-B6DF-497680BB689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9B0F-2C32-4491-9986-1CB9E18A6E5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D804-FB15-4B07-BC54-EC428127A04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ies of Ro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goals of the EEC Treat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eliminate trade barri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develop a common tariff for impo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reate a common policy for managing and supporting agricul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Establishing European Community</a:t>
            </a:r>
            <a:br>
              <a:rPr sz="3200"/>
            </a:b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1967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32" name="Organization Chart 7"/>
          <p:cNvGrpSpPr/>
          <p:nvPr/>
        </p:nvGrpSpPr>
        <p:grpSpPr>
          <a:xfrm>
            <a:off x="833400" y="2343240"/>
            <a:ext cx="7632000" cy="3670560"/>
            <a:chOff x="833400" y="2343240"/>
            <a:chExt cx="7632000" cy="3670560"/>
          </a:xfrm>
        </p:grpSpPr>
        <p:cxnSp>
          <p:nvCxnSpPr>
            <p:cNvPr id="233" name="_s1028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617440" y="284184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36" name="_s1029"/>
            <p:cNvCxnSpPr>
              <a:stCxn id="237" idx="0"/>
              <a:endCxn id="235" idx="2"/>
            </p:cNvCxnSpPr>
            <p:nvPr/>
          </p:nvCxnSpPr>
          <p:spPr>
            <a:xfrm flipV="1">
              <a:off x="4649400" y="3810600"/>
              <a:ext cx="3600" cy="7347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38" name="_s1030"/>
            <p:cNvCxnSpPr>
              <a:stCxn id="239" idx="0"/>
              <a:endCxn id="235" idx="2"/>
            </p:cNvCxnSpPr>
            <p:nvPr/>
          </p:nvCxnSpPr>
          <p:spPr>
            <a:xfrm flipH="1" flipV="1" rot="5400000">
              <a:off x="2946600" y="284220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235" name="_s1031"/>
            <p:cNvSpPr/>
            <p:nvPr/>
          </p:nvSpPr>
          <p:spPr>
            <a:xfrm>
              <a:off x="3504600" y="234324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EUROPEAN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COMMUNI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_s1032"/>
            <p:cNvSpPr/>
            <p:nvPr/>
          </p:nvSpPr>
          <p:spPr>
            <a:xfrm>
              <a:off x="8334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Europea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Economic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Community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ffff"/>
                  </a:solidFill>
                  <a:latin typeface="Arial"/>
                </a:rPr>
                <a:t>(EE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_s1033"/>
            <p:cNvSpPr/>
            <p:nvPr/>
          </p:nvSpPr>
          <p:spPr>
            <a:xfrm>
              <a:off x="35046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Europea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Coal and Steel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Communi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ffff"/>
                  </a:solidFill>
                  <a:latin typeface="Arial"/>
                </a:rPr>
                <a:t>(ECS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_s1034"/>
            <p:cNvSpPr/>
            <p:nvPr/>
          </p:nvSpPr>
          <p:spPr>
            <a:xfrm>
              <a:off x="61758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European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Atomic Energ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Communi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ffff"/>
                  </a:solidFill>
                  <a:latin typeface="Arial"/>
                </a:rPr>
                <a:t>(Euratom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 - 197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nmark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reland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nited Kingdom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2" name="Picture 4" descr="dansko"/>
          <p:cNvPicPr/>
          <p:nvPr/>
        </p:nvPicPr>
        <p:blipFill>
          <a:blip r:embed="rId1"/>
          <a:stretch/>
        </p:blipFill>
        <p:spPr>
          <a:xfrm>
            <a:off x="4716360" y="2924280"/>
            <a:ext cx="5763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5" descr="irsko"/>
          <p:cNvPicPr/>
          <p:nvPr/>
        </p:nvPicPr>
        <p:blipFill>
          <a:blip r:embed="rId2"/>
          <a:stretch/>
        </p:blipFill>
        <p:spPr>
          <a:xfrm>
            <a:off x="4716360" y="3429000"/>
            <a:ext cx="5763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4" name="Picture 6" descr="spojene_kralovstvi"/>
          <p:cNvPicPr/>
          <p:nvPr/>
        </p:nvPicPr>
        <p:blipFill>
          <a:blip r:embed="rId3"/>
          <a:stretch/>
        </p:blipFill>
        <p:spPr>
          <a:xfrm>
            <a:off x="4716360" y="3933720"/>
            <a:ext cx="5763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reece   (1981)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ain     (1986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rtugal (1986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Picture 4" descr="recko"/>
          <p:cNvPicPr/>
          <p:nvPr/>
        </p:nvPicPr>
        <p:blipFill>
          <a:blip r:embed="rId1"/>
          <a:stretch/>
        </p:blipFill>
        <p:spPr>
          <a:xfrm>
            <a:off x="4643280" y="292428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8" name="Picture 5" descr="spanelsko"/>
          <p:cNvPicPr/>
          <p:nvPr/>
        </p:nvPicPr>
        <p:blipFill>
          <a:blip r:embed="rId2"/>
          <a:stretch/>
        </p:blipFill>
        <p:spPr>
          <a:xfrm>
            <a:off x="4643280" y="342900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9" name="Picture 6" descr="portugalsko"/>
          <p:cNvPicPr/>
          <p:nvPr/>
        </p:nvPicPr>
        <p:blipFill>
          <a:blip r:embed="rId3"/>
          <a:stretch/>
        </p:blipFill>
        <p:spPr>
          <a:xfrm>
            <a:off x="4643280" y="3933720"/>
            <a:ext cx="57168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ingle European A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ed in 198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t 1st January 1993 as the date of establishing a full internal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2" name="Picture 7" descr="Single act"/>
          <p:cNvPicPr/>
          <p:nvPr/>
        </p:nvPicPr>
        <p:blipFill>
          <a:blip r:embed="rId1"/>
          <a:stretch/>
        </p:blipFill>
        <p:spPr>
          <a:xfrm>
            <a:off x="5580000" y="3141720"/>
            <a:ext cx="208764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ASTRICHT TREATY - 199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54" name="Organization Chart 7"/>
          <p:cNvGrpSpPr/>
          <p:nvPr/>
        </p:nvGrpSpPr>
        <p:grpSpPr>
          <a:xfrm>
            <a:off x="833400" y="2343240"/>
            <a:ext cx="7632000" cy="3670560"/>
            <a:chOff x="833400" y="2343240"/>
            <a:chExt cx="7632000" cy="3670560"/>
          </a:xfrm>
        </p:grpSpPr>
        <p:cxnSp>
          <p:nvCxnSpPr>
            <p:cNvPr id="255" name="_s2052"/>
            <p:cNvCxnSpPr>
              <a:stCxn id="256" idx="0"/>
              <a:endCxn id="257" idx="2"/>
            </p:cNvCxnSpPr>
            <p:nvPr/>
          </p:nvCxnSpPr>
          <p:spPr>
            <a:xfrm flipV="1" rot="16200000">
              <a:off x="5617440" y="284184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58" name="_s2053"/>
            <p:cNvCxnSpPr>
              <a:stCxn id="259" idx="0"/>
              <a:endCxn id="257" idx="2"/>
            </p:cNvCxnSpPr>
            <p:nvPr/>
          </p:nvCxnSpPr>
          <p:spPr>
            <a:xfrm flipV="1">
              <a:off x="4649400" y="3810600"/>
              <a:ext cx="3600" cy="7347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60" name="_s2054"/>
            <p:cNvCxnSpPr>
              <a:stCxn id="261" idx="0"/>
              <a:endCxn id="257" idx="2"/>
            </p:cNvCxnSpPr>
            <p:nvPr/>
          </p:nvCxnSpPr>
          <p:spPr>
            <a:xfrm flipH="1" flipV="1" rot="5400000">
              <a:off x="2946600" y="284220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257" name="_s2055"/>
            <p:cNvSpPr/>
            <p:nvPr/>
          </p:nvSpPr>
          <p:spPr>
            <a:xfrm>
              <a:off x="3504600" y="234324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MAASTRICH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TREA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_s2056"/>
            <p:cNvSpPr/>
            <p:nvPr/>
          </p:nvSpPr>
          <p:spPr>
            <a:xfrm>
              <a:off x="8334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PARI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TREA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_s2057"/>
            <p:cNvSpPr/>
            <p:nvPr/>
          </p:nvSpPr>
          <p:spPr>
            <a:xfrm>
              <a:off x="35046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TREATIES OF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ROM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_s2058"/>
            <p:cNvSpPr/>
            <p:nvPr/>
          </p:nvSpPr>
          <p:spPr>
            <a:xfrm>
              <a:off x="61758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SINGL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EUROPEAN AC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astricht Trea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52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ed 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th February 199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anges EC into EUROPEAN UNION       since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1st January, 199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4" name="Picture 7" descr="eu vlajka"/>
          <p:cNvPicPr/>
          <p:nvPr/>
        </p:nvPicPr>
        <p:blipFill>
          <a:blip r:embed="rId1"/>
          <a:stretch/>
        </p:blipFill>
        <p:spPr>
          <a:xfrm>
            <a:off x="6300720" y="3500280"/>
            <a:ext cx="1625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astricht Trea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stablished rules fo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urr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reign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curity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-operation in jus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-operation in home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UROPEAN U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ME INTO EXISTENCE 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1st JANUARY, 199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Picture 6" descr="eu vlajka"/>
          <p:cNvPicPr/>
          <p:nvPr/>
        </p:nvPicPr>
        <p:blipFill>
          <a:blip r:embed="rId1"/>
          <a:stretch/>
        </p:blipFill>
        <p:spPr>
          <a:xfrm>
            <a:off x="5796000" y="4149720"/>
            <a:ext cx="1625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EMBER COUNTRIES - 199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838080" y="2362320"/>
          <a:ext cx="7693200" cy="393048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RMAN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ELGI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E NETHERLAN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UXEMBOUR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AT BRIT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RE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NMAR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RTUG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Dějiny Evropské Unie do roku 199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dějiny Evropské Unie do roku 1993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uropean Coal and Steel Community, Euratom, European Union, foundation, trea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EST YOUR KNOWLED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6 countries that founded ECS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other common organis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n did UK enter the European Communi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do you know about Maastricht Trea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12 member countries of 199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1. ESTABLISHING </a:t>
            </a:r>
            <a:br>
              <a:rPr sz="3600"/>
            </a:b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THE END OF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EXPLAINING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OUND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4" descr="eu vlajka"/>
          <p:cNvPicPr/>
          <p:nvPr/>
        </p:nvPicPr>
        <p:blipFill>
          <a:blip r:embed="rId1"/>
          <a:stretch/>
        </p:blipFill>
        <p:spPr>
          <a:xfrm>
            <a:off x="755640" y="4005360"/>
            <a:ext cx="23763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Reasons for European integration after the World War 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ropean economy was destroy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rope lost its leading ro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cessity to avoid any other figh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desire to create free and more prosperous Eur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deas of found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46 Winston Churchil at the Zurich University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Idea of a European family living i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E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FREED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Picture 7" descr="Churchil"/>
          <p:cNvPicPr/>
          <p:nvPr/>
        </p:nvPicPr>
        <p:blipFill>
          <a:blip r:embed="rId1"/>
          <a:stretch/>
        </p:blipFill>
        <p:spPr>
          <a:xfrm>
            <a:off x="5688000" y="2565360"/>
            <a:ext cx="27432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deas of found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ean Mon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bert Schum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ay 9, 195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chuman´s plan of creation of a common authority in coal and steel indus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Picture 10" descr="schuman"/>
          <p:cNvPicPr/>
          <p:nvPr/>
        </p:nvPicPr>
        <p:blipFill>
          <a:blip r:embed="rId1"/>
          <a:stretch/>
        </p:blipFill>
        <p:spPr>
          <a:xfrm>
            <a:off x="6054840" y="2441520"/>
            <a:ext cx="1181160" cy="1625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ECSC"/>
          <p:cNvPicPr/>
          <p:nvPr/>
        </p:nvPicPr>
        <p:blipFill>
          <a:blip r:embed="rId2"/>
          <a:stretch/>
        </p:blipFill>
        <p:spPr>
          <a:xfrm>
            <a:off x="6012000" y="4762440"/>
            <a:ext cx="122400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is Trea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pril 195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stablishing European Coal and Steel Community (ECS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52 – the Treaty entered into fo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ean Monnet appointed President of the High Autho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CSC levy - the first European tax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CSC – member count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RAN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ST GERMAN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TAL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LGIU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NETHERLANDS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UXEMBOUR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Picture 9" descr="francie"/>
          <p:cNvPicPr/>
          <p:nvPr/>
        </p:nvPicPr>
        <p:blipFill>
          <a:blip r:embed="rId1"/>
          <a:stretch/>
        </p:blipFill>
        <p:spPr>
          <a:xfrm>
            <a:off x="5076720" y="242100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2" name="Picture 10" descr="nemecko"/>
          <p:cNvPicPr/>
          <p:nvPr/>
        </p:nvPicPr>
        <p:blipFill>
          <a:blip r:embed="rId2"/>
          <a:stretch/>
        </p:blipFill>
        <p:spPr>
          <a:xfrm>
            <a:off x="5076720" y="2924280"/>
            <a:ext cx="5763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Picture 11" descr="italie"/>
          <p:cNvPicPr/>
          <p:nvPr/>
        </p:nvPicPr>
        <p:blipFill>
          <a:blip r:embed="rId3"/>
          <a:stretch/>
        </p:blipFill>
        <p:spPr>
          <a:xfrm>
            <a:off x="5076720" y="342900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Picture 12" descr="belgie"/>
          <p:cNvPicPr/>
          <p:nvPr/>
        </p:nvPicPr>
        <p:blipFill>
          <a:blip r:embed="rId4"/>
          <a:stretch/>
        </p:blipFill>
        <p:spPr>
          <a:xfrm>
            <a:off x="5076720" y="3933720"/>
            <a:ext cx="5763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5" name="Picture 13" descr="nizozemsko"/>
          <p:cNvPicPr/>
          <p:nvPr/>
        </p:nvPicPr>
        <p:blipFill>
          <a:blip r:embed="rId5"/>
          <a:stretch/>
        </p:blipFill>
        <p:spPr>
          <a:xfrm>
            <a:off x="5076720" y="4437000"/>
            <a:ext cx="57168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Picture 14" descr="lucembursko"/>
          <p:cNvPicPr/>
          <p:nvPr/>
        </p:nvPicPr>
        <p:blipFill>
          <a:blip r:embed="rId6"/>
          <a:stretch/>
        </p:blipFill>
        <p:spPr>
          <a:xfrm>
            <a:off x="5076720" y="4941720"/>
            <a:ext cx="57492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ies of Ro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5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x member countries signed treaties establish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ropean Economic Community (EE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ropean Atomic Energy Commun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Eurato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9:33Z</dcterms:modified>
  <cp:revision>13</cp:revision>
  <dc:subject/>
  <dc:title>EUROPEAN UNION</dc:title>
</cp:coreProperties>
</file>