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97EB-C1CB-47E7-853D-5A9FF364713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40A9-8275-4BBC-97A5-8B2F3123A20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29AF-490A-4265-9CB3-CB918BF3FDBC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60E8-86E0-4B4A-914E-B5CED7B3A69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FF3F-FBAC-4E57-9D78-474EFC0CBA5C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C823-F700-4CD0-9913-99C551EF0AD8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CC01-2A0D-4C88-B581-3BDEFC3DA9D8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4B03-E8A6-43D2-B897-CB9A702C0F8F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60C-080E-4C9F-A8A0-F76704FE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29F2-D27B-4281-92BE-12437B40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1BF-EAF0-41F5-A99E-021ABE2E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C407-2C4E-4287-A10E-F907EABB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BB9F-A84A-44D0-96CD-91117D00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8E2C-D15C-41D5-84E1-CD0E7EA1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A5D8-57DC-464F-A5A2-C874F6F1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EE39-BDFD-4492-A655-92FDFEB2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4316-7723-4E9D-98F1-76FFD981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5FC1-499D-4D7C-AD5F-18C68EAA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5001-2A4E-4869-A452-2B6BC9BF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8B46-7F6A-4ED4-A7B7-ED7ECB86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88FB-116E-49E0-803D-DA2A0B45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8A94-DB48-41EC-BB06-BFB67B4E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33A3-F326-4612-B383-AB546590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769C-C98F-4233-8AA1-B1E991DF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0C86-5D98-4BDA-BC36-8DED0172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60567-5A07-4506-A6BE-C54AE3FB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94723-3460-4F7B-BFE2-4E77CADB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ADF6B-379B-4760-8055-324E143A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6D881-9ED0-40EA-A3D1-3DC2E780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F58D0-1163-47A0-81F1-D4B3ECB1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2F6D-0BF8-44CC-818B-F8765AE4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D353B-09C5-460B-9654-E295B369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39140-4EF6-424B-A636-A97D3DC3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53021-DFA9-4965-9D3B-7C3E8725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BC1CC-7585-416E-B76A-05544A3E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0D66F-DD41-4E40-B5E3-FFCDAA78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857B8-5059-4A61-A18B-2D727C62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2455C-50C2-47A3-8217-736ABF88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77522-7146-4AFE-B9D7-87D26A8A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2BB9C-5AF8-4A33-A5DA-DDC6F55F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C36A2-C5C1-419F-8AAE-9D242511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EE4-A6D2-4692-8EDE-CB72AB8E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A9662-E23D-4309-AB11-3B57CA53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70839-3218-44F9-B6CD-FA893601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2E7AC-B6FD-44E1-9C2A-774C8B59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8E57D-F4EC-4183-B490-782A2DBD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68C29-761B-4839-944F-81FEDFBF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7823C-A220-4650-96EA-C5E70F93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41509-411F-4128-B452-608E5632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2F875-8EA5-4A87-93BA-7EEEA587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AC309-296A-48D6-8C30-ED003448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DA3-6588-4282-A225-0B3D0E67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53E-9A5F-44BF-9C6E-AF2DAD02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162B-1024-4ACF-AA3B-053F18CF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356-7AEC-4BDC-9021-AB18A6EA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72DF-E501-4A38-BDB2-8BE84C6E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9B6E-8598-4179-A62A-20E1FBB55360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07F5-825C-4049-A99F-21A77EDA014B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245F-C7CE-412E-837A-69D2C04B9FC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7227-4E4D-4F41-BBD1-DC56EE5FCD44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2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4792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ICHIG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INESO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ISSISSIPP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ISSOU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ONT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BRAS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V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HAMPSH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JERS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MEX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Y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ORTH CAROLI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ORTH DAKO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OH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8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OKLAHO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OREG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PENNSYLVA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RHODE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OUTH CAROLI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OUTH DAKO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TENNESS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1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UTA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VERMO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VIRGI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WASHING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WISCONS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WYOM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WEST VIRGI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4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ASHING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600,000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on the Potomac Ri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.C. – district of Columb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7" name="Zástupný symbol pro obsah 2" descr=""/>
          <p:cNvPicPr/>
          <p:nvPr/>
        </p:nvPicPr>
        <p:blipFill>
          <a:blip r:embed="rId1"/>
          <a:stretch/>
        </p:blipFill>
        <p:spPr>
          <a:xfrm>
            <a:off x="4815000" y="2852640"/>
            <a:ext cx="346068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Y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city in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 mil. inhabitants (with aglomera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nancial centre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0" name="Zástupný symbol pro obsah 3" descr=""/>
          <p:cNvPicPr/>
          <p:nvPr/>
        </p:nvPicPr>
        <p:blipFill>
          <a:blip r:embed="rId1"/>
          <a:stretch/>
        </p:blipFill>
        <p:spPr>
          <a:xfrm>
            <a:off x="4761000" y="2968560"/>
            <a:ext cx="3770280" cy="2511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OS ANGE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lifor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8 mil.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with aglomera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lm indus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Zástupný symbol pro obsah 3" descr=""/>
          <p:cNvPicPr/>
          <p:nvPr/>
        </p:nvPicPr>
        <p:blipFill>
          <a:blip r:embed="rId1"/>
          <a:stretch/>
        </p:blipFill>
        <p:spPr>
          <a:xfrm>
            <a:off x="4476600" y="2781360"/>
            <a:ext cx="389592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HIC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94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Illino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3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town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0 mil.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illis Tower (formerly Sears Tow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Zástupný symbol pro obsah 2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268440" cy="2449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N FRANCIS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rth Califor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77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lden Gate Brid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catr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amo Squ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Zástupný symbol pro obsah 2" descr=""/>
          <p:cNvPicPr/>
          <p:nvPr/>
        </p:nvPicPr>
        <p:blipFill>
          <a:blip r:embed="rId1"/>
          <a:stretch/>
        </p:blipFill>
        <p:spPr>
          <a:xfrm>
            <a:off x="4902120" y="2997360"/>
            <a:ext cx="3478320" cy="2447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N DIE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uth Califor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st Europeans in 154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 the USA-Mexico border (Tijuan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lboa Pa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2" name="Zástupný symbol pro obsah 3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116160" cy="23349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he U.S.A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USA, nejzajímavější místa a města země. Prezentace slouží jako podpůrný materiál při výkladu učiva o amerických reáliích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USA, geography, population, cities, sightsee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684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AS VEG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v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entre of gamb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ight life, high crimina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Stri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5" name="Zástupný symbol pro obsah 2" descr=""/>
          <p:cNvPicPr/>
          <p:nvPr/>
        </p:nvPicPr>
        <p:blipFill>
          <a:blip r:embed="rId1"/>
          <a:stretch/>
        </p:blipFill>
        <p:spPr>
          <a:xfrm>
            <a:off x="5121360" y="2637000"/>
            <a:ext cx="3043080" cy="3168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OS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assachuset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5th biggest c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ounded in 1630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oston Tea Party (1773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Zástupný symbol pro obsah 3" descr=""/>
          <p:cNvPicPr/>
          <p:nvPr/>
        </p:nvPicPr>
        <p:blipFill>
          <a:blip r:embed="rId1"/>
          <a:stretch/>
        </p:blipFill>
        <p:spPr>
          <a:xfrm>
            <a:off x="4761000" y="2809800"/>
            <a:ext cx="3770280" cy="28288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HILADELPH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ennsylva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790-1800 the capital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dependence H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liberty b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1" name="Zástupný symbol pro obsah 2" descr=""/>
          <p:cNvPicPr/>
          <p:nvPr/>
        </p:nvPicPr>
        <p:blipFill>
          <a:blip r:embed="rId1"/>
          <a:stretch/>
        </p:blipFill>
        <p:spPr>
          <a:xfrm>
            <a:off x="4761000" y="2968560"/>
            <a:ext cx="3770280" cy="2511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ITTSBURG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ennsylva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sed to be known as the „steel capital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d after William Pit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4" name="Zástupný symbol pro obsah 3" descr=""/>
          <p:cNvPicPr/>
          <p:nvPr/>
        </p:nvPicPr>
        <p:blipFill>
          <a:blip r:embed="rId1"/>
          <a:stretch/>
        </p:blipFill>
        <p:spPr>
          <a:xfrm>
            <a:off x="4719600" y="2781360"/>
            <a:ext cx="3363840" cy="2519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IAM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lor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5 mil.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ami B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liday res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7" name="Zástupný symbol pro obsah 2" descr=""/>
          <p:cNvPicPr/>
          <p:nvPr/>
        </p:nvPicPr>
        <p:blipFill>
          <a:blip r:embed="rId1"/>
          <a:stretch/>
        </p:blipFill>
        <p:spPr>
          <a:xfrm>
            <a:off x="4932360" y="3137040"/>
            <a:ext cx="3409920" cy="2163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US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cit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6 mil.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yndon B.Johnson Space Cen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Zástupný symbol pro obsah 3" descr=""/>
          <p:cNvPicPr/>
          <p:nvPr/>
        </p:nvPicPr>
        <p:blipFill>
          <a:blip r:embed="rId1"/>
          <a:stretch/>
        </p:blipFill>
        <p:spPr>
          <a:xfrm>
            <a:off x="4692600" y="2924280"/>
            <a:ext cx="3463920" cy="2305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ALL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9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84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il indus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3" name="Zástupný symbol pro obsah 3" descr=""/>
          <p:cNvPicPr/>
          <p:nvPr/>
        </p:nvPicPr>
        <p:blipFill>
          <a:blip r:embed="rId1"/>
          <a:stretch/>
        </p:blipFill>
        <p:spPr>
          <a:xfrm>
            <a:off x="4791240" y="2852640"/>
            <a:ext cx="3311280" cy="2448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ORLE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uisi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71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raddle of jaz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2005 hit by hurric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6" name="Zástupný symbol pro obsah 3" descr=""/>
          <p:cNvPicPr/>
          <p:nvPr/>
        </p:nvPicPr>
        <p:blipFill>
          <a:blip r:embed="rId1"/>
          <a:stretch/>
        </p:blipFill>
        <p:spPr>
          <a:xfrm>
            <a:off x="4719600" y="2781360"/>
            <a:ext cx="346068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N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lor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mile high city (approx. 1600 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ar Rocky Mountai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Queen city of plai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9" name="Zástupný symbol pro obsah 3" descr=""/>
          <p:cNvPicPr/>
          <p:nvPr/>
        </p:nvPicPr>
        <p:blipFill>
          <a:blip r:embed="rId1"/>
          <a:stretch/>
        </p:blipFill>
        <p:spPr>
          <a:xfrm>
            <a:off x="4815000" y="2852640"/>
            <a:ext cx="3063600" cy="2295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LT LAKE C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21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ta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efore Europeans there lived Shoshone trib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mon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2 Olympic Ga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2" name="Zástupný symbol pro obsah 2" descr=""/>
          <p:cNvPicPr/>
          <p:nvPr/>
        </p:nvPicPr>
        <p:blipFill>
          <a:blip r:embed="rId1"/>
          <a:stretch/>
        </p:blipFill>
        <p:spPr>
          <a:xfrm>
            <a:off x="4932360" y="3263760"/>
            <a:ext cx="3384720" cy="18957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THE UNITED STATES OF AMER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T.LOU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878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ssou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763 by the Fren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d after the French king Louis I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ateway 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5" name="Zástupný symbol pro obsah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33828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NCHOR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878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ask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81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ttled 5,000 years ago by Eskim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1964 enormous earthqu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8" name="Zástupný symbol pro obsah 2" descr=""/>
          <p:cNvPicPr/>
          <p:nvPr/>
        </p:nvPicPr>
        <p:blipFill>
          <a:blip r:embed="rId1"/>
          <a:stretch/>
        </p:blipFill>
        <p:spPr>
          <a:xfrm>
            <a:off x="4816440" y="3213000"/>
            <a:ext cx="3776760" cy="2087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NOLUL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878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wa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ahu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in the Pacific Oce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1" name="Zástupný symbol pro obsah 3" descr=""/>
          <p:cNvPicPr/>
          <p:nvPr/>
        </p:nvPicPr>
        <p:blipFill>
          <a:blip r:embed="rId1"/>
          <a:stretch/>
        </p:blipFill>
        <p:spPr>
          <a:xfrm>
            <a:off x="4910040" y="3068640"/>
            <a:ext cx="3462480" cy="2305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OCKY MOUNT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93" name="Zástupný symbol pro obsah 2" descr=""/>
          <p:cNvPicPr/>
          <p:nvPr/>
        </p:nvPicPr>
        <p:blipFill>
          <a:blip r:embed="rId1"/>
          <a:stretch/>
        </p:blipFill>
        <p:spPr>
          <a:xfrm>
            <a:off x="2557440" y="2637000"/>
            <a:ext cx="4462560" cy="3330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ELLOWST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95" name="Zástupný symbol pro obsah 2" descr=""/>
          <p:cNvPicPr/>
          <p:nvPr/>
        </p:nvPicPr>
        <p:blipFill>
          <a:blip r:embed="rId1"/>
          <a:stretch/>
        </p:blipFill>
        <p:spPr>
          <a:xfrm>
            <a:off x="2257560" y="2565360"/>
            <a:ext cx="4906800" cy="3354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VERGLA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97" name="Zástupný symbol pro obsah 3" descr=""/>
          <p:cNvPicPr/>
          <p:nvPr/>
        </p:nvPicPr>
        <p:blipFill>
          <a:blip r:embed="rId1"/>
          <a:stretch/>
        </p:blipFill>
        <p:spPr>
          <a:xfrm>
            <a:off x="1835280" y="2533680"/>
            <a:ext cx="4289400" cy="2879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98" name="Obrázek 4" descr=""/>
          <p:cNvPicPr/>
          <p:nvPr/>
        </p:nvPicPr>
        <p:blipFill>
          <a:blip r:embed="rId2"/>
          <a:stretch/>
        </p:blipFill>
        <p:spPr>
          <a:xfrm>
            <a:off x="5796000" y="4581360"/>
            <a:ext cx="2657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OSEM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0" name="Zástupný symbol pro obsah 3" descr=""/>
          <p:cNvPicPr/>
          <p:nvPr/>
        </p:nvPicPr>
        <p:blipFill>
          <a:blip r:embed="rId1"/>
          <a:stretch/>
        </p:blipFill>
        <p:spPr>
          <a:xfrm>
            <a:off x="2398680" y="2708280"/>
            <a:ext cx="4452840" cy="2952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RAND CANY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2" name="Zástupný symbol pro obsah 3" descr=""/>
          <p:cNvPicPr/>
          <p:nvPr/>
        </p:nvPicPr>
        <p:blipFill>
          <a:blip r:embed="rId1"/>
          <a:stretch/>
        </p:blipFill>
        <p:spPr>
          <a:xfrm>
            <a:off x="1743120" y="2781360"/>
            <a:ext cx="5870520" cy="2879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UNT RUSHMO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4" name="Zástupný symbol pro obsah 2" descr=""/>
          <p:cNvPicPr/>
          <p:nvPr/>
        </p:nvPicPr>
        <p:blipFill>
          <a:blip r:embed="rId1"/>
          <a:stretch/>
        </p:blipFill>
        <p:spPr>
          <a:xfrm>
            <a:off x="2505240" y="2708280"/>
            <a:ext cx="43495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1258920" y="1557360"/>
            <a:ext cx="77007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US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Washington,_D.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New_Yor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Los_Ange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Chicag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an_Francis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an_Diego_(Kaliforni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all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env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749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9 631 214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230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WASHING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tretch/>
        </p:blipFill>
        <p:spPr>
          <a:xfrm>
            <a:off x="6156360" y="3213000"/>
            <a:ext cx="235908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THE U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1" name="Zástupný symbol pro obsah 3" descr=""/>
          <p:cNvPicPr/>
          <p:nvPr/>
        </p:nvPicPr>
        <p:blipFill>
          <a:blip r:embed="rId1"/>
          <a:stretch/>
        </p:blipFill>
        <p:spPr>
          <a:xfrm>
            <a:off x="2360520" y="2781360"/>
            <a:ext cx="4659480" cy="28940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THE U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3" name="Zástupný symbol pro obsah 2" descr=""/>
          <p:cNvPicPr/>
          <p:nvPr/>
        </p:nvPicPr>
        <p:blipFill>
          <a:blip r:embed="rId1"/>
          <a:stretch/>
        </p:blipFill>
        <p:spPr>
          <a:xfrm>
            <a:off x="2556000" y="2697120"/>
            <a:ext cx="43196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LABA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LAS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RIZO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RKANS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ALIFOR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OLOR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ONNECTIC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6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DELA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LOR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GEOR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AWA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IDAH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ILLINO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INDI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9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IO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KANS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KENTUC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LOUISI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RY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SSACHUSET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2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6:05Z</dcterms:modified>
  <cp:revision>42</cp:revision>
  <dc:subject/>
  <dc:title>EUROPEAN UNION</dc:title>
</cp:coreProperties>
</file>