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3277B-78BA-45C6-9A98-E1350DC8B9A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93FDD-D77C-47BD-9FAC-1A44AD4B1D04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20924-2FE9-438C-8554-0B9720D48C13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2AB2C-C7A3-4981-85E2-1DCE5EDFD5C3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8C370-5FC8-4628-9219-610F04F15BB1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7B353-9942-4A10-8BCE-84ADD026CE0F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CFB52-1726-48B2-85D2-FA813220C040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B5B38-9509-4553-AD68-F9405688EA67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6267-8925-446F-8C61-1533131A8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92CF-ADD3-48DF-BCE6-05D691A5B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87F6-9CA4-4971-A93B-FC3314276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9F75-C198-4E3A-AF68-12A2154B3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066E0-462F-4184-AF90-DFE186456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0A048-89FA-4CD6-9925-7BEA1CFEB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9190F-8D3C-4897-91A7-24C369954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0DDE7-2322-42D4-949A-9E7A9E16C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DDF26-C5CE-4523-9620-944C0FACF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C402B-558E-4D33-9BB7-1B360F573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78B54-DD19-49EA-9ACD-FEDB828E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2C58-FB0E-4B03-B828-379788265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07E6B-F644-4ACD-9F0B-9D5ECC64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A8C7E-F458-40AA-81AD-B0A0456E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49FC2-CC14-4C7C-A7D1-5128020DC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C7D80-0FE6-4BA1-965D-DD071A1B7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50817-BE0B-469F-A54C-C24C682BF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764C5-DB39-4F83-9D41-55FE31650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566F3-F018-4F38-ACA8-1B111D1F8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F7681-776C-4AF6-8216-E6C47DC33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AECF4-E238-46CC-AF52-DD1D40864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CDCBB-E453-4D16-A0B0-3D7AA2D4C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FDB2-26E5-40C3-A4CD-0F6D3ECA9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95073-A87A-4B5B-8289-8D8D841A4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6A622-08E0-4B73-A4B5-FEAD35D5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A8F48-56C4-4B2C-B0C4-A54A2747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BA992-D99E-47DB-A3DC-AE8CCD02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3953C-A5C1-4852-9FB5-7AA6E53B0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83694-9F81-4F90-86A1-E5EF192B1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0D992-602D-4ED2-A755-90B017456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5D215-B01F-4F80-9CAF-A0DF2E189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D99A0-5F6F-444C-BC41-1329515E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7A56F-B66A-439E-BD1A-E9189E914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6344-BAF1-41EA-A02F-0F6F61C0E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EE1F5-9B69-45F4-AF25-3638B8C7D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ADEC6-3F6B-4DA9-9A19-CA7CF0BF1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27498-8A35-41DF-8A10-F93A197DC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2AC14-D650-47FE-AC40-266A57CB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A36D5-7404-4F84-A375-FE49340C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4EC19-54E7-4442-BF53-DA10A143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AF944-AEB9-4AA3-B741-A3A46C8D8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B84A5-0C85-4984-8C7D-9E34EA46B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8453E-A837-4259-9A24-2CE3D27D1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398C-82BD-4425-9943-25B7290A7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C639-DBEB-414E-9B0C-F8501167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AC9E-7B69-4AA6-8587-0C46A5F9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7610-D7FB-4F10-8862-032CDC67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F951-CD8F-4775-8F76-6CEFF6F63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AFC9B-B6D1-4555-A164-DF9579CF58D4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FFA80-C190-4F43-BD0D-BC9B0F952BAC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5F815-06E7-4462-8043-AC551C12990A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4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4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4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37634-6B51-4148-97BE-05EEA0FF3C59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2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čtvrtý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1 / 201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23544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IGHTSEE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43815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lot of old neolit grav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irst written reports from the Roman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410 AD German trib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dward I  (13th century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536 united with Eng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8" name="Zástupný symbol pro obsah 2" descr=""/>
          <p:cNvPicPr/>
          <p:nvPr/>
        </p:nvPicPr>
        <p:blipFill>
          <a:blip r:embed="rId1"/>
          <a:stretch/>
        </p:blipFill>
        <p:spPr>
          <a:xfrm>
            <a:off x="5508720" y="2852640"/>
            <a:ext cx="3082680" cy="21240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  <p:sp>
        <p:nvSpPr>
          <p:cNvPr id="229" name="TextovéPole 3"/>
          <p:cNvSpPr/>
          <p:nvPr/>
        </p:nvSpPr>
        <p:spPr>
          <a:xfrm>
            <a:off x="5796000" y="518328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ryn Celli Dd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NOWDON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ational park in the North of Wa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2170 km</a:t>
            </a:r>
            <a:r>
              <a:rPr b="0" lang="cs-CZ" sz="2800" spc="-1" strike="noStrike" baseline="30000">
                <a:solidFill>
                  <a:srgbClr val="0033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nowdon (1085 m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26,000 people (63% speak Welsh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2" name="Zástupný symbol pro obsah 2" descr=""/>
          <p:cNvPicPr/>
          <p:nvPr/>
        </p:nvPicPr>
        <p:blipFill>
          <a:blip r:embed="rId1"/>
          <a:stretch/>
        </p:blipFill>
        <p:spPr>
          <a:xfrm>
            <a:off x="5292720" y="3141720"/>
            <a:ext cx="3137040" cy="20876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  <a:ea typeface="Arial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1258920" y="1557360"/>
            <a:ext cx="77007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Wa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Cardif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Swanse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Newpor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Anglese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Bangor_(Wale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Snowdoni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search.creativecommons.org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1258920" y="1700280"/>
          <a:ext cx="7416720" cy="4694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Reálie anglicky mluvících zemí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Konverzace z anglického jazyk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Wale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 základní fakta o Walesu, nejdůležitější místa a přírodní zajímavosti. Prezentace slouží jako podpůrný materiál při výkladu učiva o britských reáliích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Wales, area, population, capital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23544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3366"/>
                </a:solidFill>
                <a:latin typeface="Arial"/>
              </a:rPr>
              <a:t>WALES</a:t>
            </a:r>
            <a:br>
              <a:rPr sz="4400"/>
            </a:br>
            <a:br>
              <a:rPr sz="1000"/>
            </a:b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(Tywysogaeth Cymru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BASIC FAC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SIGHTSEE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ASIC FAC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246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REA: 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20 779 km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OPULATION: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2 mi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APITAL: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CARDIFF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9" name="Zástupný symbol pro obsah 2" descr=""/>
          <p:cNvPicPr/>
          <p:nvPr/>
        </p:nvPicPr>
        <p:blipFill>
          <a:blip r:embed="rId1"/>
          <a:srcRect l="1316" t="1281" r="1316" b="1281"/>
          <a:stretch/>
        </p:blipFill>
        <p:spPr>
          <a:xfrm>
            <a:off x="5651640" y="3141720"/>
            <a:ext cx="2881080" cy="17272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ARDIFF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431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apital of Wa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elsh name: Caerdyd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320,000 inhabita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astel Caerdyd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t.John´s Chur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2" name="Zástupný symbol pro obsah 2" descr=""/>
          <p:cNvPicPr/>
          <p:nvPr/>
        </p:nvPicPr>
        <p:blipFill>
          <a:blip r:embed="rId1"/>
          <a:stretch/>
        </p:blipFill>
        <p:spPr>
          <a:xfrm>
            <a:off x="5435640" y="2997360"/>
            <a:ext cx="3124080" cy="23396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WANSE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431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2</a:t>
            </a:r>
            <a:r>
              <a:rPr b="0" lang="cs-CZ" sz="2800" spc="-1" strike="noStrike" baseline="30000">
                <a:solidFill>
                  <a:srgbClr val="003366"/>
                </a:solidFill>
                <a:latin typeface="Arial"/>
              </a:rPr>
              <a:t>nd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biggest town of Wa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elsh name: Abertaw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weyn´s E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n Gower peninsul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ystermouth cast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5" name="Zástupný symbol pro obsah 3" descr=""/>
          <p:cNvPicPr/>
          <p:nvPr/>
        </p:nvPicPr>
        <p:blipFill>
          <a:blip r:embed="rId1"/>
          <a:stretch/>
        </p:blipFill>
        <p:spPr>
          <a:xfrm>
            <a:off x="5508720" y="2997360"/>
            <a:ext cx="2787480" cy="20872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NEWPOR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431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3</a:t>
            </a:r>
            <a:r>
              <a:rPr b="0" lang="cs-CZ" sz="2800" spc="-1" strike="noStrike" baseline="30000">
                <a:solidFill>
                  <a:srgbClr val="003366"/>
                </a:solidFill>
                <a:latin typeface="Arial"/>
              </a:rPr>
              <a:t>rd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biggest town of Wa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elsh name: Casnewydd-ar-Wys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45,736 peop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mportant por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8" name="Zástupný symbol pro obsah 2" descr=""/>
          <p:cNvPicPr/>
          <p:nvPr/>
        </p:nvPicPr>
        <p:blipFill>
          <a:blip r:embed="rId1"/>
          <a:stretch/>
        </p:blipFill>
        <p:spPr>
          <a:xfrm>
            <a:off x="5508720" y="3284640"/>
            <a:ext cx="2835360" cy="21240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ANGLESE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431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n island in the north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elsh name: Ynys Mô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langefni, Holyhe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lanfairpwllgwyngyllgogerychwyrndrobwllllantysiliogogogoch </a:t>
            </a:r>
            <a:r>
              <a:rPr b="0" lang="cs-CZ" sz="2800" spc="-1" strike="noStrike">
                <a:solidFill>
                  <a:srgbClr val="003366"/>
                </a:solidFill>
                <a:latin typeface="Wingdings"/>
                <a:ea typeface="Wingdings"/>
              </a:rPr>
              <a:t>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1" name="Zástupný symbol pro obsah 2" descr=""/>
          <p:cNvPicPr/>
          <p:nvPr/>
        </p:nvPicPr>
        <p:blipFill>
          <a:blip r:embed="rId1"/>
          <a:stretch/>
        </p:blipFill>
        <p:spPr>
          <a:xfrm>
            <a:off x="5508720" y="3284640"/>
            <a:ext cx="2835360" cy="21240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ANGO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431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 Gwynedd county in the North of Wa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7,998 inhabitant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(1/3 speaks Wels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athedral        city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angor Univers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4" name="Zástupný symbol pro obsah 2" descr=""/>
          <p:cNvPicPr/>
          <p:nvPr/>
        </p:nvPicPr>
        <p:blipFill>
          <a:blip r:embed="rId1"/>
          <a:stretch/>
        </p:blipFill>
        <p:spPr>
          <a:xfrm>
            <a:off x="5411880" y="3300480"/>
            <a:ext cx="2787480" cy="20876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  <p:sp>
        <p:nvSpPr>
          <p:cNvPr id="225" name="Šipka doprava 4"/>
          <p:cNvSpPr/>
          <p:nvPr/>
        </p:nvSpPr>
        <p:spPr>
          <a:xfrm>
            <a:off x="2984400" y="5013360"/>
            <a:ext cx="488880" cy="24300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20:36:03Z</dcterms:created>
  <dc:creator>Mgr.Martin Frolík</dc:creator>
  <dc:description/>
  <dc:language>en-US</dc:language>
  <cp:lastModifiedBy>Igor</cp:lastModifiedBy>
  <dcterms:modified xsi:type="dcterms:W3CDTF">2014-09-13T14:14:41Z</dcterms:modified>
  <cp:revision>29</cp:revision>
  <dc:subject/>
  <dc:title>EUROPEAN UNION</dc:title>
</cp:coreProperties>
</file>