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E29-7F26-4F86-95C6-5E8F246413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CD7B-BA2B-402A-AA06-7DA84A69C87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C6D0-6A3A-44EC-8BF7-5D23A82135A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8C2-8D49-4769-A498-F3230DDD82A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5E7-B1DF-46FC-9E6C-C4DC8277376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C36-77E1-4FFB-AB5A-D1C9FD2A6EB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1AC-EE6A-458B-AB74-70FFDC9D5B5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EC8-E043-4889-9367-8A8FDE953C6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2E8-D461-4351-BCC1-C67893A9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508-8A89-4E2D-ABE4-D3F3B731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38E-BDCF-4903-ACDB-B2DEF51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25A-C3F7-489B-8075-05FB8F6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83A-CA95-45AC-BFC2-499B8BF5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031-4883-4B1B-A0A2-262B4C2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92D1-9125-4A14-8ACB-12E187E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3DB-5AA3-46E1-96F9-E003681D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E8F-631D-4E2C-8385-CA7E49C0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20F-E431-4A31-B952-F9D153D1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DDC1-BF2A-4824-8EBC-1988484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E86-7C94-435B-917B-9E87D40A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296-D723-468B-B0C3-04C54FA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6864-F3E2-4A12-A968-319CDF1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736-B316-48BE-9BF0-9E257FD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9DDB-F1EA-4DFB-BAF4-A26FB094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F163-D67B-434E-8C6E-10FEEF3B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AFAB-BD23-4C3D-AB31-6AF2285A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A35A-87C9-4466-9B47-C3D35632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E0BC-974E-4C1E-ACBE-A27689CB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D0F1-CD57-4A94-A1AC-95D615F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D3F2-88CA-4562-A69E-C0D0574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E7C-73BA-4B27-985D-E534C961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87C5-C690-4090-938F-19B56234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0E1F-EAAD-43B3-A843-88FF7D9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B375-5D66-4AD8-819F-0198A7B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7B34-025D-4B80-9BB0-0FD551B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6115-625B-4B0B-B273-6AAFF2E6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5B01-EA6E-44B9-A24F-1A42515B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5509-D501-44A4-ADF3-1C8724C3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163D-8270-4E57-8BC6-08AFE97D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B5F8-B4EA-4134-B14A-001EE23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F88A-99F6-4504-8AB0-B6C26588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465-9AAB-4D74-B484-517566C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FAA5-1017-4B86-A82C-3AE42FD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8DD0-53B5-47FD-93D0-751AE45F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200B-75BB-435A-8EE4-EC873F8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58D3-BC90-48CC-A849-1EB6720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AF5A-B8BD-4BAD-855B-5C3BA6B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1C18-FD50-4820-99D7-B14EA20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7F1C-285B-4EBD-904A-7E2AC01A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4993-43DD-4847-A323-05F3E128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BFE3-E6AF-49FA-A424-935A4351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249-360E-4BA1-B59E-1A260E3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5BF-0359-44EE-8B76-DF93A3D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2D4-4551-4638-A2C7-E21514A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D49-C80F-48AC-AFC6-CE48E30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BDB-B553-4463-9CAA-130CEE3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A379-9CBD-4F38-8978-42E085EE158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686-68A9-4DCA-82F9-222259D5BD3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683-C5EB-450F-880C-EBA36719D05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0A7-2032-4B78-BD3E-69D2727984D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5" descr=""/>
          <p:cNvPicPr/>
          <p:nvPr/>
        </p:nvPicPr>
        <p:blipFill>
          <a:blip r:embed="rId1"/>
          <a:stretch/>
        </p:blipFill>
        <p:spPr>
          <a:xfrm>
            <a:off x="4438800" y="3141720"/>
            <a:ext cx="410832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ELA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th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5003640" y="2994120"/>
            <a:ext cx="30765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RW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69 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lmers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ern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3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2997360" cy="2244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YERS R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lur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 the Outbac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600 mil. years o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,6 km lo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,4 km w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48 m hig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3" descr=""/>
          <p:cNvPicPr/>
          <p:nvPr/>
        </p:nvPicPr>
        <p:blipFill>
          <a:blip r:embed="rId1"/>
          <a:stretch/>
        </p:blipFill>
        <p:spPr>
          <a:xfrm>
            <a:off x="4888080" y="3068640"/>
            <a:ext cx="35067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and an Australia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40 km from the southern co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8,40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art (the capit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4718160" y="2924280"/>
            <a:ext cx="36320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ARRIER REE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oral reef in the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,000 km l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 is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h eco-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 types of corals, 4,000 fish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ANGARO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22600"/>
            <a:ext cx="5040360" cy="334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PLATYP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4" descr=""/>
          <p:cNvPicPr/>
          <p:nvPr/>
        </p:nvPicPr>
        <p:blipFill>
          <a:blip r:embed="rId1"/>
          <a:stretch/>
        </p:blipFill>
        <p:spPr>
          <a:xfrm>
            <a:off x="2252520" y="2708280"/>
            <a:ext cx="5127840" cy="319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N DEV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2190600" y="2565360"/>
            <a:ext cx="5118120" cy="3405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DIN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971960" cy="3309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Austrálii, nejzajímavější místa a jedinečné druhy fauny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, outback, geography, unique anima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WOMB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4" descr=""/>
          <p:cNvPicPr/>
          <p:nvPr/>
        </p:nvPicPr>
        <p:blipFill>
          <a:blip r:embed="rId1"/>
          <a:stretch/>
        </p:blipFill>
        <p:spPr>
          <a:xfrm>
            <a:off x="2340000" y="2468520"/>
            <a:ext cx="5040360" cy="377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O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16120"/>
            <a:ext cx="5008680" cy="3333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7007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stral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yd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elbour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sb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dela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rwin_(Austr%C3%A1l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yers_Ro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elký_bariérový_ú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asmán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 747 40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NBER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2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5" descr=""/>
          <p:cNvPicPr/>
          <p:nvPr/>
        </p:nvPicPr>
        <p:blipFill>
          <a:blip r:embed="rId1"/>
          <a:stretch/>
        </p:blipFill>
        <p:spPr>
          <a:xfrm>
            <a:off x="2422440" y="2362320"/>
            <a:ext cx="452448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argest city of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South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4708440" y="2852640"/>
            <a:ext cx="3662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ra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rbou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dney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4759200" y="3141720"/>
            <a:ext cx="3629160" cy="2082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LBOUR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state of Vic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SB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Queens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ial, financial and transport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27600" y="2924280"/>
            <a:ext cx="32241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00Z</dcterms:modified>
  <cp:revision>26</cp:revision>
  <dc:subject/>
  <dc:title>EUROPEAN UNION</dc:title>
</cp:coreProperties>
</file>