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D9CD-59FB-46A7-AAF7-AE218E5D01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80A9-6475-45F0-9C5F-D1A5D5E1D6A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8B2-FB6A-483F-AF40-B23E1F588EC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03A-153A-4C4A-90E3-901893C169B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96B-22F4-4D2B-9C0A-2F87D261897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BCF-87A5-409F-BF87-90B709A673C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AD3-136A-4B3E-96AA-340BEEDA22C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075D-24F0-4392-97CC-D92B31081D7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1A7-FE9C-4284-A336-6F4B29F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0EA-A513-44D4-9DE4-B261BBA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FC7-4008-4741-B897-145E0C6A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A64-3EAC-4A8A-AF5C-00D9DE93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A73-65B9-4089-8CE5-0DB40421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1C2-4277-41A6-9C62-A94C863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55E5-4A57-47A4-B88F-E8C7340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76FB-8EED-429B-A1B2-862807A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CCFC-B11F-43CB-9158-EB9A440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2D25-6C7B-4CD1-BA73-35B4F0C0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3027-B9A2-4B1B-8EFB-3E92965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E24-5E7A-4D47-963B-7833F5A1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DD0-4D21-4408-81BC-414EDF5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46E-FB9B-418A-944F-69BBEA8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B9EA-7433-4262-A350-EE87238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05E0-86D2-4E6C-9367-64BB9454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58A5-0AB4-4395-A10F-652FF412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1452-AFB0-4E19-B4A8-280E398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18A1-C253-4334-AEA1-7D1A49D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6CFA-C94A-4F65-98C3-24B5EBD5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EF2C-9CA4-430F-9240-A785518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2520-2266-4704-9F65-25D0AA16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907-C400-436F-B4E9-9D374F7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231A-81A4-4301-8A34-42228CC3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5D0F-6BAF-4D5A-9185-235B9E3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FE47-BE79-4B77-8743-6893642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375E-591F-4C8E-8FA8-C588F30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AE4D-3D68-4435-9BEE-86C70F0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BC25-FB7F-4585-AA28-B44DE583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F39E-0EFD-47F1-BDD8-A6F025F7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0DC1-176F-43BE-A009-DCCC5450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7E09-79F6-42B5-ABA9-14F0AD6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446E-EE85-4F13-9390-8DD9FB0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84A-A983-437D-BA9A-78D54BFB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5A3C-1E20-4DDD-87EF-24A7C1C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73CEA-B08D-4E73-BCC8-2BE4916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9BE4-0F89-4209-8146-E43F7E5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498A-D737-4628-A024-663F97F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A18A6-5EE9-47DC-B669-E2CB484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0FA9-CBB4-4D8A-BD3E-8184950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32A1-8EEA-4D13-BDE8-2E184B8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55A8-64DB-4AF5-BDDB-3B3D9AB7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9503-62CB-4BEB-B2E6-DCB9C4E9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D4F-DAB8-4967-A14C-E7876CF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281-BC17-4568-B1BB-2BCC509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13F-8839-465D-B948-336EF7D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460-98CD-4925-8976-A9F5F70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871-45BE-4704-A78B-E1FF287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AB9-1A74-47FE-A3DF-6F74397C4B9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A6E-2AA4-42C3-B7C2-FED76E31145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5296-07AC-4A27-9D53-3D725AB94EF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562-4446-41AD-9905-4891D8CFA27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9080" y="61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RO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banks of Ontario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N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2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787920" cy="2520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NTR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O 19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QUEB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85 on the UNESCO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4716360" y="2940120"/>
            <a:ext cx="3764160" cy="2504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ANCOU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raser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4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3656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LG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a-ghearraidh (the town on a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365280" cy="2521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MON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ICTO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apital of British Columb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tuated on the Vancouver Is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town of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38472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NNIPE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fortress in 1738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orks (the Red and Assiniboine riv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987640"/>
            <a:ext cx="3584520" cy="2386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JASPER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504360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Kanadě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, geography, population, c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EAR LAK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195640" y="2568600"/>
            <a:ext cx="5297400" cy="3524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UKON TERRI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5226120" cy="3476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NADIAN ANIMALS - GRIZZ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736720"/>
            <a:ext cx="5018400" cy="3284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258920" y="1557360"/>
            <a:ext cx="7700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K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Otta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oro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ontr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Quebe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ancou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lg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Edmon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ictoria_(Britská_Kolumb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innipe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984 67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3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TT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75580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FOUNDLAND AND LABR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WEST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YUK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2878200" y="2550960"/>
            <a:ext cx="3638520" cy="318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TA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4th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286080" cy="2460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19Z</dcterms:modified>
  <cp:revision>31</cp:revision>
  <dc:subject/>
  <dc:title>EUROPEAN UNION</dc:title>
</cp:coreProperties>
</file>