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1788-4226-48DE-8E6F-DFB5B8FBBC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7489-7B91-4820-96B8-E7602A1A35D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55DB-2227-4A6E-804F-163A835A9AF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9845-BC4E-4E46-921D-1BE37BDFE88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7520-65C6-4EBB-B43E-DEF7F195B37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04BB-A79D-4746-8DD7-060E2FCDA70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1772-1EC3-4FB9-8133-E4A521E03ED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70E5-C63A-4707-AF0F-CFA2ED52DB9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960-BE28-43F5-BE8F-4CACFF50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B05-FE4F-4420-B7CF-A5910D0D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C5A-D2F6-4D56-AF8E-7ABA9ACA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8F0-7C1B-4C02-9C4F-97D3544E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4FD5-4612-4D0E-AF29-1BB95AA8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0C5F-5F2E-4113-BD0D-817DFC5A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4048-9F61-4429-BA46-E551A7FF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C883-9257-4B65-9C25-AAC9D1F9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4F49-6FE8-44A4-8C6E-CDCABAD4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4541-53A5-4EAD-BC39-256DF0D1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83BD-A41D-4B9C-AE16-3D57322A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08A-B90B-448B-B8DD-9B9E6485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03B1-15BA-44DC-8E44-1AAD58DC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3377-A1E9-4BBD-902C-F1570B2B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E7C0-5FA6-4DEC-8DBD-AA7D03A0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3ECA-9E6F-4B36-887A-FA986DA2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3EF5-5435-4875-A552-56BBD91B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68588-6B48-49F9-9BE3-773F4851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C391-902B-4BF7-A78A-24245462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3E7BE-723F-40ED-B985-C8EFE436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1FAD8-77F6-4D20-BDC3-5C3DA022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181E-B18B-4915-80B4-D0954556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D73-CE51-4C99-A275-1046C587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95FC4-DEC9-4B29-82B6-81641E0B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D078C-17CA-46F5-A268-13552677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4ADF8-835D-4912-B873-04FF6333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10758-49E4-4A05-9F15-20D98B2E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37BE-74DC-4308-97EF-AB11E5FC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0AA3B-6832-4934-8E71-8DE9989A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BF96-46BE-4CCC-8A3E-77392362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C7E03-5A67-4F08-8B87-F613C404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6F0F8-DC65-4801-8A9E-E79A6AB3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57043-470D-4575-AB78-7F4359D1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D5D-91B5-4EA0-8A47-919274E6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A4333-E04F-4D1C-8112-1224F23E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1C1D5-8D40-433F-AB78-12CF7339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F023F-C874-4D62-9B36-878BFC38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C884C-C751-4465-8A69-AF9BA635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1017B-5C15-463F-85E8-0DD6FC37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CC65F-CEBC-4F5D-9349-E9AD2BD7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81745-E873-4AC6-BC8F-31C3806B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4B7D6-4BB3-4B23-8914-E18723DD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17EE8-5B31-423B-B9B8-6F459C59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FC8-7323-4B3F-8BF7-B3F248A0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7C6-EE6C-49CC-BA6C-FCBC4A96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E71C-03E1-4691-9779-1F065180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0CF-F953-49B8-AA31-AAA94ECA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576-5F96-4B0E-B0C4-82C297DB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FD9A-6ADC-4004-8E66-AFEBE89F93A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7805-12D4-4EB5-9262-11BC18A7387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BAAF-C6F6-4026-BE88-1AF6B417A06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C65A-50C4-4133-B56C-45709CA4122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OTORU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4" name="Zástupný symbol pro obsah 2" descr=""/>
          <p:cNvPicPr/>
          <p:nvPr/>
        </p:nvPicPr>
        <p:blipFill>
          <a:blip r:embed="rId1"/>
          <a:stretch/>
        </p:blipFill>
        <p:spPr>
          <a:xfrm>
            <a:off x="1805040" y="3068640"/>
            <a:ext cx="5923080" cy="2376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AKE TAUP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6" name="Zástupný symbol pro obsah 3" descr=""/>
          <p:cNvPicPr/>
          <p:nvPr/>
        </p:nvPicPr>
        <p:blipFill>
          <a:blip r:embed="rId1"/>
          <a:stretch/>
        </p:blipFill>
        <p:spPr>
          <a:xfrm>
            <a:off x="2627280" y="2682720"/>
            <a:ext cx="4608720" cy="34531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UAPEHU VOLCAN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8" name="Zástupný symbol pro obsah 3" descr=""/>
          <p:cNvPicPr/>
          <p:nvPr/>
        </p:nvPicPr>
        <p:blipFill>
          <a:blip r:embed="rId1"/>
          <a:stretch/>
        </p:blipFill>
        <p:spPr>
          <a:xfrm>
            <a:off x="2484360" y="2765520"/>
            <a:ext cx="4608720" cy="3055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UNT COO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0" name="Zástupný symbol pro obsah 3" descr=""/>
          <p:cNvPicPr/>
          <p:nvPr/>
        </p:nvPicPr>
        <p:blipFill>
          <a:blip r:embed="rId1"/>
          <a:stretch/>
        </p:blipFill>
        <p:spPr>
          <a:xfrm>
            <a:off x="2616120" y="2852640"/>
            <a:ext cx="4403880" cy="2919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ONGARIRO NATIONAL PA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2" name="Zástupný symbol pro obsah 2" descr=""/>
          <p:cNvPicPr/>
          <p:nvPr/>
        </p:nvPicPr>
        <p:blipFill>
          <a:blip r:embed="rId1"/>
          <a:stretch/>
        </p:blipFill>
        <p:spPr>
          <a:xfrm>
            <a:off x="2182680" y="2997360"/>
            <a:ext cx="52689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KIW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4" name="Zástupný symbol pro obsah 3" descr=""/>
          <p:cNvPicPr/>
          <p:nvPr/>
        </p:nvPicPr>
        <p:blipFill>
          <a:blip r:embed="rId1"/>
          <a:stretch/>
        </p:blipFill>
        <p:spPr>
          <a:xfrm>
            <a:off x="2516040" y="2781360"/>
            <a:ext cx="4143600" cy="2757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ORI CUL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Zástupný symbol pro obsah 2" descr=""/>
          <p:cNvPicPr/>
          <p:nvPr/>
        </p:nvPicPr>
        <p:blipFill>
          <a:blip r:embed="rId1"/>
          <a:stretch/>
        </p:blipFill>
        <p:spPr>
          <a:xfrm>
            <a:off x="2408400" y="2708280"/>
            <a:ext cx="4755960" cy="3165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ORI CUL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8" name="Zástupný symbol pro obsah 3" descr=""/>
          <p:cNvPicPr/>
          <p:nvPr/>
        </p:nvPicPr>
        <p:blipFill>
          <a:blip r:embed="rId1"/>
          <a:stretch/>
        </p:blipFill>
        <p:spPr>
          <a:xfrm>
            <a:off x="2368440" y="2781360"/>
            <a:ext cx="4737240" cy="2951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Nový_Zél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elling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uckl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ew Zea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Novém Zélandu, nejzajímavější místa a města země. Prezentace slouží jako podpůrný materiál při výkladu učiva o reáliích anglicky mluvících zemí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ew Zealand, geography, population, cities, culture, Maor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NEW ZEA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462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68,680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4,5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WELLING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MAORI NAME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OTEARO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756160" cy="1378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462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ACIFIC OC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ORT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OUT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2756160" cy="1377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NEW ZEA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4" name="Zástupný symbol pro obsah 3" descr=""/>
          <p:cNvPicPr/>
          <p:nvPr/>
        </p:nvPicPr>
        <p:blipFill>
          <a:blip r:embed="rId1"/>
          <a:stretch/>
        </p:blipFill>
        <p:spPr>
          <a:xfrm>
            <a:off x="3203640" y="2492280"/>
            <a:ext cx="2952720" cy="3721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ELLING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New Zea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ori name: Te Whanganui-á-Ta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on the Nort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Zástupný symbol pro obsah 2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4606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UCK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town in New Zea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on the Nort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840 by the Brit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0" name="Zástupný symbol pro obsah 3" descr=""/>
          <p:cNvPicPr/>
          <p:nvPr/>
        </p:nvPicPr>
        <p:blipFill>
          <a:blip r:embed="rId1"/>
          <a:stretch/>
        </p:blipFill>
        <p:spPr>
          <a:xfrm>
            <a:off x="4519440" y="3141720"/>
            <a:ext cx="3957840" cy="2016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RISTCHUR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2" name="Zástupný symbol pro obsah 3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6624720" cy="21528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7:32Z</dcterms:modified>
  <cp:revision>34</cp:revision>
  <dc:subject/>
  <dc:title>EUROPEAN UNION</dc:title>
</cp:coreProperties>
</file>