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220-716F-43E5-A462-6D9E8A07AF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0594-4B1C-4912-97B4-6A741FBE6A1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CC2D-9143-422C-98FD-795DA32547A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D910-77B4-44F5-91C0-6CD5C0552B6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425-E652-4B20-8442-1740C133441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EDB6-5CC5-4CE2-9CF9-B95FC360E9A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E89D-F547-4EA2-8C63-FB5F11CBD89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DE3E-1DC7-442A-A7B2-633A92D4DF7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03F-4A17-4943-8412-AF7C4174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ABB-28BB-4D2E-AEDC-276ABD8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D8F-3DFE-422C-8D60-203CF01B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465-6EFC-4020-8680-11B5DBA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D68E-104B-498D-9A5D-2ECA4279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14E-A56A-48D1-8D59-00287FEF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304-8713-403A-A480-02B2EB99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6C0-DDA7-4635-8E5F-4823B50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4C3-8C47-4F63-9D53-2C923653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9081-098B-4AEB-89AF-9A7FE986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C8B-DC79-454E-90D9-5D9E870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F7D-F175-43D7-BBDF-BB4807E6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1EA0-16C7-421F-A53F-61FAF36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2BB-0AAA-4E55-BFE2-ED08D60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A8F5-7F38-4A36-BA42-C365A38E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4E14-728C-43F3-BCD8-4CFDF93A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9CDD-A570-4259-A34C-ACA3E674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2673-951C-48E7-853D-93196C30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6222-4375-4940-B244-EE3C150D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E44F-A4DB-41D3-BB8B-8F66C603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0F9A-C0D3-40B7-8B61-06C7DE0B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1AF7-D738-4AF5-9E25-A5C6706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E17-5BE6-4A5C-950B-8221C881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6725-F8B1-4F17-A9C4-C42B2A9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9666-50B7-4F03-B380-2D847C48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5B96-BAF2-49CD-97C6-FE2EC39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CAA1-134A-4DCA-B53F-6983C80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3502-4A65-4F62-AC9A-54D4CDA8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447F-8320-48D9-B212-E043B0D5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6754-94F7-476D-90C7-55D3DBD7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BE0F-A13F-4637-806E-AB3FE32D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6537-3D64-4C8B-A862-F073BC71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36EF-E70E-4300-8F90-1FF4C983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F9F-50D8-4C1D-93C9-FA49A8D6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D2B3-0B9D-459E-AC16-C91BA619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F1D6-2F3F-4599-995F-B9CD4740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8A711-5F38-4347-B0FE-ACD61A6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6741-49E1-4A67-BD22-ADFB2FC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D642-EA1D-467F-9D5E-EEC6574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FFD3-3253-4FBF-B4B6-716A632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4563-6C0B-4913-806C-CECAA98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8EE7-1753-4B20-9427-2FBCC36E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365E-3FFA-4A62-872C-42F3DA2A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C73-55F2-4134-97D4-C8A2EC66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E36-A2DA-4619-848E-B5E52C1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BA1-A396-42F6-92FC-921A257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A1E-4278-41EE-9976-6369FC9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D69-730E-45DF-8E40-C86DCFC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3FEF-2B72-42CE-922E-D4A03D30906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8F9E-3FD5-4C56-B3A9-7A4956B683D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BEC-ABBB-4FF5-BEFA-AB07E6C0519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142-0155-4ABE-A4F3-46B33564836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Lackland (1199-121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 1204 he lost control of 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ocking name „soft sword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gna Carta (king´s rights were limi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928960" cy="194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II (1216-127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III became king at the age of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 lot of uprising and civil wars during his re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421240" y="3290760"/>
            <a:ext cx="2679840" cy="204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 (1272-13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ammer of the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alled first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298 defeated the Scots at the Battle of Falki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Wallace, Robert 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160720" cy="302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 (1307-13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married Isabela, the daughter of King Philip IV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fected for Gavestone, a Gascon kn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14 Robert Bruce crushed English a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411280" cy="2919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I (1327-137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0 he proclaimed himself King of France which started Hundred Years´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6 – the Battle of Crécy (Calais      English colo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8 – 1349 Black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2924280"/>
            <a:ext cx="2232360" cy="292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40" name="Šipka doprava 4"/>
          <p:cNvSpPr/>
          <p:nvPr/>
        </p:nvSpPr>
        <p:spPr>
          <a:xfrm>
            <a:off x="2411280" y="5133960"/>
            <a:ext cx="505080" cy="2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 (1377-139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youngest son of Edward the Black Prince and Joan of K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82 – Ann of Boh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ights against the 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mprisoned, died in 1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6443640" y="3068640"/>
            <a:ext cx="2016000" cy="2668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V (1399-141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ebatable claim to the thr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05 – uprising in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earful of assasination, ill and troubled but rather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3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032200" cy="2663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 (1413-142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ligent, musical, able to read and wri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led two great expeditions to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20 – the Treaty of Troyes recognised him as King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087640" cy="2913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 (1422-1461 and 1470-147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ounded Eton College and King´s College in Cam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ost his father´s conquests in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ars of Ro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S OF RO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38956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Y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5 – 148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85 -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30765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itish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Británi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history, king, queen, bat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49360" y="115920"/>
            <a:ext cx="529776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V (1461-1470 and 1471-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upported by Richard Neville, the Earl of War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0 – flee to Burgu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1 – The Battle of Tewkesbury (Bloody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 (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ver crowned, is remembered as one of the two „Princes in the Tow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I (1483-14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85 –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840040" cy="1873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 (1485-150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Tu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 adventures in 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24 years of pe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5773680" y="2781360"/>
            <a:ext cx="2327400" cy="3011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I (1509-154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x w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break with Rome paved the way for England to become a Protesta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r Thomas Mo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5985000" y="2781360"/>
            <a:ext cx="2333520" cy="295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X WIVES OF HENRY VI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of Ara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Boley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Jane Seym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of Cle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Ho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Par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2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421000" cy="3105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 (1547-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came King at the age of 10, died of tuberculousis in 15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dy Jane Grey (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ine-days´queen, th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6227640" y="2924280"/>
            <a:ext cx="2163960" cy="2952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y I (1553-155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most severe Catholic ruler called „Bloody Mary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he believed her task was to restore England to Catholic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2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274840" cy="3009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 (1558-160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 Queen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verseas explo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587 Mary Stuart 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rancis Drake, Robert Cecil, the Arm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5761080" y="2938320"/>
            <a:ext cx="2195640" cy="318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 (1603-162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Henry Stuart and Mary, Queen of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became King of England and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05 Guy Fawk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2401920" cy="3178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 (1625-164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ghts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Expensive wars with France and S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ivil war in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behead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2" descr=""/>
          <p:cNvPicPr/>
          <p:nvPr/>
        </p:nvPicPr>
        <p:blipFill>
          <a:blip r:embed="rId1"/>
          <a:stretch/>
        </p:blipFill>
        <p:spPr>
          <a:xfrm>
            <a:off x="5600880" y="2924280"/>
            <a:ext cx="2355840" cy="2930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BRITISH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liver Crom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– Execution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53 – Cromwell becam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rd Prot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0 – Monarchy was rest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I (1660-16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ounded Greenwich Observatory and Royal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5 – Great Plague (100,000 people di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6 – Great Fire of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I (1685-16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ring Civil War, in 1648 he escaped to Holland dressed as a gir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ither English people nor the Parliament liked h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throne offered to William of Or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Zástupný symbol pro obsah 2" descr=""/>
          <p:cNvPicPr/>
          <p:nvPr/>
        </p:nvPicPr>
        <p:blipFill>
          <a:blip r:embed="rId1"/>
          <a:stretch/>
        </p:blipFill>
        <p:spPr>
          <a:xfrm>
            <a:off x="5678640" y="3038400"/>
            <a:ext cx="2349360" cy="2881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II (1689-1702) </a:t>
            </a:r>
            <a:r>
              <a:rPr b="0" i="1" lang="cs-CZ" sz="2400" spc="-1" strike="noStrike">
                <a:solidFill>
                  <a:srgbClr val="002060"/>
                </a:solidFill>
                <a:latin typeface="Arial"/>
              </a:rPr>
              <a:t>(jointly Mary II (1689-1694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William II, Prince of Orange and Mary, daughter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tch ru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lorious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351160" cy="2935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nne (1702-17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ly inherited throne at the age of 3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rince George of Denm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17 children, all died in infancy or early childh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068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 (1714-17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otestant of German ori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nnover dynas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ut his trust in Walpole´s Whig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10120" cy="30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 (1727-17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led self-important, fussy, hardworking, skirt-cha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3 – the Battle of Detti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5 - Jacobite rebe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2344680" cy="2890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I (1760-182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76 – Declaration of Independence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89 – French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05 – The Battle of Trafalg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15 – The Battle of Waterlo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9" name="Zástupný symbol pro obsah 3" descr=""/>
          <p:cNvPicPr/>
          <p:nvPr/>
        </p:nvPicPr>
        <p:blipFill>
          <a:blip r:embed="rId1"/>
          <a:stretch/>
        </p:blipFill>
        <p:spPr>
          <a:xfrm>
            <a:off x="5533920" y="2852640"/>
            <a:ext cx="2422800" cy="29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V (1821-18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iked fashionable clothes and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de Brighton and Bath places to see and be s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V (1830-183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lly Billy“, the sailo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2924280"/>
            <a:ext cx="2430360" cy="291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ictoria (1837-19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ctorian 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ig political and economical role of Bri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ustralia, Egypt, South Africa, Cyprus, Hongk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Alb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354400" cy="332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,000 BC settlers from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introduced farming, pottery and ston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tonehe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veb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199120" y="3141720"/>
            <a:ext cx="3076560" cy="2303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 (1901-19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to wait almost 60 years to become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old-age pensions and National Insuranc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ot the title „Peacemak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38400" cy="3020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 (1910-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reign was overshadowed by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1 - first British emperor to visit In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2 - Tita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1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2286000" cy="2744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I (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only British sovereign to resign the throne of his own will (he decided for twice-divorced Mrs Wallis Simps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was made Duke of Windsor and lived a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4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49560" cy="3503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I (1936-19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e V´s second son Albert („Bertie“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tayed in London during Blit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 trusted ally for Church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7" name="Zástupný symbol pro obsah 3" descr=""/>
          <p:cNvPicPr/>
          <p:nvPr/>
        </p:nvPicPr>
        <p:blipFill>
          <a:blip r:embed="rId1"/>
          <a:stretch/>
        </p:blipFill>
        <p:spPr>
          <a:xfrm>
            <a:off x="5370480" y="3328920"/>
            <a:ext cx="2913120" cy="204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454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I (1952-  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orn in 192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 the World War I she joined the Auxiliary Transport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hilip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son Prince Char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Zástupný symbol pro obsah 2" descr=""/>
          <p:cNvPicPr/>
          <p:nvPr/>
        </p:nvPicPr>
        <p:blipFill>
          <a:blip r:embed="rId1"/>
          <a:stretch/>
        </p:blipFill>
        <p:spPr>
          <a:xfrm>
            <a:off x="5724360" y="2724120"/>
            <a:ext cx="2511720" cy="3081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Williams B., Williams B. 2004. Kings and Queens, Pitkin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ijny_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BC the Ce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e of their tribes was called Brit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5 BC – 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the Rom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Britan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705040"/>
            <a:ext cx="2448000" cy="3268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 AND SAX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Angles and Sax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came from Germany, Denmark and the Nether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gle -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413320" y="2637000"/>
            <a:ext cx="2405160" cy="3095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NORM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Vi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Normans invaded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66 The battle of Hast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the Conque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LLIAM THE CONQUER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ly four visits to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omesday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dholdings were listed, described and assessed for tax and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DIEVAL 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ivil w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rnational confli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olitical plots between nobles and 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ichard I (the Lion heart) - Crus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4941720" y="2924280"/>
            <a:ext cx="3210120" cy="2449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03Z</dcterms:modified>
  <cp:revision>79</cp:revision>
  <dc:subject/>
  <dc:title>EUROPEAN UNION</dc:title>
</cp:coreProperties>
</file>