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BAC3-F8A4-458F-853A-EEB4C41EDA2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0E9E-5C5C-4B52-A686-7DC991AC1F48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04EC-5779-49CC-9E86-6AD08CCF9973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144A-1FFA-4C99-9E97-999A87524310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07A0-5882-45D3-86E1-23F4E60891B5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ABD2-E8E9-4374-A454-8F2EB0A6844D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45BB-CF41-4F34-B2AE-3998962F6550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1C30-2F4F-4B8C-AE0C-0015D5C26BC3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A86E-6572-404C-87A9-3650CC9EF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F250-92A3-4C73-92A7-3366DDA0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0575-F0CE-4FA8-96B9-344F9E842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94C7-F058-423F-886D-3FC0D177E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799B-69B0-4E31-950A-034D43FAD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4AAF-4B74-4B88-8DEA-E2916E0A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F063-0EA4-438B-8C33-D1BF2D45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0E96-4051-4037-845F-1327AA90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B0DA-76CE-4E36-82A7-6558383D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B627-5AE5-47F2-A51B-D5ABFA22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9DFA-8CDF-49B8-B510-85A4610A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823E-8E4A-4E5B-AD01-E71E7B67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BAE4-35A8-4622-88EC-58451FC4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8724-AC4A-4E3E-B1A4-7F0DBA00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20C8-A54A-4660-8109-CF35C3C7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15EA-C3F6-4ADF-949E-414E6E62B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1224-2D11-4BD1-A705-4CC1FD517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E6028-CDC7-43B4-8ADC-ACD1C3A4F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C21A0-8F8F-4A2F-92BB-996338C8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9D1EE-4D52-4139-B095-ABA3064C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2D1EE-73C8-4879-B0CF-0488DB4E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C41D4-A473-4318-9106-0CBD7428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B39A-A724-4DA5-B1DB-3D8C1CA2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0DCA7-806D-48BA-98AB-558B9983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985AF-4228-4040-A699-47FB5146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66D4B-7259-4252-B3CE-1BEEC4BE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595EF-4A94-49A6-85EF-0AB2FC04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8CFB9-6B76-41AB-BFFD-CDD9DF93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D002B-A195-43A9-BE88-D2E3CC5FD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8A32A-0033-4E72-9382-453A00B6E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212E1-37CA-4BC6-BA78-D137BFFBF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4826F-4BE4-43AA-8C5A-13902864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D1FE7-8CE3-4D65-AF29-3CAB5FC4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58D5-616F-4C6B-A4A3-6397F020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7F0E6-0815-4AE8-9135-CB3B113C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A159F-3C16-4DAE-A2D4-2BB4DCCA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69293-FB84-4121-B611-28737CCB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0CB24-3002-4B9C-90F9-023AF728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336E5-C88B-4633-A7B5-A85B7C09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E338E-1D0B-467E-BECA-C75BB125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71DB6-081B-48B6-B96E-471DEF40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43818-F504-45F2-B4CE-0014B8F03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789F8-BC4F-43F9-88D5-7378CCA90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C07E-4681-4A6F-A30F-7A812E38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8D5A-16E0-4986-8652-83A6D347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80CE-4191-466E-B0A3-A76496C9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021C-F994-4275-920B-5604FA8C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D4E9-0F1E-420E-8ED3-A3B184E9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C1A3-1FE4-4972-A61C-3ABEEF28AFC5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6486-7708-4778-B68A-D4A4D0A48A50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CD3A-926A-43BC-B320-D76CCF493664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651D-7A3C-41C2-8419-6C6BCE434A5B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2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1 / 20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116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YOR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rkshi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rk minster (gothic cathedra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lifford´s Tow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Sham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0" name="Zástupný symbol pro obsah 2" descr=""/>
          <p:cNvPicPr/>
          <p:nvPr/>
        </p:nvPicPr>
        <p:blipFill>
          <a:blip r:embed="rId1"/>
          <a:stretch/>
        </p:blipFill>
        <p:spPr>
          <a:xfrm>
            <a:off x="4932360" y="2997360"/>
            <a:ext cx="3556080" cy="2663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NEWCASTLE UPON TY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021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orth-east Eng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ounded by the Roman emperor Hadri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adrian wa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3" name="Zástupný symbol pro obsah 3" descr=""/>
          <p:cNvPicPr/>
          <p:nvPr/>
        </p:nvPicPr>
        <p:blipFill>
          <a:blip r:embed="rId1"/>
          <a:stretch/>
        </p:blipFill>
        <p:spPr>
          <a:xfrm>
            <a:off x="4911840" y="2924280"/>
            <a:ext cx="3555720" cy="26654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  <p:pic>
        <p:nvPicPr>
          <p:cNvPr id="234" name="Picture 2" descr="http://upload.wikimedia.org/wikipedia/commons/thumb/b/b7/Hadrian%27s_wall_at_Greenhead_Lough.jpg/220px-Hadrian%27s_wall_at_Greenhead_Lough.jpg"/>
          <p:cNvPicPr/>
          <p:nvPr/>
        </p:nvPicPr>
        <p:blipFill>
          <a:blip r:embed="rId2"/>
          <a:stretch/>
        </p:blipFill>
        <p:spPr>
          <a:xfrm>
            <a:off x="2050920" y="4508640"/>
            <a:ext cx="2095560" cy="15714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RIGHT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outhern coast of Eng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righton Pi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vill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.Nicholas´ Chu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7" name="Zástupný symbol pro obsah 2" descr=""/>
          <p:cNvPicPr/>
          <p:nvPr/>
        </p:nvPicPr>
        <p:blipFill>
          <a:blip r:embed="rId1"/>
          <a:stretch/>
        </p:blipFill>
        <p:spPr>
          <a:xfrm>
            <a:off x="5364000" y="4292640"/>
            <a:ext cx="2552760" cy="1790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  <p:pic>
        <p:nvPicPr>
          <p:cNvPr id="238" name="Obrázek 4" descr=""/>
          <p:cNvPicPr/>
          <p:nvPr/>
        </p:nvPicPr>
        <p:blipFill>
          <a:blip r:embed="rId2"/>
          <a:stretch/>
        </p:blipFill>
        <p:spPr>
          <a:xfrm>
            <a:off x="5364000" y="2276640"/>
            <a:ext cx="2538720" cy="19015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TRATFORD UPON AV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arwickshi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ar Birmingha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hakespeare´s birthpl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oly Trinity Chu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oyal Shakespeare theat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1" name="Zástupný symbol pro obsah 3" descr=""/>
          <p:cNvPicPr/>
          <p:nvPr/>
        </p:nvPicPr>
        <p:blipFill>
          <a:blip r:embed="rId1"/>
          <a:stretch/>
        </p:blipFill>
        <p:spPr>
          <a:xfrm>
            <a:off x="4911840" y="2924280"/>
            <a:ext cx="3555720" cy="26654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  <a:ea typeface="Arial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Angli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Yor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Bright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onverzace z anglického jazy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nglan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fakta o Anglii, nejdůležitější města a památky. Prezentace slouží jako podpůrný materiál při výkladu učiva o anglických reáliích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ngland, area, population, capital, sightseeing, c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684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ENGL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SIGHTSEE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A: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130 395 km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PULATION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53 mi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LOND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Zástupný symbol pro obsah 4" descr=""/>
          <p:cNvPicPr/>
          <p:nvPr/>
        </p:nvPicPr>
        <p:blipFill>
          <a:blip r:embed="rId1"/>
          <a:stretch/>
        </p:blipFill>
        <p:spPr>
          <a:xfrm>
            <a:off x="5940360" y="3500280"/>
            <a:ext cx="2095560" cy="12574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LOND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Eng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uckingham Pal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stminster Abb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wer Brid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iver Tha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Zástupný symbol pro obsah 4" descr=""/>
          <p:cNvPicPr/>
          <p:nvPr/>
        </p:nvPicPr>
        <p:blipFill>
          <a:blip r:embed="rId1"/>
          <a:stretch/>
        </p:blipFill>
        <p:spPr>
          <a:xfrm>
            <a:off x="4761000" y="2968560"/>
            <a:ext cx="3998880" cy="2664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IRMINGHA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st Midla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ver 1 million inhabit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ull R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elfridg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5" name="Zástupný symbol pro obsah 6" descr=""/>
          <p:cNvPicPr/>
          <p:nvPr/>
        </p:nvPicPr>
        <p:blipFill>
          <a:blip r:embed="rId1"/>
          <a:stretch/>
        </p:blipFill>
        <p:spPr>
          <a:xfrm>
            <a:off x="4761000" y="2968560"/>
            <a:ext cx="3998880" cy="26640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LIVERPOO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ity of Beat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bert Do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iverpool cathedr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8" name="Zástupný symbol pro obsah 2" descr=""/>
          <p:cNvPicPr/>
          <p:nvPr/>
        </p:nvPicPr>
        <p:blipFill>
          <a:blip r:embed="rId1"/>
          <a:stretch/>
        </p:blipFill>
        <p:spPr>
          <a:xfrm>
            <a:off x="4859280" y="3716280"/>
            <a:ext cx="3043440" cy="22813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  <p:pic>
        <p:nvPicPr>
          <p:cNvPr id="219" name="Obrázek 3" descr=""/>
          <p:cNvPicPr/>
          <p:nvPr/>
        </p:nvPicPr>
        <p:blipFill>
          <a:blip r:embed="rId2"/>
          <a:stretch/>
        </p:blipFill>
        <p:spPr>
          <a:xfrm>
            <a:off x="6156360" y="2386080"/>
            <a:ext cx="1584360" cy="1576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http://upload.wikimedia.org/wikipedia/commons/thumb/9/91/Liverpool_Anglican_Cathedral_North_elevation.jpg/220px-Liverpool_Anglican_Cathedral_North_elevation.jpg"/>
          <p:cNvPicPr/>
          <p:nvPr/>
        </p:nvPicPr>
        <p:blipFill>
          <a:blip r:embed="rId3"/>
          <a:stretch/>
        </p:blipFill>
        <p:spPr>
          <a:xfrm>
            <a:off x="1619280" y="4149720"/>
            <a:ext cx="2949480" cy="20368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OV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ite cliff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34 km from F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Kent coun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3" name="Zástupný symbol pro obsah 2" descr=""/>
          <p:cNvPicPr/>
          <p:nvPr/>
        </p:nvPicPr>
        <p:blipFill>
          <a:blip r:embed="rId1"/>
          <a:stretch/>
        </p:blipFill>
        <p:spPr>
          <a:xfrm>
            <a:off x="4911840" y="2924280"/>
            <a:ext cx="3555720" cy="26654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NCHES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orth-west Eng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500,000 inhabit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ootba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6" name="Zástupný symbol pro obsah 3" descr=""/>
          <p:cNvPicPr/>
          <p:nvPr/>
        </p:nvPicPr>
        <p:blipFill>
          <a:blip r:embed="rId1"/>
          <a:stretch/>
        </p:blipFill>
        <p:spPr>
          <a:xfrm>
            <a:off x="4932360" y="2997360"/>
            <a:ext cx="3649680" cy="2663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  <p:pic>
        <p:nvPicPr>
          <p:cNvPr id="227" name="Picture 6" descr=" "/>
          <p:cNvPicPr/>
          <p:nvPr/>
        </p:nvPicPr>
        <p:blipFill>
          <a:blip r:embed="rId2"/>
          <a:stretch/>
        </p:blipFill>
        <p:spPr>
          <a:xfrm>
            <a:off x="2484360" y="4724280"/>
            <a:ext cx="119088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7-16T14:35:28Z</dcterms:modified>
  <cp:revision>20</cp:revision>
  <dc:subject/>
  <dc:title>EUROPEAN UNION</dc:title>
</cp:coreProperties>
</file>