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241C-0264-467B-A82C-B77FCDBE676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E28E-621E-46A7-B6DC-B46FA6C6151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158E-1733-4DF7-B8BC-CE0BD28ADD5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A766-E859-4850-9CD7-F08F5472A4A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8B15-9AC0-4EE4-900B-FD47F5AA348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D9CC-3F3A-4F18-A727-77BF40CBD7E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27C7-058F-4A56-884C-E3D6F5CFF98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20DA-B5C1-4DAD-B2EC-3779FC0D56B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7E6C-3C7A-4106-8C7E-9C9D93F39F0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D90-2C3E-4292-8710-B24D87B8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6F98-2DA6-4118-B0B0-B057C34E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D4CE-6872-42C0-8113-E4413A05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D83A-B9FF-4370-A221-D52A283B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D604-8819-4676-ADDF-E7BA751B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6B67-77AD-4622-B649-CE69F39F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EB79-8838-426B-B26A-EFBD3E4C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F515-F9CF-4D85-BC28-CF8B676E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D62E-9604-456B-A7C6-365FCC16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09DE-DE83-4A3D-9D73-A88ACDCC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BAEF-B166-43C7-953D-0FB83F53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25F-E240-487D-A067-9ADF599D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1FA9-BE2D-4EAA-A970-C573A110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8590-393A-41CB-A486-865724FD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1D43-1A08-4C21-A60F-E2A7162F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D5DD-A682-4BB9-82CA-5FB54B68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7A22-FC2F-49D7-8803-4A7090B7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32D93-20D2-46ED-A86D-17C6143D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1DB27-11AD-4153-971C-7347FB45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1B661-BF91-4389-B44E-90161EF9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17234-87CA-4C6E-BF2F-A8A6AB1F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64E1F-5734-465D-87C3-62F25B3F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45C2-659D-49AE-BCE0-5B60E41B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2260D-574A-4F1A-9A26-0126D7C2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6166B-EBEB-4F43-AE84-D5DFB39D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E1966-C77B-4CC0-BC89-8390BFC4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E230D-4FDA-450E-AF22-EE0B62DC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92EC7-9F32-47CF-89DC-9D985051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86872-BEE0-4530-9EE9-4BF537B2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452F4-2556-4765-ADBD-DA580270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27EC4-9503-4EFC-B49C-F995AFB6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07B06-0AA4-4A48-90D4-A5DECEBE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8412D-0D62-4209-82FE-C04DD90D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FC1-134F-46C8-BA73-5D323337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1195A-D6A3-4872-A820-B2192BEA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A790D-D030-416A-82DD-04C22CE5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7E45E-95E0-45E6-A77D-ABBF4043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B21D2-B944-4C27-AFE0-6D7BB616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49217-D90B-407D-9097-603BFB1C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066FC-0338-4527-ACA0-34BC1356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D92CB-F164-43EA-9804-AD73A450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5A57E-0BB8-4814-AA6B-FD28D17E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BB1D1-B614-486F-BA04-7E7A3B8E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C014-3D91-416E-A2D3-EA1D83A9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7DA-23C3-4206-AAE4-E9BBE615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16E-1196-4710-9F82-C64831D0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6FD-B2E3-44CA-BA7D-9D6EB510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6C1-B213-44A5-97B6-D8F6E2EA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B0B4-EA2B-4120-8147-BD8ECC357671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C455-A401-44BF-8C0E-73BE0BB8972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4F9D-9A66-4810-9B56-948C9D6C809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6716-6DF4-472E-8956-C94CD6ECDBD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4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roles of the Counc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pass European la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oordinate economic policies in member st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onclude international agreements between the EU and other countries and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roles of the Counc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approve the EU´s budget together with the Parlia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develop common foreign affairs and security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oordinate cooperation between the national courts and police forc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nfigurations in the Counc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eneral affairs and external rel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conomic and financial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ustice and home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mployment, social policy, health and consumer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mpetit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nfigurations in the Counc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ansport, telecommunications and ener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griculture and fishe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ducation, youth and cul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EUROPEAN COMMI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ependent on national governments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presents the interests of EU as a who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xecutive EU´s bo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mplements the decision of Parliament and the Counc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EUROPEAN COMMI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adquarters in Bruss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ices in Luxembou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ppointed for 5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osé Manuel Barroso –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Štefan Füle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Czech commission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Picture 13" descr="fule"/>
          <p:cNvPicPr/>
          <p:nvPr/>
        </p:nvPicPr>
        <p:blipFill>
          <a:blip r:embed="rId1"/>
          <a:stretch/>
        </p:blipFill>
        <p:spPr>
          <a:xfrm>
            <a:off x="5076720" y="2781360"/>
            <a:ext cx="34815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role of the Commiss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propose legislation to the Parlia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manage and implement EU policies and the budg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enforce European la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represent the EU on the international st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RT OF JUST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 judge for each member st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7 judges and 8 general attorney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make sure that EU legislation is interpreted and applied in the same way in all EU member coun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RT OF JUST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assilios Skouris – the chairm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iří Malenovský – the Czech ju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RT OF AUDI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t up in 1975, has its seat in Luxembou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heck that EU funds are properly collected and spent legally, economically and for the intended purp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800 staff including translators and administrators and audi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eálie anglicky mluvících zemí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rganizace Evropské Uni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jak funguje Evropská Unie, jaké má organizace a jaká je jejich role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uropean Union, organisation, Parliament, council, committee, law, budg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RT OF AUDI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auditors are divided into audit grou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epare draft reports, the Court takes deci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auditors go on tours of inspections to the other EU institutions, the member states and any country receiving EU ai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RT OF AUDI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Vitor Manuel da Silva Caldeira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Jan Kinšt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the Czech audi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CHANGES AFTER LISBON TREA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Lisbon Treaty established two new important position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e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e Minister of Foreign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ESIDENT OF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187280" y="371628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Herman van Rompu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1" name="Picture 9" descr="rompuy 2"/>
          <p:cNvPicPr/>
          <p:nvPr/>
        </p:nvPicPr>
        <p:blipFill>
          <a:blip r:embed="rId1"/>
          <a:stretch/>
        </p:blipFill>
        <p:spPr>
          <a:xfrm>
            <a:off x="5508720" y="2708280"/>
            <a:ext cx="2736720" cy="2373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INISTER OF FOREIGN AFFAI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187280" y="371628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atherine ASH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5" name="Picture 6" descr="ashton"/>
          <p:cNvPicPr/>
          <p:nvPr/>
        </p:nvPicPr>
        <p:blipFill>
          <a:blip r:embed="rId1"/>
          <a:stretch/>
        </p:blipFill>
        <p:spPr>
          <a:xfrm>
            <a:off x="5508720" y="3095640"/>
            <a:ext cx="2808360" cy="2133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4. ORGANISING THE </a:t>
            </a:r>
            <a:br>
              <a:rPr sz="3600"/>
            </a:b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UROPEAN UN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THE END OF 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UROPEAN UN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3357360"/>
            <a:ext cx="401328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ORGANISING T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EUROPEAN U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4" descr="eu vlajka"/>
          <p:cNvPicPr/>
          <p:nvPr/>
        </p:nvPicPr>
        <p:blipFill>
          <a:blip r:embed="rId1"/>
          <a:stretch/>
        </p:blipFill>
        <p:spPr>
          <a:xfrm>
            <a:off x="755640" y="4005360"/>
            <a:ext cx="237636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ganising the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09" name="Organization Chart 7"/>
          <p:cNvGrpSpPr/>
          <p:nvPr/>
        </p:nvGrpSpPr>
        <p:grpSpPr>
          <a:xfrm>
            <a:off x="833400" y="2637000"/>
            <a:ext cx="7632360" cy="3376800"/>
            <a:chOff x="833400" y="2637000"/>
            <a:chExt cx="7632360" cy="3376800"/>
          </a:xfrm>
        </p:grpSpPr>
        <p:cxnSp>
          <p:nvCxnSpPr>
            <p:cNvPr id="210" name="_s1028"/>
            <p:cNvCxnSpPr>
              <a:stCxn id="211" idx="0"/>
              <a:endCxn id="212" idx="2"/>
            </p:cNvCxnSpPr>
            <p:nvPr/>
          </p:nvCxnSpPr>
          <p:spPr>
            <a:xfrm flipH="1" flipV="1" rot="5400000">
              <a:off x="3525480" y="3539160"/>
              <a:ext cx="676080" cy="1572120"/>
            </a:xfrm>
            <a:prstGeom prst="bentConnector3">
              <a:avLst>
                <a:gd name="adj1" fmla="val 1550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13" name="_s1029"/>
            <p:cNvCxnSpPr>
              <a:stCxn id="214" idx="0"/>
              <a:endCxn id="212" idx="2"/>
            </p:cNvCxnSpPr>
            <p:nvPr/>
          </p:nvCxnSpPr>
          <p:spPr>
            <a:xfrm flipV="1">
              <a:off x="4649760" y="3987360"/>
              <a:ext cx="2160" cy="67608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15" name="_s1030"/>
            <p:cNvCxnSpPr>
              <a:stCxn id="216" idx="0"/>
              <a:endCxn id="212" idx="2"/>
            </p:cNvCxnSpPr>
            <p:nvPr/>
          </p:nvCxnSpPr>
          <p:spPr>
            <a:xfrm flipV="1" rot="16200000">
              <a:off x="5883120" y="2753280"/>
              <a:ext cx="676080" cy="3143520"/>
            </a:xfrm>
            <a:prstGeom prst="bentConnector3">
              <a:avLst>
                <a:gd name="adj1" fmla="val 1550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17" name="_s1031"/>
            <p:cNvCxnSpPr>
              <a:stCxn id="218" idx="0"/>
              <a:endCxn id="212" idx="2"/>
            </p:cNvCxnSpPr>
            <p:nvPr/>
          </p:nvCxnSpPr>
          <p:spPr>
            <a:xfrm flipV="1" rot="16200000">
              <a:off x="5097240" y="3539160"/>
              <a:ext cx="676080" cy="1572120"/>
            </a:xfrm>
            <a:prstGeom prst="bentConnector3">
              <a:avLst>
                <a:gd name="adj1" fmla="val 1550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19" name="_s1032"/>
            <p:cNvCxnSpPr>
              <a:stCxn id="220" idx="0"/>
              <a:endCxn id="212" idx="2"/>
            </p:cNvCxnSpPr>
            <p:nvPr/>
          </p:nvCxnSpPr>
          <p:spPr>
            <a:xfrm flipH="1" flipV="1" rot="5400000">
              <a:off x="2739960" y="2753640"/>
              <a:ext cx="676080" cy="3143520"/>
            </a:xfrm>
            <a:prstGeom prst="bentConnector3">
              <a:avLst>
                <a:gd name="adj1" fmla="val 15503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212" name="_s1033"/>
            <p:cNvSpPr/>
            <p:nvPr/>
          </p:nvSpPr>
          <p:spPr>
            <a:xfrm>
              <a:off x="3976200" y="263700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EUROPEAN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TITU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_s1034"/>
            <p:cNvSpPr/>
            <p:nvPr/>
          </p:nvSpPr>
          <p:spPr>
            <a:xfrm>
              <a:off x="833400" y="466308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EUROPEAN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RLIAME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_s1035"/>
            <p:cNvSpPr/>
            <p:nvPr/>
          </p:nvSpPr>
          <p:spPr>
            <a:xfrm>
              <a:off x="5547600" y="466308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THE COURT OF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_s1036"/>
            <p:cNvSpPr/>
            <p:nvPr/>
          </p:nvSpPr>
          <p:spPr>
            <a:xfrm>
              <a:off x="7119000" y="466308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Arial"/>
                </a:rPr>
                <a:t>THE COURT OF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Arial"/>
                </a:rPr>
                <a:t>AUDITORS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_s1037"/>
            <p:cNvSpPr/>
            <p:nvPr/>
          </p:nvSpPr>
          <p:spPr>
            <a:xfrm>
              <a:off x="3976200" y="466308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Arial"/>
                </a:rPr>
                <a:t>THE EUROPEAN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Arial"/>
                </a:rPr>
                <a:t>COMMISSION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_s1038"/>
            <p:cNvSpPr/>
            <p:nvPr/>
          </p:nvSpPr>
          <p:spPr>
            <a:xfrm>
              <a:off x="2404800" y="466308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THE COUNCIL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OF EU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EUROPEAN PARLIA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nce 1979 the members are elected directly for five-year ter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54 members from 27 coun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2 Czech memb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numbers was slightly changed according to the Lisbon Trea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t national but political bl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EUROPEAN PARLIA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Luxembourg (administrative offices - the General Secretariat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russels and Strasbourg (meeting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Jerzy Buzek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– the Presid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roles of the Parlia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ssing European la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mocratic supervision over the EU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nancial power (shares together with the Council the authority over the budge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NCIL OF THE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main decision-making bo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presents member st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eetings are attended by one minister from each EU national gover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NCIL OF THE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ermanent national teams in Bruss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ZE has 12 votes out of 34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power of veto / qualified majo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presidency rotates every 6 mont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orbjørn Jaglan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(Secretary-General of the Counci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9:59Z</dcterms:modified>
  <cp:revision>20</cp:revision>
  <dc:subject/>
  <dc:title>EUROPEAN UNION</dc:title>
</cp:coreProperties>
</file>