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AF04-22A9-4AEB-8E36-A988514CFE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9A51-1C54-4D2E-A208-367F211BC54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2A59-13AA-4118-A2FC-6903AEC1DB9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A71E-8D6E-4941-A62B-3546836BF77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320C-800C-41CE-A6DA-D82694D6A6A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2D24-A022-4959-A2DF-C501ECA00AB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3C17-00F2-4129-82BE-A6B1610FF1E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2D9A-4FA3-4957-8D89-5C27F00B66F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CF2-1FAA-497B-B11C-E9D84F1F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295-76CC-4A8E-8EDB-D42CFC50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5E9-9B46-48DE-890D-050D1AA7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E4B-0DB1-4C35-9CC7-FCBBB67D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99DC-FBA0-4E88-A812-2E75C71F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2082-1B54-46A0-B0DF-6D6C22DC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C18C-5AF8-4A71-B746-3DDDE646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374E-EA08-42C2-873C-560583D1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11A8-0750-4C20-AC36-0542C06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6ADB-06B6-45DD-B3AD-F1B8B16E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7F5C-8AC0-47E6-80EB-E513783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9ED-E7B4-49B7-ADCB-EA087D8C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8B16-7A3A-400B-8384-FB2ADF0E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1E77-ED25-48D6-B514-4BA98C7E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9A2E-1973-48AE-AB27-C090C2F7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65B8-DB07-4029-8A23-4F7509EF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1DFA-AE3B-4791-97C2-71395E7A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C4204-EFE7-445F-95F9-9FDFEB89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50BC-BFD0-4F21-9EC4-7B65E190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D347F-7E9A-45E1-8F30-1737C2B0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5613-AADF-4289-8872-F73E36EE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6BA6-140B-4D04-AED2-1DC5882C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E96-017E-4DC5-AFC4-6F86EE48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FEA6-71B3-425C-A7F6-EDA88110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CB5D-F485-4F04-B942-C5FAB7DB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615F3-6F39-41E7-8B71-6D75358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1E25-07AA-45F8-8282-1E413B75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1B0A-CB5D-4C56-8300-F254EEAD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90B7-F5A9-40E4-8A51-9F3008A3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37B6-B7A7-4BF7-B9D4-D67377E7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3808-7BE6-4202-A005-89381E49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A4682-AABD-468A-A094-CA236907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746C-9FBB-40A6-ACD8-761A58C4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6F7-F416-44EB-A14C-D16D8B91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950C8-12A7-41C3-AAC2-0F5B8D5B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2590-1687-4BF7-80F5-5C65B953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EF934-6419-4C99-A199-CB753490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2E39-D9C7-49C3-89A5-6063E7EE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A8A7B-1B6D-462D-ACF5-4EA0C136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4A0D-FE32-4B56-9345-1081C48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D6540-AE51-4CFC-8398-E122EA85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CF63-DB76-4DE6-A8D2-684B702C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19174-BD45-4E52-A868-474E52F0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E30-3BB2-4906-ABD9-87FB96F3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0FC-909F-4731-BD01-315AF264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D50-B21E-423B-9A98-35BBB62E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055-62F2-44A2-815F-DB9E502A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74C-AF9D-44D9-8B7F-11592AC0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FF64-D7D3-4A6B-B394-FD0246F2F5C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F158-5AB8-42A0-A31B-DD864359522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DAEF-88DA-4376-BA76-76F4DBF95D7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F279-0541-48FD-8D8C-FB60A462E8C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.PATRICK´S CATHED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3" name="Zástupný symbol pro obsah 2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760640" cy="3168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RISTCHURCH CATHED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5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698920"/>
            <a:ext cx="4681800" cy="314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INITY COLLE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7" name="Zástupný symbol pro obsah 2" descr=""/>
          <p:cNvPicPr/>
          <p:nvPr/>
        </p:nvPicPr>
        <p:blipFill>
          <a:blip r:embed="rId1"/>
          <a:stretch/>
        </p:blipFill>
        <p:spPr>
          <a:xfrm>
            <a:off x="2298600" y="2637000"/>
            <a:ext cx="4762440" cy="3168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TATUE OF MOLLY MAL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2843280" y="2517840"/>
            <a:ext cx="3701880" cy="34322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UI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Zástupný symbol pro obsah 2" descr=""/>
          <p:cNvPicPr/>
          <p:nvPr/>
        </p:nvPicPr>
        <p:blipFill>
          <a:blip r:embed="rId1"/>
          <a:stretch/>
        </p:blipFill>
        <p:spPr>
          <a:xfrm>
            <a:off x="1403280" y="2495520"/>
            <a:ext cx="3998880" cy="29955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2" name="Obrázek 3" descr=""/>
          <p:cNvPicPr/>
          <p:nvPr/>
        </p:nvPicPr>
        <p:blipFill>
          <a:blip r:embed="rId2"/>
          <a:stretch/>
        </p:blipFill>
        <p:spPr>
          <a:xfrm>
            <a:off x="5772240" y="2924280"/>
            <a:ext cx="2851200" cy="2136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MPLE B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4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2576520"/>
            <a:ext cx="4608720" cy="345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TOW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ALW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TERF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MER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9" name="Zástupný symbol pro obsah 2" descr=""/>
          <p:cNvPicPr/>
          <p:nvPr/>
        </p:nvPicPr>
        <p:blipFill>
          <a:blip r:embed="rId1"/>
          <a:stretch/>
        </p:blipFill>
        <p:spPr>
          <a:xfrm>
            <a:off x="2732040" y="2781360"/>
            <a:ext cx="3895920" cy="2879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ALWA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2565360" y="2637000"/>
            <a:ext cx="4326120" cy="3240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TERFO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3" name="Zástupný symbol pro obsah 2" descr=""/>
          <p:cNvPicPr/>
          <p:nvPr/>
        </p:nvPicPr>
        <p:blipFill>
          <a:blip r:embed="rId1"/>
          <a:stretch/>
        </p:blipFill>
        <p:spPr>
          <a:xfrm>
            <a:off x="1603440" y="2852640"/>
            <a:ext cx="5921280" cy="2635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Irsku, nejzajímavější místa a města země. Prezentace slouží jako podpůrný materiál při výkladu učiva o reáliích anglicky mluvících zemí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reland, geography, population, cities, cultu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MERI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5" name="Zástupný symbol pro obsah 3" descr=""/>
          <p:cNvPicPr/>
          <p:nvPr/>
        </p:nvPicPr>
        <p:blipFill>
          <a:blip r:embed="rId1"/>
          <a:stretch/>
        </p:blipFill>
        <p:spPr>
          <a:xfrm>
            <a:off x="2487600" y="2781360"/>
            <a:ext cx="438480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CKLOW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Zástupný symbol pro obsah 2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213440" cy="31575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CKLOW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3" descr=""/>
          <p:cNvPicPr/>
          <p:nvPr/>
        </p:nvPicPr>
        <p:blipFill>
          <a:blip r:embed="rId1"/>
          <a:stretch/>
        </p:blipFill>
        <p:spPr>
          <a:xfrm>
            <a:off x="1978200" y="2708280"/>
            <a:ext cx="5473440" cy="3065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LENDALOU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2" descr=""/>
          <p:cNvPicPr/>
          <p:nvPr/>
        </p:nvPicPr>
        <p:blipFill>
          <a:blip r:embed="rId1"/>
          <a:stretch/>
        </p:blipFill>
        <p:spPr>
          <a:xfrm>
            <a:off x="2565360" y="2637000"/>
            <a:ext cx="4238640" cy="3174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NEMA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2" descr=""/>
          <p:cNvPicPr/>
          <p:nvPr/>
        </p:nvPicPr>
        <p:blipFill>
          <a:blip r:embed="rId1"/>
          <a:stretch/>
        </p:blipFill>
        <p:spPr>
          <a:xfrm>
            <a:off x="2627280" y="2682720"/>
            <a:ext cx="4264200" cy="3194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NEMA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Zástupný symbol pro obsah 3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229280" cy="3168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HER CLIFF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7" name="Zástupný symbol pro obsah 2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037040" cy="3024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RAN ISLA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9" name="Zástupný symbol pro obsah 3" descr=""/>
          <p:cNvPicPr/>
          <p:nvPr/>
        </p:nvPicPr>
        <p:blipFill>
          <a:blip r:embed="rId1"/>
          <a:stretch/>
        </p:blipFill>
        <p:spPr>
          <a:xfrm>
            <a:off x="2556000" y="2629080"/>
            <a:ext cx="4143240" cy="3105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b050"/>
                </a:solidFill>
                <a:latin typeface="Arial"/>
              </a:rPr>
              <a:t>IRISH SYMBOLS</a:t>
            </a: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HAMROCK - LEPRECHAU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Zástupný symbol pro obsah 4" descr=""/>
          <p:cNvPicPr/>
          <p:nvPr/>
        </p:nvPicPr>
        <p:blipFill>
          <a:blip r:embed="rId1"/>
          <a:stretch/>
        </p:blipFill>
        <p:spPr>
          <a:xfrm>
            <a:off x="1690560" y="3119400"/>
            <a:ext cx="2067120" cy="2209680"/>
          </a:xfrm>
          <a:prstGeom prst="rect">
            <a:avLst/>
          </a:prstGeom>
          <a:ln w="0">
            <a:noFill/>
          </a:ln>
        </p:spPr>
      </p:pic>
      <p:pic>
        <p:nvPicPr>
          <p:cNvPr id="262" name="Zástupný symbol pro obsah 5" descr=""/>
          <p:cNvPicPr/>
          <p:nvPr/>
        </p:nvPicPr>
        <p:blipFill>
          <a:blip r:embed="rId2"/>
          <a:stretch/>
        </p:blipFill>
        <p:spPr>
          <a:xfrm>
            <a:off x="5722920" y="2990880"/>
            <a:ext cx="1847880" cy="2467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RISH SYMBOLS – CELTIC CRO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4" name="Zástupný symbol pro obsah 4" descr=""/>
          <p:cNvPicPr/>
          <p:nvPr/>
        </p:nvPicPr>
        <p:blipFill>
          <a:blip r:embed="rId1"/>
          <a:stretch/>
        </p:blipFill>
        <p:spPr>
          <a:xfrm>
            <a:off x="2556000" y="2629080"/>
            <a:ext cx="4248000" cy="31827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IRE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Irsk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ubl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RISH NAME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É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0,273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UBL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hole Irish island is the 2nd biggest Britis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tlantic Ocean, Celtic Sea, Irish S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ickname: Emerald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IRE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4" name="Zástupný symbol pro obsah 2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952720" cy="3753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BL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Ire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ish name: Báile Átha Cli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3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173400" cy="2376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AFTON STRE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9" name="Zástupný symbol pro obsah 2" descr=""/>
          <p:cNvPicPr/>
          <p:nvPr/>
        </p:nvPicPr>
        <p:blipFill>
          <a:blip r:embed="rId1"/>
          <a:stretch/>
        </p:blipFill>
        <p:spPr>
          <a:xfrm>
            <a:off x="2757600" y="2781360"/>
            <a:ext cx="4190760" cy="3138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BLIN CAS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Zástupný symbol pro obsah 3" descr=""/>
          <p:cNvPicPr/>
          <p:nvPr/>
        </p:nvPicPr>
        <p:blipFill>
          <a:blip r:embed="rId1"/>
          <a:stretch/>
        </p:blipFill>
        <p:spPr>
          <a:xfrm>
            <a:off x="2757600" y="2781360"/>
            <a:ext cx="3975120" cy="2976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49Z</dcterms:modified>
  <cp:revision>39</cp:revision>
  <dc:subject/>
  <dc:title>EUROPEAN UNION</dc:title>
</cp:coreProperties>
</file>