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59EF-E22C-4B9C-B11A-FE66D78B4F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E58-2A65-4317-8C95-A2FF31C85F8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032-ADC3-4C09-B3B2-3370E3B94AB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821-137B-43F0-9973-150766B4558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C3C-E812-4FC8-90F7-19D51E7F1CC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51A2-A823-452C-8B5A-5B2961F2AF3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BAB-971A-4E78-8A97-9321DC91675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29E-3E3F-4D7C-932D-8311AC9864F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9F8-2210-4E3A-9C3F-ABB91AC5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01E-965D-4E90-8A31-F7B7068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3CC-10CE-4453-BAE5-2517E6D8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D7C-0CE5-4672-8FEF-64F0A05B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8C2-0B7C-44C2-98E9-C7088145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854-76E8-46FE-8958-9593D81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0C7E-AF16-4646-A2ED-5C33F3EB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5A8-5907-4669-A9CF-A1FA9CF1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E69-B53D-4753-85C7-A215D8A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355-FE1C-4033-9125-D30B094C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2423-A492-4FF7-82A7-E1F4268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B82-FDCA-420A-BF25-4B8D153E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9B4A-AFB9-4E0B-8691-C4F7B13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6922-7B11-4AFF-9B1A-5AEBCF0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BA8-58EF-40FE-9D42-4B6EFAF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5BF7-7BB4-4F88-9921-47829DAE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8FDB-19C0-4132-B6D1-42A7B5A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2485-0472-4A14-971A-B89C4F43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C2A7-CF3D-4741-B98A-BB5674E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A05C-9C9D-47D7-BF45-F29A582F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EF2A-2526-4E3C-A911-29A60C69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5104-A23F-4B7E-9337-397768F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295-843F-4C82-BF69-8CBBDB8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018A-FC07-4712-B7AE-90EAEF90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B0B7-6ECE-4A85-A8EF-2FA01AE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4829-C98C-4DA8-91C8-A6A5BE8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25C9-D4FA-4C1C-BBD2-CD63F70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D817-8FB8-449C-8726-8EFEA69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E86C-C6D9-4A00-9C0E-83F55439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384F-9768-4F57-BF78-5DE4A16A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DA9D-0051-415F-B9A4-EAB22B1C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B969-37D2-431E-B199-96285568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00FD-CE3D-4EAB-8669-DA773AB2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6FA-CBFF-4254-9C7D-D4209D99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36B3-E8B6-4BE8-99D9-0D21290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2050-C1A5-4251-9B13-8EE6B767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57EB-A5BA-439B-A4DC-CA81A1E0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76C2-A196-49D0-AF5A-4AA3B4C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A9E9-DCA4-46A9-8E0B-675012A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2005-14E1-4B14-8FDB-27BF602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BE5C-3B00-4352-BB8E-C255A21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27CC-C569-4333-9360-3F0A0D33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F8E7-2C10-4B36-9ECC-975EDFCF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06B-273B-4A94-8127-C9E04090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02C-EEA6-43C4-B362-ECC6F57E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0DF-E271-4E46-B398-FFDF4D6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259-CC67-4CF0-9387-0F665C3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0E3-A334-4720-A1E7-F0637CB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3F51-244F-4644-B984-63DD40A9C0B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5F4B-F19C-4CEF-B731-7066616B388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6221-4C11-449D-A3D2-3CB4B8C13F4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F12-8FD0-4E5A-BD45-B39940695C2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26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 TEA PAR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mericans dressed as Indians emptied chests of British tea to the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test against big taxes on t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England George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268960" y="3395520"/>
            <a:ext cx="3046320" cy="1833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5 - 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war of independence on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75 – The battle of Lexington, Conc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ne 1775 – the battl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unker H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11560" y="3141720"/>
            <a:ext cx="3259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uly 4th, 1776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Declaration of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hiladelph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5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Zástupný symbol pro obsah 5" descr=""/>
          <p:cNvPicPr/>
          <p:nvPr/>
        </p:nvPicPr>
        <p:blipFill>
          <a:blip r:embed="rId1"/>
          <a:stretch/>
        </p:blipFill>
        <p:spPr>
          <a:xfrm>
            <a:off x="1890720" y="2362320"/>
            <a:ext cx="558792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ND OF THE 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Paris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A recognised as a free and independ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King and his heirs gave up any de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5018040" y="3141720"/>
            <a:ext cx="3462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9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George Washington elected the 1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9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re-elect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ident until 1797, then returned to Virginia. Died in 17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81360"/>
            <a:ext cx="2421000" cy="2955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MPORTANT LEA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Adam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2n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homas Jeffers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3r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enjamin Frankl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5052960" y="3141720"/>
            <a:ext cx="3282840" cy="2232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UISIANA PURCH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0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USA bought from France the territory of 2,140,00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for 15 million doll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ousiana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cluded 15 today´s US and 2 Canadian st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879800" y="3141720"/>
            <a:ext cx="3757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- 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ivil War between North and South (Union x Confed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avery in the S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y in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Zástupný symbol pro obsah 2" descr=""/>
          <p:cNvPicPr/>
          <p:nvPr/>
        </p:nvPicPr>
        <p:blipFill>
          <a:blip r:embed="rId1"/>
          <a:stretch/>
        </p:blipFill>
        <p:spPr>
          <a:xfrm>
            <a:off x="5114880" y="3284640"/>
            <a:ext cx="2986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59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John Brown´s upr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Abraham Lincoln electe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South Carolina lef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až do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battle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nfederation establ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resident Jefferson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capital Montgomery, then Richm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Zástupný symbol pro obsah 2" descr=""/>
          <p:cNvPicPr/>
          <p:nvPr/>
        </p:nvPicPr>
        <p:blipFill>
          <a:blip r:embed="rId1"/>
          <a:stretch/>
        </p:blipFill>
        <p:spPr>
          <a:xfrm>
            <a:off x="5297400" y="3376440"/>
            <a:ext cx="2695680" cy="1695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onfederation troops attacked Fort Sum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the Battle of Gettys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end of the war, the North w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6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President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eader of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bolished slav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ssasinated in 1865 in the Ford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820960"/>
            <a:ext cx="2361960" cy="291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came to North America from Green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ric the Red Head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a settlement in 9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001 his son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e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514600"/>
            <a:ext cx="2305080" cy="3255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92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ristopher Colum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ilor from Ve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thought he had landed in India and called native people the Indi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276640" cy="2919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Cabot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Giovanni Cabot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497 he landed in today´s Newfound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spent a few weeks sailing along the co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81360"/>
            <a:ext cx="2301840" cy="292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COLO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tow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first English colony (in Virginia) - 16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ptain John Smi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 Rolfe - tobac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cahontas, Powha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5295960" y="3213000"/>
            <a:ext cx="3076560" cy="230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LGRIM FA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 group of 102 people landed in Plym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fl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ly half of them survived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Thanksgiving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4" descr=""/>
          <p:cNvPicPr/>
          <p:nvPr/>
        </p:nvPicPr>
        <p:blipFill>
          <a:blip r:embed="rId1"/>
          <a:stretch/>
        </p:blipFill>
        <p:spPr>
          <a:xfrm>
            <a:off x="5246640" y="3068640"/>
            <a:ext cx="287820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3 coloni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long the Atlantic coast under the British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nch territories to the w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-north from Louisiana 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378400" y="3324240"/>
            <a:ext cx="2884680" cy="2049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17Z</dcterms:modified>
  <cp:revision>58</cp:revision>
  <dc:subject/>
  <dc:title>EUROPEAN UNION</dc:title>
</cp:coreProperties>
</file>