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8A39-D451-411C-A247-A6EC05F689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CE65-F8A0-44D2-A18E-D9F1F2103AD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7DFC-0D1A-4E8E-BB3D-D08E607D8D9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44A4-E319-413E-B015-127F1BA085D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34A-8974-443F-A7B5-A89D0230F62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190D-0027-45DA-8A7D-CA01A5ECB10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ED2C-F289-4132-9AB5-EA74764C508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7046-38C7-468D-A90D-B26A584E265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DB9-18FB-4E06-B950-20775CF1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389-5303-43FB-8766-9AD50C6F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A83-1FDC-41CA-A373-A9762E29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330-4DF2-4575-B0F4-74DD5C84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2B1B-B117-4906-B563-166B1801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C69B-BFFB-46D2-B091-4CE94F4E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2115-8974-4E89-ACFB-3F6869B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79C7-1A02-4BB6-B1A0-C07DE6A7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F87D-1B08-45F8-BD1B-68218C9A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82D5-7647-4B82-A8F0-DAFB3AC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915-527A-4627-9EE5-27FCCBF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4FA-945A-44C4-8D99-568D1C11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8257-DA2D-4516-A975-7CCCBF9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153B-A9CB-4982-9EEB-9F44186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F408-D51A-4C8A-88F1-B6CB7A68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090D-7F05-4ECF-A517-1C5F6172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B1A9-683E-4BBA-9374-72F99918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D611-9144-446E-B81E-517C8286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C67B-2CFD-4542-B636-126AEAAC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6F33-8BF0-4401-A371-89EDC307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18FB-2425-4F03-9752-69F9C6A8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DBF0-C0E9-4759-97A8-DF153DD3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ED0-C6F9-4DF8-A944-040AA64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4625-2555-4917-8C12-D9F55DDC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77B7-1CDA-481C-9335-09610C17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7F4C-9952-4F92-86CA-79F252A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5E00-D857-4D18-B577-7D51D956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5D3C-57DD-4418-B35F-14D3A432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2F34-883B-4192-8CDC-E8B93758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51AB-7E03-48B6-92B7-DC3E25A1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C49E-2A71-4606-993E-662B6C1C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F80A-C911-4352-AE59-3D4A4704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0A440-A60D-4877-B8BE-05644244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9C8-DD06-46B0-A187-BF53D153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B70A-53F4-49B7-AA3D-C45E0CC5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FACF-3AE9-4E75-B769-FC26EFD4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ACEF0-E4D5-4832-B16C-ADF733A2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3A7E-0C27-4968-BF4E-6379856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90B7-3D07-43BB-8920-4DE33252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8067F-4A0D-4865-AC38-BA01C53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3A2C-E9CD-49FC-ABBA-E5F161FB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6CFE-236D-46E4-8604-CD793640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16295-C6E2-4D5A-98F4-95361DC0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57C-B383-44AC-9BBD-2513BC0D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C2B-F9CF-460E-A4A8-B0CA5723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CA3-93C3-44FE-AEE5-1452413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7D6-3C44-414B-9B40-A71AF3C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364-BF7C-4939-ACF4-123C368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3FCA-EBE2-457C-8F68-ACF455BC5FB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A519-8069-40BC-864A-2160A8C795C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C42C-7EDA-4091-9F3D-B99BA234591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03CE-AABD-4E2A-AEB7-C0509DAEE48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IGHLA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kes (loch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leys (gle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n Nevis (1344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unning 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arely sett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4794120" y="2997360"/>
            <a:ext cx="3584880" cy="2376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CH LOMO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Laomain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west of Glasg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1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2 m de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n Lomond mou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ost beautiful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022720" y="3213000"/>
            <a:ext cx="3467160" cy="2160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CH 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igh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6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30 m de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mysterious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Ness Mon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122800" y="3008160"/>
            <a:ext cx="3152880" cy="2360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34" name="Obrázek 4" descr=""/>
          <p:cNvPicPr/>
          <p:nvPr/>
        </p:nvPicPr>
        <p:blipFill>
          <a:blip r:embed="rId2"/>
          <a:stretch/>
        </p:blipFill>
        <p:spPr>
          <a:xfrm>
            <a:off x="2597040" y="3008160"/>
            <a:ext cx="2175120" cy="1447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kotsk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berdeen_(Skotsk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und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ch_Lom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ch_N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Skotsku, nejdůležitější místa a památky. Prezentace slouží jako podpůrný materiál při výkladu učiva o skots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otland, area, population, capital, sightseeing, city, town, lak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COT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8 772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EDIN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4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2094120" cy="1257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DINBUR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inburgh Cas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yrood Pa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ott Monu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4721400" y="3068640"/>
            <a:ext cx="3450960" cy="2071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LASG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Scottish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th of Clyde and Firth of F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ghthouse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2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141720" cy="2352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BERD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ird biggest Scottish t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20,42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319 Old and New Aberdeen were united by R.Br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103720" y="3068640"/>
            <a:ext cx="3140280" cy="2352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NDE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ùn Dèa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500 years old (Alec-tu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ottish Dance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shart G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3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021120" cy="2261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R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High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ld Gaelig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Loch 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3" descr=""/>
          <p:cNvPicPr/>
          <p:nvPr/>
        </p:nvPicPr>
        <p:blipFill>
          <a:blip r:embed="rId1"/>
          <a:stretch/>
        </p:blipFill>
        <p:spPr>
          <a:xfrm>
            <a:off x="4932360" y="2917800"/>
            <a:ext cx="2936880" cy="2239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4:29Z</dcterms:modified>
  <cp:revision>24</cp:revision>
  <dc:subject/>
  <dc:title>EUROPEAN UNION</dc:title>
</cp:coreProperties>
</file>