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3A10-F16E-4848-81B1-FC4AAD51C4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CAF5-904A-42BB-AF68-B13CB3FA47C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842-1E05-413A-AC8E-5800F881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0ED-1419-4BB8-9384-1519521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EFB-8477-4C74-B47D-C3192FBB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52F-E1BC-4B58-873D-B02A51B2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FD4E-B62D-433E-9588-DBE5B80D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563D-D3A8-4497-B3B2-26EBC78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344-99B2-4175-91DB-27EACF9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2164-B3E5-47CA-9002-C6AD6F42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F2CA-1598-4DE2-91B6-F56ED4F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5F1-B64E-47F9-B67C-949D26C3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36DC-FF2A-439D-AEC8-BF59AC6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24C-2A59-4D99-A087-89CD0742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A394-2548-4E2E-B072-8F5CED35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CFAC-8BDA-4A32-8EBD-996274A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A87C-86E4-4BE2-9CDF-B419DBF3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6D10-C71C-42C9-ABC8-0899F2B4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EFA0-F3E4-4D18-8357-AEC72D93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B3D-486B-44B6-9433-F97269C8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572-3A0E-4C63-AFD1-F10A07B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F30-6C81-4E4E-AA99-81799E34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9ED-376E-4071-B37A-84BE3B7C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132-2CDE-4DD8-97F6-10C013D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40D-F7B7-4A20-A7B8-35DF161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7F9-1AFC-4F2B-A09C-10512D4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BC1F-4A9D-4DCA-AD22-BFFC19BC429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FE9B-27B1-4581-A350-A7CDDBC7EB5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39640" y="3573360"/>
          <a:ext cx="7488360" cy="736560"/>
        </p:xfrm>
        <a:graphic>
          <a:graphicData uri="http://schemas.openxmlformats.org/drawingml/2006/table">
            <a:tbl>
              <a:tblPr/>
              <a:tblGrid>
                <a:gridCol w="2071800"/>
                <a:gridCol w="1312920"/>
                <a:gridCol w="1655640"/>
                <a:gridCol w="24480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INOVACE_1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Umístění firmy a její ima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345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ši Zoo jsme umístili na okraji Českých Budějovic z důvodů potřeby velkých pozemků a přírod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Adresa: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tromovka 9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927 05 České Budějovice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ýběhy jsou speciálně přizpůsobené přirozenému prostředí jednotlivých druhů zvířat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Pro neomezené možnosti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 pozorování zvířat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jsme postavili vysoké rozhledn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 areálu jsou rozmístěny automaty na horké nápoje a studené nápoje, obchody se suvenýry a občerstvení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</a:t>
            </a:r>
            <a:br>
              <a:rPr sz="6600"/>
            </a:b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ez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artneř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11280" y="1125360"/>
            <a:ext cx="6400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B České Budějovice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vedení běžného účt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skytnutí bankovního úvěr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Pojišťovna Kooperativa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majetku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sob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ojištění odpovědnosti za škody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cestovní pojištěn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rokodýlí ZOO Protivín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krokodýlů)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Kidepo Valley National Park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aprivi Game Park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dodavatelé fauny (ptáci) a flór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Cestovní kancelář Nomád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zprostředkování pracovních cest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• partner při odměnách zaměstnanc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360" y="33336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ejsilnější konkurent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11280" y="177300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DVŮR KRÁLOVÉ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je jedna z největších ZOO v České republice. Nebezpečnější je fakt, že nabízí zajímavou podívanou v podobě Afrického safari. Je to v podstatě jediná větší ZOO, která je z velké části zaměřená na Afriku a tudíž má z části podobné nabídky pro návštěvníky jako m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Arial"/>
              </a:rPr>
              <a:t>ZOO ZLÍN LEŠNÁ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se nachází na Moravě. Svůj areál rozdělili na kontinenty, takže návštěvníci si v této ZOO přijdou na své - i Afrika je zde dostatečně zastoupena. Výběhy jsou vymyšlené velice hezky a podobně jako u nás, žádné klece, ale přírodně oplocené části, oddělované říčkou a vodními příkopy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cbcbcb"/>
                </a:solidFill>
                <a:latin typeface="Century Gothic"/>
              </a:rPr>
              <a:t>ZOO PRAHA 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ysoce moderní zahrada ukazující zvířata v podmínkách, které se co nejvíce blíží jejich přirozenému prostředí. Nabízí také mnoho vzdělávacích programů pro školy i širokou veřejnost, v čemž je pro nás velkou konkurencí. V budoucnu tedy zaměříme větší pozornost právě do vzdělávacích programů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eřejnost – sdělovací prostředk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642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Největší vlivy v rámci sdělovacích prostředků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TV</a:t>
            </a: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pořady na stanicích Nova, Prima, Prima COOL, ČT1, ČT2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cbcbcb"/>
                </a:solidFill>
                <a:latin typeface="Century Gothic"/>
              </a:rPr>
              <a:t>Časopisy</a:t>
            </a:r>
            <a:r>
              <a:rPr b="1" lang="cs-CZ" sz="2400" spc="-1" strike="noStrike">
                <a:solidFill>
                  <a:srgbClr val="cbcbcb"/>
                </a:solidFill>
                <a:latin typeface="Century Gothic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– zveřejňování reportáží z cest do Afriky od našich zoologů</a:t>
            </a:r>
            <a:br>
              <a:rPr sz="2400"/>
            </a:b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bcbcb"/>
                </a:solidFill>
                <a:latin typeface="Times New Roman"/>
              </a:rPr>
              <a:t>Zákazníc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entury Gothic"/>
              </a:rPr>
              <a:t>Šíří všeobecně známé informace o Zoo, na žádnou z námi poskytovaných služeb si v dotaznících nestěžují, preferují naši Zoo před jinými, šíří dobré jméno firmy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565000"/>
            <a:ext cx="762012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a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Vybrané ekonomické ukazatel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Picture 645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1912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546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11532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bcbcb"/>
                </a:solidFill>
                <a:latin typeface="Times New Roman"/>
              </a:rPr>
              <a:t>Vybrané demografické vlivy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7" name="Picture 441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48504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897200" y="609480"/>
            <a:ext cx="5349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11280" y="1743120"/>
          <a:ext cx="7488000" cy="5075280"/>
        </p:xfrm>
        <a:graphic>
          <a:graphicData uri="http://schemas.openxmlformats.org/drawingml/2006/table">
            <a:tbl>
              <a:tblPr/>
              <a:tblGrid>
                <a:gridCol w="3746520"/>
                <a:gridCol w="37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é prostředí - ukáz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ázka analýzy marketingového prostředí, dokazuje nutnost návaznosti učiva ekonomiky, účetnictví, statistiky, práva a marketingu a vede ke zopakování základních znalostí z těchto předmět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vaha, výsledovka, partnerské firmy, konkurence, politické prostřed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0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4824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řírodní podmínk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438280" y="134100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Ochrana životního prostředí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aše Zoo se samozřejmě účastní spousty akcí, pomáhajících životnímu prostředí v našem okolí, ale také zahraničí. Jsme v několika Evropských organizací, pomáhajících proti vymírání ohrožených druhů zvířat, pro lepší péči o lesy, atd.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Názvy vybraných organizací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ETA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People for the Ethical Treatment of Animals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organizace na ochranu zvířat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WWF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World Wide Fund for Nature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) – celosvětový fond pro přírodu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NESCO </a:t>
            </a:r>
            <a:br>
              <a:rPr sz="1800"/>
            </a:b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uroparc</a:t>
            </a: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- Evropská federace pro národní parky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Politické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411280" y="1196640"/>
            <a:ext cx="6400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bcbcb"/>
                </a:solidFill>
                <a:latin typeface="Century Gothic"/>
              </a:rPr>
              <a:t>Zákon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563/1991 Sb. Zákon o účetnictví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100/1988 Sb. Zákon o sociálním zabezpečení </a:t>
            </a: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586/1992 Sb. Zákon o dani z příjmů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411/2008 Sb. Vyhláška o stanovení druhů zvířat vyžadujících zvláštní péči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15/2008 Sb. Vyhláška o opatřeních proti zavlékání a rozšiřování škodlivých organismů rostlin a rostlinných produktů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Century Gothic"/>
              </a:rPr>
              <a:t>296/2003 Sb. vyhláška o zdraví zvířat a jeho ochraně, o přemísťování a přepravě zvířat a o oprávnění a odborné způsobilosti k výkonu některých odborných veterinárních činností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Kulturní prostřed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170028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Velmi dbáme na oblast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dělávání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. Kromě obvyklého pohledu na svět zvířat se zákazníci díky přednáškám mohou rozvíjet své znalosti v oblasti živočišné a rostlinné říši. Pro studenty veterinárních středních (popř. vysokých) škol a také pro studenty botaniky, nabízíme speciální programy pro celé třídy, ale i pro jedince, je možná domluva s profesorem a v rámci možností zařídit přednášky s právě probíraných učivem ve škole.</a:t>
            </a: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Navštívit Zoo může kdokoliv, má-li zájem o faunu a flóru afrického kontinentu, je to vhodné trávení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olného času</a:t>
            </a:r>
            <a:r>
              <a:rPr b="1" lang="cs-CZ" sz="1600" spc="-1" strike="noStrike">
                <a:solidFill>
                  <a:srgbClr val="ffffff"/>
                </a:solidFill>
                <a:latin typeface="Century Gothic"/>
              </a:rPr>
              <a:t>, výborné pro děti, je třeba v nich pěstovat dobrý </a:t>
            </a: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vztah k přírodě.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další informace byste zařadili do analýzy marketingového prostřed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aké ukazatele finanční analýzy znáte? Z uvedené rozvahy a výsledovky zkuste vybrané ukazatele vypočíta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teré další ekonomické a demografické vlivy působí na tuto firm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 tabule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4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vdb.czso.cz/vdbvo/tabparam.jsp?voa=tabulka&amp;cislotab=DEM0030PU_KR&amp;vo=tabulka&amp;kapitola_id=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dyngrafy.nsf/graf/inflace_1994_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ttp://www.czso.cz/csu/redakce.nsf/i/prace_a_mzdy_pr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2565000"/>
            <a:ext cx="7490160" cy="205740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129440" cy="2016360"/>
          </a:xfrm>
          <a:prstGeom prst="rect">
            <a:avLst/>
          </a:prstGeom>
          <a:solidFill>
            <a:srgbClr val="0066cc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Times New Roman"/>
              </a:rPr>
              <a:t>Marketingové mikroprostředí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4360" y="188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Návrh organizační struktu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Organization Chart 11"/>
          <p:cNvGrpSpPr/>
          <p:nvPr/>
        </p:nvGrpSpPr>
        <p:grpSpPr>
          <a:xfrm>
            <a:off x="685800" y="1981080"/>
            <a:ext cx="7771680" cy="4114440"/>
            <a:chOff x="685800" y="1981080"/>
            <a:chExt cx="7771680" cy="4114440"/>
          </a:xfrm>
        </p:grpSpPr>
        <p:cxnSp>
          <p:nvCxnSpPr>
            <p:cNvPr id="106" name="_s1028"/>
            <p:cNvCxnSpPr>
              <a:stCxn id="107" idx="1"/>
              <a:endCxn id="108" idx="2"/>
            </p:cNvCxnSpPr>
            <p:nvPr/>
          </p:nvCxnSpPr>
          <p:spPr>
            <a:xfrm rot="10800000">
              <a:off x="1913760" y="4332600"/>
              <a:ext cx="199080" cy="1470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11" idx="2"/>
            </p:cNvCxnSpPr>
            <p:nvPr/>
          </p:nvCxnSpPr>
          <p:spPr>
            <a:xfrm flipV="1">
              <a:off x="4571280" y="3450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08" idx="2"/>
            </p:cNvCxnSpPr>
            <p:nvPr/>
          </p:nvCxnSpPr>
          <p:spPr>
            <a:xfrm rot="10800000">
              <a:off x="1913760" y="4332600"/>
              <a:ext cx="199080" cy="58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1"/>
            <p:cNvCxnSpPr>
              <a:stCxn id="115" idx="0"/>
              <a:endCxn id="111" idx="2"/>
            </p:cNvCxnSpPr>
            <p:nvPr/>
          </p:nvCxnSpPr>
          <p:spPr>
            <a:xfrm flipV="1" rot="16200000">
              <a:off x="5752440" y="2268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2"/>
            <p:cNvCxnSpPr>
              <a:stCxn id="108" idx="0"/>
              <a:endCxn id="111" idx="2"/>
            </p:cNvCxnSpPr>
            <p:nvPr/>
          </p:nvCxnSpPr>
          <p:spPr>
            <a:xfrm flipH="1" flipV="1" rot="5400000">
              <a:off x="3095280" y="2269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3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752440" y="1386720"/>
              <a:ext cx="294480" cy="265788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4"/>
            <p:cNvCxnSpPr>
              <a:stCxn id="111" idx="0"/>
              <a:endCxn id="119" idx="2"/>
            </p:cNvCxnSpPr>
            <p:nvPr/>
          </p:nvCxnSpPr>
          <p:spPr>
            <a:xfrm flipV="1">
              <a:off x="4571280" y="2568600"/>
              <a:ext cx="3600" cy="294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5"/>
            <p:cNvCxnSpPr>
              <a:stCxn id="122" idx="0"/>
              <a:endCxn id="119" idx="2"/>
            </p:cNvCxnSpPr>
            <p:nvPr/>
          </p:nvCxnSpPr>
          <p:spPr>
            <a:xfrm flipH="1" flipV="1" rot="5400000">
              <a:off x="3095280" y="1387080"/>
              <a:ext cx="294480" cy="2657160"/>
            </a:xfrm>
            <a:prstGeom prst="bentConnector3">
              <a:avLst>
                <a:gd name="adj1" fmla="val 3561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6"/>
            <p:cNvSpPr/>
            <p:nvPr/>
          </p:nvSpPr>
          <p:spPr>
            <a:xfrm>
              <a:off x="3342240" y="1981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Ředitel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7"/>
            <p:cNvSpPr/>
            <p:nvPr/>
          </p:nvSpPr>
          <p:spPr>
            <a:xfrm>
              <a:off x="68580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nom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>
              <a:off x="334224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ersonální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9"/>
            <p:cNvSpPr/>
            <p:nvPr/>
          </p:nvSpPr>
          <p:spPr>
            <a:xfrm>
              <a:off x="5999760" y="2863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Ekologické oddělen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040"/>
            <p:cNvSpPr/>
            <p:nvPr/>
          </p:nvSpPr>
          <p:spPr>
            <a:xfrm>
              <a:off x="68580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Zoologov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5999760" y="3745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Údržba, úklid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2"/>
            <p:cNvSpPr/>
            <p:nvPr/>
          </p:nvSpPr>
          <p:spPr>
            <a:xfrm>
              <a:off x="2113200" y="4627080"/>
              <a:ext cx="2457720" cy="5878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Ošetřovatel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43"/>
            <p:cNvSpPr/>
            <p:nvPr/>
          </p:nvSpPr>
          <p:spPr>
            <a:xfrm>
              <a:off x="3342240" y="374508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Veterináři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44"/>
            <p:cNvSpPr/>
            <p:nvPr/>
          </p:nvSpPr>
          <p:spPr>
            <a:xfrm>
              <a:off x="2113200" y="5509440"/>
              <a:ext cx="2457720" cy="5860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řednášejíc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008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Motivace zaměstnanc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4008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naši zaměstnanci mají vstupné do našeho areálu i mimo pracovní dobu zdarma. Pro jejich blízké příbuzné poskytujeme karty s 50% slevou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Údržba (elektrikáři, IT technici,…) mají k dispozici služební auta s logem Zoo. Mohou jej využívat i v osobním čase, avšak pohonné hmoty a škody způsobené vlastní vinou si hradí sami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Zoologové i veterináři mají možnost účastnit se dvakrát za rok konkurzů a vycestovat na speciální zoologické kurzy do afrických rezervací. Při této příležitosti se vzdělají v oblasti tamějších metod ošetřování, léče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zvířat</a:t>
            </a: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a vedení těchto zařízeních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šichni zoologové i veterináři se během roku účastní vzdělávacích kurzů, jak z oblasti fauny, tak flóry, podle zaměření práce a podle zájmů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Technologické vliv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entury Gothic"/>
              </a:rPr>
              <a:t>Vybavení:</a:t>
            </a:r>
            <a:br>
              <a:rPr sz="24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Klimatizační systémy v paviló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Vestavěné vodotrysky ve všech externích i interních (mořský pavilon) vodních plochá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Filtry na okysličení vody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3x automat na horké nápoje, 2x automat na studené nápoje, 2x automat s občerstvení pro návště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Automaty na vodu pro zaměstnance (4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entury Gothic"/>
              </a:rPr>
              <a:t>Informační počítače s dotykovou obrazovkou v pavilonech (5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Rozvah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11280" y="1773360"/>
          <a:ext cx="6400800" cy="3670200"/>
        </p:xfrm>
        <a:graphic>
          <a:graphicData uri="http://schemas.openxmlformats.org/drawingml/2006/table">
            <a:tbl>
              <a:tblPr/>
              <a:tblGrid>
                <a:gridCol w="1989360"/>
                <a:gridCol w="1211040"/>
                <a:gridCol w="2028960"/>
                <a:gridCol w="11714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zem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udov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ovitý majete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víř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klad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ěžný úč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venk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odb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ohledávky zam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00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120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8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5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kladní kapitá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zervní fo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ouhodobý úvě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dodav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ávazky k F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lužné mzd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068 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 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 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CELKEM                       7 373 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Účet zisků a ztrá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484360" y="1268280"/>
          <a:ext cx="6400800" cy="4888080"/>
        </p:xfrm>
        <a:graphic>
          <a:graphicData uri="http://schemas.openxmlformats.org/drawingml/2006/table">
            <a:tbl>
              <a:tblPr/>
              <a:tblGrid>
                <a:gridCol w="1917720"/>
                <a:gridCol w="1282680"/>
                <a:gridCol w="1886040"/>
                <a:gridCol w="13143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MÁ DÁ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6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4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39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3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9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2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1 163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OBR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2 133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DZ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 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Century Gothic"/>
                        </a:rPr>
                        <a:t>7</a:t>
                      </a:r>
                      <a:r>
                        <a:rPr b="0" lang="cs-CZ" sz="1600" spc="-1" strike="noStrike">
                          <a:solidFill>
                            <a:srgbClr val="cbcbcb"/>
                          </a:solidFill>
                          <a:latin typeface="Arial"/>
                        </a:rPr>
                        <a:t>85 7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2:03:50Z</dcterms:created>
  <dc:creator>morcinkova</dc:creator>
  <dc:description/>
  <dc:language>en-US</dc:language>
  <cp:lastModifiedBy>Igor</cp:lastModifiedBy>
  <dcterms:modified xsi:type="dcterms:W3CDTF">2014-09-13T15:02:51Z</dcterms:modified>
  <cp:revision>41</cp:revision>
  <dc:subject/>
  <dc:title>MARKETING A MANAGEMENT</dc:title>
</cp:coreProperties>
</file>