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8C8-ECE8-4E74-A479-66CA0A9E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CEE-27A6-463C-8D92-929C764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C0C-78E3-46C8-8C6E-D853ABF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BEF-DDA8-491E-86D1-9D0CD4AE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EF83-842B-4524-B286-7C40681C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19F-596A-4C6E-996F-53A514F4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6BF4-4E21-48A7-B752-91871BA0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A1AE-C3D4-4379-8502-7A479ABB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D4D-F426-4CE7-A01A-17538BD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2BA1-7FBE-4613-9CD0-5E23A32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D3B-DC7A-4B79-A203-A2239897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AA2-B8ED-480E-9C1F-1D96F0B3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B53-78F6-4B29-AA64-AA6ECA1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1C0E-3141-4B5B-9079-257EC97F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3858-F91F-4267-BE54-FD1064C0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278D-DDCB-4305-862C-1F619C3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3DB-5909-4EA0-AA1C-08D931B1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225-300F-4309-AC93-E5117BF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DA7-04A4-4A8B-B065-9945274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2CB-38C0-47E9-9152-57F8CEC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F26-2AF9-4277-A2DB-9B913045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867-D787-46BA-82DF-E19FE10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CC2-EDA8-4975-B04B-C655407A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706-D8AE-4498-9F20-FC5258EF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B3B1-73E4-4A32-BD39-19A45986A0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F120-3212-4D66-BD52-92FA7C2F5A9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Příležit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ískávání nových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nik nových trh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stranění bariér na zahraničních trz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užití nových technologií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Hroz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stup nové konkurence na tr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kr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chle se měnící potřeby zákaz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stabilní politická situace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530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Charakterizujte silné stránky, slabé stránky, příležitosti a hrozby vaší ško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39640" y="1495440"/>
          <a:ext cx="8229600" cy="5321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lýza prostředí z pohledu managemen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i se seznamují s nutností zkoumat prostředí z různých úhlů pohledů, nalézat tržní výhody a způsoby jejich využití, odhalovat své silné a slabé stránky, příležitosti a hrozby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kurence, tržní výhody, SWOT analý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82818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ahoma"/>
              </a:rPr>
              <a:t>Analýza prostředí z pohledu managementu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8720" y="4964040"/>
            <a:ext cx="69930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ahoma"/>
              </a:rPr>
              <a:t>Prostředí zkoumáme podle těchto vybraných analýz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rterova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STE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nalýza tržních vý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Porterova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grpSp>
        <p:nvGrpSpPr>
          <p:cNvPr id="99" name="Zástupný symbol pro obsah 5122"/>
          <p:cNvGrpSpPr/>
          <p:nvPr/>
        </p:nvGrpSpPr>
        <p:grpSpPr>
          <a:xfrm>
            <a:off x="1288440" y="1299240"/>
            <a:ext cx="6585480" cy="2097000"/>
            <a:chOff x="1288440" y="1299240"/>
            <a:chExt cx="6585480" cy="2097000"/>
          </a:xfrm>
        </p:grpSpPr>
        <p:sp>
          <p:nvSpPr>
            <p:cNvPr id="100" name="_s1028"/>
            <p:cNvSpPr/>
            <p:nvPr/>
          </p:nvSpPr>
          <p:spPr>
            <a:xfrm flipH="1">
              <a:off x="1576800" y="2344320"/>
              <a:ext cx="3022920" cy="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29"/>
            <p:cNvSpPr/>
            <p:nvPr/>
          </p:nvSpPr>
          <p:spPr>
            <a:xfrm>
              <a:off x="1288440" y="2090160"/>
              <a:ext cx="179964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Dodav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0"/>
            <p:cNvSpPr/>
            <p:nvPr/>
          </p:nvSpPr>
          <p:spPr>
            <a:xfrm>
              <a:off x="4671720" y="2344320"/>
              <a:ext cx="2735640" cy="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6111000" y="2126160"/>
              <a:ext cx="176292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Odběratelé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2"/>
            <p:cNvSpPr/>
            <p:nvPr/>
          </p:nvSpPr>
          <p:spPr>
            <a:xfrm flipV="1">
              <a:off x="4600440" y="1834200"/>
              <a:ext cx="1080" cy="26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448080" y="1299240"/>
              <a:ext cx="2302560" cy="527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Nové vstupy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213000" y="2056320"/>
              <a:ext cx="2645280" cy="60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Podniky v odvětví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cc3300"/>
                  </a:solidFill>
                  <a:latin typeface="Arial"/>
                </a:rPr>
                <a:t>(i náš podnik)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448080" y="2841840"/>
              <a:ext cx="2302560" cy="55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Možné substituty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 flipH="1" flipV="1">
              <a:off x="4581000" y="2643480"/>
              <a:ext cx="108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3860640"/>
            <a:ext cx="889308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může být novým vstupem v odvětví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to jsou substitu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Podle jakých kritérií volíme dodavatele a z jakých zdrojů o nich získáváme informa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ahoma"/>
              </a:rPr>
              <a:t>Co nás bude zajímat u našich odběratelů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Nové vstu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vé firmy, které vstupují do odvětví, nové výrobky, služby, nové technologie, postupy suroviny atp. Pro vstup nových prvků na trh jsou důležité tyto faktory – náklady na výroby, značka, situace ekonomik, rozdíly výrobků vlastních a konkurenčních, vládní politik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odběrateli, jejich počet, síla, odebírané množství, podmínky jejich nákupu at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vztahů s dodavateli, jejich dodací podmínky, možnost dodávek od jiných dodavatelů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Možné substitu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sou výrobky, které mohou funkčně nahradit výrobky podniku na trhu (gramofon.desky x CD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STE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00"/>
                </a:solidFill>
                <a:latin typeface="Tahoma"/>
              </a:rPr>
              <a:t>Tato analýza hodnotí silné a slabé stránky podniku z těchto hledisek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h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ahoma"/>
              </a:rPr>
              <a:t>Tato analýza se v poslední době velmi často doplňuje ještě o jedno hledisko – vzniká analýza SWTE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 – sociál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00"/>
                </a:solidFill>
                <a:latin typeface="Tahoma"/>
              </a:rPr>
              <a:t>W – poča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T – techn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 – ekonomick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P – politické hledi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ahoma"/>
              </a:rPr>
              <a:t>U jakých firem nás bude zajímat hledisko počasí a proč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Analýza tržních výhod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Cíl:</a:t>
            </a: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600" spc="-1" strike="noStrike">
                <a:solidFill>
                  <a:srgbClr val="ffff00"/>
                </a:solidFill>
                <a:latin typeface="Tahoma"/>
              </a:rPr>
              <a:t>Nalezení a vybudování tržních konkurenčních výho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stup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tění potřeb cílové skupiny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Ohodnocení potřeb zákazníků podle důležit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Každé dílčí potřebě přiřazujeme očekávání zákazníka, porovnáváme ho s vlastní nabídkou a specifikujeme výhody a nevýhody vůči konkurenc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potřeby zákazníků lze uspokojit lépe a stanovujeme nutná opatřen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zda realizace těchto opatření bude mít vliv na rozhodovací proces zákazník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jišťujeme, které nové konkurenční výhody můžeme vybudov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Stanovujeme opatření nutná k uchování současných výhod a k vybudování nových výh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dc4d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Proč je pro firmu důležité analyzovat tržní výhod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ahoma"/>
              </a:rPr>
              <a:t>SWOT analýza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iln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Finanční sí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íz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é jmé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novační schop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zilidské vzta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obrá organizač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derní technické vybavení 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labé strán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soké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dprůměrná zisko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yjasněná strate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staralé zaříz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ruchovost vybav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patná dostup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dostatečný výzkum a vývoj,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1:25:29Z</dcterms:created>
  <dc:creator>klapuchova</dc:creator>
  <dc:description/>
  <dc:language>en-US</dc:language>
  <cp:lastModifiedBy>Igor</cp:lastModifiedBy>
  <dcterms:modified xsi:type="dcterms:W3CDTF">2014-09-13T14:55:06Z</dcterms:modified>
  <cp:revision>20</cp:revision>
  <dc:subject/>
  <dc:title>Analýza prostředí z pohledu managementu</dc:title>
</cp:coreProperties>
</file>