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2953D-3616-4B2B-93CB-DB56EAC6E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9CB1-FD84-45A7-A593-C24C88367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FA745-9328-4301-9A0B-9AADF8D84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D3929-A27A-4AA4-89C1-2BAE88DF8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F1C4A-A63C-4BC3-9591-D0DA58EA4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4F53C-22AD-4F9D-AD12-CC02AF24D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61D46-EFD3-4C40-A2E8-33513BC1A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D1496-4E89-4204-8715-ECAC4865E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4D123-134E-43A3-9139-B1DFC7994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DCC55-ECE9-41F2-A968-4704130B6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BEDFB-B223-417D-AB2A-BB7EC06AB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C88B4-1D75-46A5-A0B5-A297A104F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170A1-1EDA-47FD-844C-B62ADD9BE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55ADC-58A2-4A2D-B963-56AD9AF5A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CACC9-CADF-4256-B01B-DCC2E8C37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5B909-8CD8-4666-9433-E61DC0BF4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0BDF9-EA7C-41B6-A2C7-CB3A488AE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15A5C-5496-4E83-B508-1F6BED0EE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85D53-B059-4E68-91F2-62D007DC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94597-E7F5-48FA-8EC0-C5A4C1659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21280-2B80-47A0-9062-CD2CF986A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CC6A-209F-4438-B3E2-CDE4A04C7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DE57B-BCCA-44B5-A970-815F2D0DA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A915-E98E-470C-B70C-35C38D453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CC28-0562-4CC7-8B61-A4B0FCACEADB}"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9929-8701-4FE0-92DE-75B389BF6544}" type="slidenum">
              <a:rPr b="0"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0" y="2060640"/>
            <a:ext cx="9144000" cy="4392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ýukový materiál zpracován v rámci projektu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U peníze školám</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istrační číslo projektu: CZ.1.07/1.5.00/34.0208</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3" name="Picture 3" descr=""/>
          <p:cNvPicPr/>
          <p:nvPr/>
        </p:nvPicPr>
        <p:blipFill>
          <a:blip r:embed="rId1"/>
          <a:stretch/>
        </p:blipFill>
        <p:spPr>
          <a:xfrm>
            <a:off x="1258920" y="333360"/>
            <a:ext cx="6083280" cy="1487520"/>
          </a:xfrm>
          <a:prstGeom prst="rect">
            <a:avLst/>
          </a:prstGeom>
          <a:ln w="0">
            <a:noFill/>
          </a:ln>
        </p:spPr>
      </p:pic>
      <p:graphicFrame>
        <p:nvGraphicFramePr>
          <p:cNvPr id="84" name=""/>
          <p:cNvGraphicFramePr/>
          <p:nvPr/>
        </p:nvGraphicFramePr>
        <p:xfrm>
          <a:off x="539640" y="3573360"/>
          <a:ext cx="7561440" cy="736560"/>
        </p:xfrm>
        <a:graphic>
          <a:graphicData uri="http://schemas.openxmlformats.org/drawingml/2006/table">
            <a:tbl>
              <a:tblPr/>
              <a:tblGrid>
                <a:gridCol w="1584360"/>
                <a:gridCol w="1511280"/>
                <a:gridCol w="1584360"/>
                <a:gridCol w="2881440"/>
              </a:tblGrid>
              <a:tr h="73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Šablon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II/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Č. materiál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_32_INOVACE_19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85" name=""/>
          <p:cNvGraphicFramePr/>
          <p:nvPr/>
        </p:nvGraphicFramePr>
        <p:xfrm>
          <a:off x="539640" y="4724280"/>
          <a:ext cx="7561440" cy="1189080"/>
        </p:xfrm>
        <a:graphic>
          <a:graphicData uri="http://schemas.openxmlformats.org/drawingml/2006/table">
            <a:tbl>
              <a:tblPr/>
              <a:tblGrid>
                <a:gridCol w="3781440"/>
                <a:gridCol w="3780000"/>
              </a:tblGrid>
              <a:tr h="39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Jméno autor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Ing. Bohuslava Klapuchová</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řída/ročník:</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3. Roční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atum vytvořen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19. 10. 20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1000">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39280" y="2204640"/>
            <a:ext cx="8067960" cy="331164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Dvůr Králové je jedna z největších ZOO v České republice, což není takový problém, jelikož je umístěna dostatečně daleko od ná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bezpečnější je fakt, že nabízí zajímavou podívanou v podobě Afrického safari – projíždění ve speciálním autobuse skrz výběhy některých afrických zvířa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Je to v podstatě jediná větší ZOO, která je z velké části zaměřená na Afriku a tudíž má z části podobné nabídky pro návštěvníky, jako m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WordArt 7"/>
          <p:cNvSpPr txBox="1"/>
          <p:nvPr/>
        </p:nvSpPr>
        <p:spPr>
          <a:xfrm>
            <a:off x="2700360" y="549360"/>
            <a:ext cx="33908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Dvur Králové</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18000">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2491920"/>
            <a:ext cx="8136000" cy="4365720"/>
          </a:xfrm>
          <a:prstGeom prst="rect">
            <a:avLst/>
          </a:prstGeom>
          <a:noFill/>
          <a:ln w="0">
            <a:noFill/>
          </a:ln>
        </p:spPr>
        <p:txBody>
          <a:bodyPr anchor="t">
            <a:normAutofit/>
          </a:bodyPr>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lézá se sice na Moravě, ale i přes tuto vzdálenost jí můžeme vnímat jako konkurenci, vzhledem k příjemnému prostředí</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vůj areál rozdělili na kontinenty, takže návštěvníci si v této ZOO přijdou tak jako tak na své - i Afrika je zde dostatečně zastoupena</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ýběhy jsou vymyšlené velice hezky a podobně jako u nás, žádné klece, ale přírodně oplocené části, oddělované říčkou a vodními příkopy</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Zajímavostí je také zámeček Lešná umístěný uvnitř areálu ZOO</a:t>
            </a:r>
            <a:endParaRPr b="0" lang="en-US" sz="2000" spc="-1" strike="noStrike">
              <a:solidFill>
                <a:srgbClr val="ffffff"/>
              </a:solidFill>
              <a:latin typeface="Arial"/>
            </a:endParaRPr>
          </a:p>
        </p:txBody>
      </p:sp>
      <p:sp>
        <p:nvSpPr>
          <p:cNvPr id="103" name="WordArt 4"/>
          <p:cNvSpPr txBox="1"/>
          <p:nvPr/>
        </p:nvSpPr>
        <p:spPr>
          <a:xfrm>
            <a:off x="3492360" y="404640"/>
            <a:ext cx="2028960" cy="120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Century Gothic"/>
              </a:rPr>
              <a:t>ZOO Zlín</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Century Gothic"/>
              </a:rPr>
              <a:t>Lešná</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Century Gothic"/>
              <a:ea typeface="Century Gothic"/>
            </a:endParaRPr>
          </a:p>
        </p:txBody>
      </p:sp>
    </p:spTree>
  </p:cSld>
  <p:transition advTm="21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4920" y="2060280"/>
            <a:ext cx="7986600" cy="352908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Samozřejmě musíme zmínit i ZOO v hlavním městě</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ysoce moderní zahrada ukazující zvířata v podmínkách, které se co nejvíce blíží jejich přirozenému prostřed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dílí se na záchraně mnoha ohrožených druhů a je zapojena do projektů jako EAZA, EEP, GOD, WAZA, atd.</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abízí také mnoho vzdělávacích programů pro školy i širokou veřejnost, v čemž je pro nás velkou konkurencí</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V budoucnu tedy zaměříme větší pozornost právě do vzdělávacích programů</a:t>
            </a:r>
            <a:endParaRPr b="0" lang="en-US" sz="2000" spc="-1" strike="noStrike">
              <a:solidFill>
                <a:srgbClr val="ffffff"/>
              </a:solidFill>
              <a:latin typeface="Arial"/>
            </a:endParaRPr>
          </a:p>
        </p:txBody>
      </p:sp>
      <p:sp>
        <p:nvSpPr>
          <p:cNvPr id="105" name="WordArt 7"/>
          <p:cNvSpPr txBox="1"/>
          <p:nvPr/>
        </p:nvSpPr>
        <p:spPr>
          <a:xfrm>
            <a:off x="3564000" y="549360"/>
            <a:ext cx="188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Praha</a:t>
            </a:r>
            <a:endParaRPr b="0" lang="en-US" sz="18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p:txBody>
      </p:sp>
    </p:spTree>
  </p:cSld>
  <p:transition advTm="20000">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299880" y="2046240"/>
          <a:ext cx="8229600" cy="3443400"/>
        </p:xfrm>
        <a:graphic>
          <a:graphicData uri="http://schemas.openxmlformats.org/drawingml/2006/table">
            <a:tbl>
              <a:tblPr/>
              <a:tblGrid>
                <a:gridCol w="2419560"/>
                <a:gridCol w="1130400"/>
                <a:gridCol w="1533240"/>
                <a:gridCol w="1211400"/>
                <a:gridCol w="966960"/>
                <a:gridCol w="968040"/>
              </a:tblGrid>
              <a:tr h="77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olný přístup ke zvířatů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Specializace na určitý druh/ty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zdělávací program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Cizí kuchyně</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Suvenýr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7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 name="WordArt 197"/>
          <p:cNvSpPr txBox="1"/>
          <p:nvPr/>
        </p:nvSpPr>
        <p:spPr>
          <a:xfrm>
            <a:off x="900000" y="765000"/>
            <a:ext cx="692964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Tabulka s konkurenty</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
          <p:cNvGraphicFramePr/>
          <p:nvPr/>
        </p:nvGraphicFramePr>
        <p:xfrm>
          <a:off x="299880" y="2487600"/>
          <a:ext cx="8231400" cy="3090960"/>
        </p:xfrm>
        <a:graphic>
          <a:graphicData uri="http://schemas.openxmlformats.org/drawingml/2006/table">
            <a:tbl>
              <a:tblPr/>
              <a:tblGrid>
                <a:gridCol w="2397240"/>
                <a:gridCol w="959040"/>
                <a:gridCol w="961920"/>
                <a:gridCol w="958680"/>
                <a:gridCol w="1198800"/>
                <a:gridCol w="877680"/>
                <a:gridCol w="878040"/>
              </a:tblGrid>
              <a:tr h="56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stupné - dospělý</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Rodin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Zlevněné vstupn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Velké pohledn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Plaká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Century Gothic"/>
                        </a:rPr>
                        <a:t>Časopi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2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9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9a1e"/>
                          </a:solidFill>
                          <a:latin typeface="Century Gothic"/>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4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c0000"/>
                          </a:solidFill>
                          <a:latin typeface="Century Gothic"/>
                        </a:rPr>
                        <a:t>4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 name="WordArt 188"/>
          <p:cNvSpPr txBox="1"/>
          <p:nvPr/>
        </p:nvSpPr>
        <p:spPr>
          <a:xfrm>
            <a:off x="2843280" y="765000"/>
            <a:ext cx="33544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rovnání cen</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5000">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299880" y="2567160"/>
          <a:ext cx="8541000" cy="2993760"/>
        </p:xfrm>
        <a:graphic>
          <a:graphicData uri="http://schemas.openxmlformats.org/drawingml/2006/table">
            <a:tbl>
              <a:tblPr/>
              <a:tblGrid>
                <a:gridCol w="2395800"/>
                <a:gridCol w="1279440"/>
                <a:gridCol w="1279440"/>
                <a:gridCol w="1197000"/>
                <a:gridCol w="1200240"/>
                <a:gridCol w="1189080"/>
              </a:tblGrid>
              <a:tr h="501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Náze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Letá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Brožur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Web</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Vizitky</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Century Gothic"/>
                        </a:rPr>
                        <a:t>Televiz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1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Krále Jelimán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Ohrad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Krokodýlí Z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Dvůr Králové</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Lešná</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Century Gothic"/>
                        </a:rPr>
                        <a:t>ZOO Prah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c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1" name="WordArt 108"/>
          <p:cNvSpPr txBox="1"/>
          <p:nvPr/>
        </p:nvSpPr>
        <p:spPr>
          <a:xfrm>
            <a:off x="1042920" y="692280"/>
            <a:ext cx="710100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ropagace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16000">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8"/>
          <p:cNvSpPr txBox="1"/>
          <p:nvPr/>
        </p:nvSpPr>
        <p:spPr>
          <a:xfrm>
            <a:off x="1547640" y="404640"/>
            <a:ext cx="5908680" cy="981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Poloha konkurence</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graphicFrame>
        <p:nvGraphicFramePr>
          <p:cNvPr id="113" name=""/>
          <p:cNvGraphicFramePr/>
          <p:nvPr/>
        </p:nvGraphicFramePr>
        <p:xfrm>
          <a:off x="301680" y="1676520"/>
          <a:ext cx="8447040" cy="4243320"/>
        </p:xfrm>
        <a:graphic>
          <a:graphicData uri="http://schemas.openxmlformats.org/drawingml/2006/table">
            <a:tbl>
              <a:tblPr/>
              <a:tblGrid>
                <a:gridCol w="1689120"/>
                <a:gridCol w="1573200"/>
                <a:gridCol w="1871640"/>
                <a:gridCol w="1623960"/>
                <a:gridCol w="16891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Název</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Prah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Východoče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línský kraj</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Jihočeský kraj</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Krále Jelimá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Ohrad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Krokodýlí ZO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Dvůr Králov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Lešn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4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ZOO Prah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89a1e"/>
                          </a:solidFill>
                          <a:latin typeface="Arial"/>
                        </a:rPr>
                        <a:t>AN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Arial"/>
                        </a:rPr>
                        <a:t>N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11280" y="907560"/>
            <a:ext cx="8137440" cy="56898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o se týče nabídky služeb, je pro nás největším konkurentem ZOO Lešná, zatímco nejmenším je Krokodýlí ZOO Protivín a ZOO Ohrada.</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Cenově nejlevnější je zároveň s námi ZOO Ohrada, nejdražší je ZOO Dvůr Králové.</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Porovnáme-li propagaci, naše ZOO a ZOO Dvůr Králové je nejlépe propagována, nejmenším konkurentem je pro nás v tomto ohledu ZOO Ohrada a Krokodýlí ZOO Protiví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větším konkurentem je již zmiňovaná ZOO Dvůr Králové. Bereme-li v úvahu vzdálenost, není pro nás tak nebezpečná, ale známost této ZOO spolu se zaměřením na Afriku je pro nás ohrožující. Není pro nás ale konkurentem ve všech ohledech, tudíž po rozvinutí studijních programů bychom měli převýšit jejich nabídku.</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entury Gothic"/>
              </a:rPr>
              <a:t>Nejblíže umístěnými jsou ZOO Ohrada a Krokodýlí ZOO Protivín, ale i přesto jsou pro nás minimální konkurencí. ZOO Ohrada je zcela zaměřena na druhy zvířat žijících u nás a Krokodýlí ZOO Protivín je, jak už z názvu vyplývá, zaměřená na různé druhy krokodýlů. Jejich ceny jsou sice nízké, zatímco jejich propagace a nabídky služeb jsou daleko za nám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5" name="WordArt 4"/>
          <p:cNvSpPr txBox="1"/>
          <p:nvPr/>
        </p:nvSpPr>
        <p:spPr>
          <a:xfrm>
            <a:off x="3203640" y="0"/>
            <a:ext cx="2508120" cy="981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Shrnutí</a:t>
            </a:r>
            <a:endParaRPr b="0" lang="en-US" sz="60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43000">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7128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b7e7ff"/>
              </a:solidFill>
              <a:latin typeface="Arial"/>
            </a:endParaRPr>
          </a:p>
        </p:txBody>
      </p:sp>
      <p:sp>
        <p:nvSpPr>
          <p:cNvPr id="117" name="PlaceHolder 2"/>
          <p:cNvSpPr>
            <a:spLocks noGrp="1"/>
          </p:cNvSpPr>
          <p:nvPr>
            <p:ph/>
          </p:nvPr>
        </p:nvSpPr>
        <p:spPr>
          <a:xfrm>
            <a:off x="301680" y="333360"/>
            <a:ext cx="8540640" cy="57657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Úko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cs-CZ" sz="3200" spc="-1" strike="noStrike">
                <a:solidFill>
                  <a:srgbClr val="ffffff"/>
                </a:solidFill>
                <a:latin typeface="Arial"/>
              </a:rPr>
              <a:t>Po shrnutí analýzy konkurence navrhněte opatření pro ZOO Krále Jelimána tak, aby tato ZOO byla dlouhodobě konkurenceschopná</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20000">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630440" y="228600"/>
            <a:ext cx="5852880" cy="1325520"/>
          </a:xfrm>
          <a:prstGeom prst="rect">
            <a:avLst/>
          </a:prstGeom>
          <a:ln w="0">
            <a:noFill/>
          </a:ln>
        </p:spPr>
      </p:pic>
      <p:graphicFrame>
        <p:nvGraphicFramePr>
          <p:cNvPr id="87" name=""/>
          <p:cNvGraphicFramePr/>
          <p:nvPr/>
        </p:nvGraphicFramePr>
        <p:xfrm>
          <a:off x="457200" y="1905120"/>
          <a:ext cx="8229600" cy="4333680"/>
        </p:xfrm>
        <a:graphic>
          <a:graphicData uri="http://schemas.openxmlformats.org/drawingml/2006/table">
            <a:tbl>
              <a:tblPr/>
              <a:tblGrid>
                <a:gridCol w="4114800"/>
                <a:gridCol w="4114800"/>
              </a:tblGrid>
              <a:tr h="443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zdělávací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dnikání a podnikové činnosti</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ématická oblas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ostředí podnik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ředmě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Marketing a managem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ázev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Analýza konkurence - ukázk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ýstižný popis způsobu využití, případně metodické pokyny: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a příkladu analýzy konkurence studenti objevují možné konkurenční hrozby a navrhují opatření ke zvýšení konkurenceschopnosti firm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líčová slov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Konkurence, marketingový m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Druh učebního materiálu:</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rezenta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advTm="10000">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6"/>
          <p:cNvSpPr txBox="1"/>
          <p:nvPr/>
        </p:nvSpPr>
        <p:spPr>
          <a:xfrm>
            <a:off x="1476360" y="2205000"/>
            <a:ext cx="6480360" cy="223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rPr>
              <a:t>ZOO Krále Jelimána</a:t>
            </a:r>
            <a:endParaRPr b="0" lang="en-US" sz="7200" spc="1" strike="noStrike">
              <a:ln w="3240">
                <a:solidFill>
                  <a:srgbClr val="ff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Snap ITC"/>
              <a:ea typeface="Snap ITC"/>
            </a:endParaRPr>
          </a:p>
        </p:txBody>
      </p:sp>
    </p:spTree>
  </p:cSld>
  <p:transition advTm="3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042560" y="1916280"/>
            <a:ext cx="6939000" cy="357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Jen pro vás jsme přemístili kus Afriky a její přírodu do areálu této ZOO</a:t>
            </a:r>
            <a:endParaRPr b="0" lang="en-US" sz="28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entury Gothic"/>
              </a:rPr>
              <a:t>Vydejte se na prohlídku zvířat z nejkouzelnějšího koutu země – Divoké Afriky</a:t>
            </a:r>
            <a:endParaRPr b="0" lang="en-US" sz="2800" spc="-1" strike="noStrike">
              <a:solidFill>
                <a:srgbClr val="ffffff"/>
              </a:solidFill>
              <a:latin typeface="Arial"/>
            </a:endParaRPr>
          </a:p>
        </p:txBody>
      </p:sp>
      <p:sp>
        <p:nvSpPr>
          <p:cNvPr id="90" name="WordArt 8"/>
          <p:cNvSpPr txBox="1"/>
          <p:nvPr/>
        </p:nvSpPr>
        <p:spPr>
          <a:xfrm>
            <a:off x="1403280" y="620640"/>
            <a:ext cx="6139080" cy="1008000"/>
          </a:xfrm>
          <a:prstGeom prst="rect">
            <a:avLst/>
          </a:prstGeom>
        </p:spPr>
        <p:txBody>
          <a:bodyPr wrap="none" lIns="90000" rIns="90000" tIns="46800" bIns="46800" anchor="t" anchorCtr="1">
            <a:prstTxWarp prst="textPlain">
              <a:avLst>
                <a:gd name="adj" fmla="val 49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Papyrus"/>
              </a:rPr>
              <a:t>Vítejte v Africe</a:t>
            </a:r>
            <a:endParaRPr b="0" lang="en-US" sz="96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Papyrus"/>
              <a:ea typeface="Papyrus"/>
            </a:endParaRPr>
          </a:p>
        </p:txBody>
      </p:sp>
    </p:spTree>
  </p:cSld>
  <p:transition advTm="10000">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adresa"/>
          <p:cNvPicPr/>
          <p:nvPr/>
        </p:nvPicPr>
        <p:blipFill>
          <a:blip r:embed="rId1"/>
          <a:stretch/>
        </p:blipFill>
        <p:spPr>
          <a:xfrm>
            <a:off x="2268360" y="404640"/>
            <a:ext cx="3772080" cy="1251000"/>
          </a:xfrm>
          <a:prstGeom prst="rect">
            <a:avLst/>
          </a:prstGeom>
          <a:ln w="0">
            <a:noFill/>
          </a:ln>
        </p:spPr>
      </p:pic>
      <p:sp>
        <p:nvSpPr>
          <p:cNvPr id="92" name="PlaceHolder 1"/>
          <p:cNvSpPr>
            <a:spLocks noGrp="1"/>
          </p:cNvSpPr>
          <p:nvPr>
            <p:ph/>
          </p:nvPr>
        </p:nvSpPr>
        <p:spPr>
          <a:xfrm>
            <a:off x="899640" y="2421000"/>
            <a:ext cx="7489800" cy="3657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nažili jsme se v ČR najít dostupné místo a zároveň co největší pozemek pro vytvoření výběhů</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o se nám podařilo na okraji Českých Budějovic, nedaleko Hluboké nad Vltavo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Text Box 15"/>
          <p:cNvSpPr/>
          <p:nvPr/>
        </p:nvSpPr>
        <p:spPr>
          <a:xfrm>
            <a:off x="3040200" y="928800"/>
            <a:ext cx="2323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3000">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1880" y="1628640"/>
            <a:ext cx="7986960" cy="4299120"/>
          </a:xfrm>
          <a:prstGeom prst="rect">
            <a:avLst/>
          </a:prstGeom>
          <a:noFill/>
          <a:ln w="0">
            <a:noFill/>
          </a:ln>
        </p:spPr>
        <p:txBody>
          <a:bodyPr anchor="t">
            <a:normAutofit/>
          </a:bodyPr>
          <a:p>
            <a:pPr marL="343080" indent="-343080" algn="ct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Speciálně upravené obrovské výběhy pro všechna zvířata, přizpůsobené jejich přírodnímu prostředí</a:t>
            </a:r>
            <a:endParaRPr b="0" lang="en-US" sz="2400" spc="-1" strike="noStrike">
              <a:solidFill>
                <a:srgbClr val="ffffff"/>
              </a:solidFill>
              <a:latin typeface="Arial"/>
            </a:endParaRPr>
          </a:p>
          <a:p>
            <a:pPr marL="343080" indent="-343080" algn="ct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zde několik vysokých rozhleden a každý návštěvník dostane při vstupu dalekohled, aby mu ze světa zvířat neunikl ani jeden moment</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o vše a ještě více!</a:t>
            </a:r>
            <a:endParaRPr b="0" lang="en-US" sz="2400" spc="-1" strike="noStrike">
              <a:solidFill>
                <a:srgbClr val="ffffff"/>
              </a:solidFill>
              <a:latin typeface="Arial"/>
            </a:endParaRPr>
          </a:p>
        </p:txBody>
      </p:sp>
    </p:spTree>
  </p:cSld>
  <p:transition advTm="14000">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6"/>
          <p:cNvSpPr txBox="1"/>
          <p:nvPr/>
        </p:nvSpPr>
        <p:spPr>
          <a:xfrm>
            <a:off x="2340000" y="2421000"/>
            <a:ext cx="48290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1"/>
                  <a:srcRect/>
                  <a:stretch/>
                </a:blipFill>
                <a:effectLst>
                  <a:outerShdw dist="17819" dir="2700000" blurRad="0" rotWithShape="0">
                    <a:srgbClr val="c0c0c0">
                      <a:alpha val="80000"/>
                    </a:srgbClr>
                  </a:outerShdw>
                </a:effectLst>
                <a:latin typeface="Kristen ITC"/>
              </a:rPr>
              <a:t>Analýza</a:t>
            </a:r>
            <a:endParaRPr b="0" lang="en-US" sz="6600" spc="1" strike="noStrike">
              <a:ln w="6480">
                <a:solidFill>
                  <a:srgbClr val="ffffff"/>
                </a:solidFill>
                <a:miter/>
              </a:ln>
              <a:blipFill rotWithShape="0">
                <a:blip r:embed="rId2"/>
                <a:srcRect/>
                <a:stretch/>
              </a:blipFill>
              <a:effectLst>
                <a:outerShdw dist="17819" dir="2700000" blurRad="0" rotWithShape="0">
                  <a:srgbClr val="c0c0c0">
                    <a:alpha val="80000"/>
                  </a:srgbClr>
                </a:outerShdw>
              </a:effectLst>
              <a:latin typeface="Kristen ITC"/>
              <a:ea typeface="Kristen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6480">
                  <a:solidFill>
                    <a:srgbClr val="ffffff"/>
                  </a:solidFill>
                  <a:miter/>
                </a:ln>
                <a:blipFill rotWithShape="0">
                  <a:blip r:embed="rId3"/>
                  <a:srcRect/>
                  <a:stretch/>
                </a:blipFill>
                <a:effectLst>
                  <a:outerShdw dist="17819" dir="2700000" blurRad="0" rotWithShape="0">
                    <a:srgbClr val="c0c0c0">
                      <a:alpha val="80000"/>
                    </a:srgbClr>
                  </a:outerShdw>
                </a:effectLst>
                <a:latin typeface="Kristen ITC"/>
              </a:rPr>
              <a:t>konkurence</a:t>
            </a:r>
            <a:endParaRPr b="0" lang="en-US" sz="6600" spc="1" strike="noStrike">
              <a:ln w="6480">
                <a:solidFill>
                  <a:srgbClr val="ffffff"/>
                </a:solidFill>
                <a:miter/>
              </a:ln>
              <a:blipFill rotWithShape="0">
                <a:blip r:embed="rId4"/>
                <a:srcRect/>
                <a:stretch/>
              </a:blipFill>
              <a:effectLst>
                <a:outerShdw dist="17819" dir="2700000" blurRad="0" rotWithShape="0">
                  <a:srgbClr val="c0c0c0">
                    <a:alpha val="80000"/>
                  </a:srgbClr>
                </a:outerShdw>
              </a:effectLst>
              <a:latin typeface="Kristen ITC"/>
              <a:ea typeface="Kristen ITC"/>
            </a:endParaRPr>
          </a:p>
        </p:txBody>
      </p:sp>
    </p:spTree>
  </p:cSld>
  <p:transition advTm="3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94920" y="2133360"/>
            <a:ext cx="7986600" cy="34542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eží nejblíže k naší ZOO</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Tato zoologická zahrada se specializuje na zvířata Evropy a klimaticky mírné části Asie, zejména ale na druhy fauny České republiky, tudíž pro nás není tak velkým nebezpečím, jelikož jejich zaměření je jiné, než naš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Lidé, kteří mají zájem o podrobnější Afriku, téměř určitě zavítají k nám, jelikož jim nabízíme, co chtějí – faunu, flóru, kulturu a historii tohoto kontinen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WordArt 6"/>
          <p:cNvSpPr txBox="1"/>
          <p:nvPr/>
        </p:nvSpPr>
        <p:spPr>
          <a:xfrm>
            <a:off x="2700360" y="333360"/>
            <a:ext cx="37432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ZOO Ohrada</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Hluboká nad Vltavou</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6000">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24000" y="2060640"/>
            <a:ext cx="8540640" cy="3481200"/>
          </a:xfrm>
          <a:prstGeom prst="rect">
            <a:avLst/>
          </a:prstGeom>
          <a:noFill/>
          <a:ln w="0">
            <a:noFill/>
          </a:ln>
        </p:spPr>
        <p:txBody>
          <a:bodyPr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Je druhou nejbližší ZOO</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Přestože je v Protivíně krokodýlí ZOO, Zoologické muzeum a nejrozsáhlejší středoevropská kolekce 18 druhů krokodýlů, pro naší ZOO Krále Jelimána není obchodním nebezpečím, jelikož se zaměřena na jiný druh zvířat.</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entury Gothic"/>
              </a:rPr>
              <a:t>Do budoucna dokonce zvažujeme spolupráci, krokodýly žijící v Africe chceme časem zařadit do naší ZOO, a tak je možné, že se z nás stanou obchodní přátelé</a:t>
            </a:r>
            <a:endParaRPr b="0" lang="en-US" sz="2400" spc="-1" strike="noStrike">
              <a:solidFill>
                <a:srgbClr val="ffffff"/>
              </a:solidFill>
              <a:latin typeface="Arial"/>
            </a:endParaRPr>
          </a:p>
        </p:txBody>
      </p:sp>
      <p:sp>
        <p:nvSpPr>
          <p:cNvPr id="99" name="WordArt 4"/>
          <p:cNvSpPr txBox="1"/>
          <p:nvPr/>
        </p:nvSpPr>
        <p:spPr>
          <a:xfrm>
            <a:off x="3059280" y="404640"/>
            <a:ext cx="28382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1"/>
                  <a:srcRect/>
                  <a:stretch/>
                </a:blipFill>
                <a:effectLst>
                  <a:outerShdw dist="17819" dir="2700000" blurRad="0" rotWithShape="0">
                    <a:srgbClr val="c0c0c0">
                      <a:alpha val="80000"/>
                    </a:srgbClr>
                  </a:outerShdw>
                </a:effectLst>
                <a:latin typeface="Informal Roman"/>
              </a:rPr>
              <a:t>Krokodýlí ZOO </a:t>
            </a:r>
            <a:endParaRPr b="0" lang="en-US" sz="4000" spc="1" strike="noStrike">
              <a:ln w="3240">
                <a:solidFill>
                  <a:srgbClr val="ffffff"/>
                </a:solidFill>
                <a:miter/>
              </a:ln>
              <a:blipFill rotWithShape="0">
                <a:blip r:embed="rId2"/>
                <a:srcRect/>
                <a:stretch/>
              </a:blipFill>
              <a:effectLst>
                <a:outerShdw dist="17819" dir="2700000" blurRad="0" rotWithShape="0">
                  <a:srgbClr val="c0c0c0">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240">
                  <a:solidFill>
                    <a:srgbClr val="ffffff"/>
                  </a:solidFill>
                  <a:miter/>
                </a:ln>
                <a:blipFill rotWithShape="0">
                  <a:blip r:embed="rId3"/>
                  <a:srcRect/>
                  <a:stretch/>
                </a:blipFill>
                <a:effectLst>
                  <a:outerShdw dist="17819" dir="2700000" blurRad="0" rotWithShape="0">
                    <a:srgbClr val="c0c0c0">
                      <a:alpha val="80000"/>
                    </a:srgbClr>
                  </a:outerShdw>
                </a:effectLst>
                <a:latin typeface="Informal Roman"/>
              </a:rPr>
              <a:t>Protivín</a:t>
            </a:r>
            <a:endParaRPr b="0" lang="en-US" sz="4000" spc="1" strike="noStrike">
              <a:ln w="3240">
                <a:solidFill>
                  <a:srgbClr val="ffffff"/>
                </a:solidFill>
                <a:miter/>
              </a:ln>
              <a:blipFill rotWithShape="0">
                <a:blip r:embed="rId4"/>
                <a:srcRect/>
                <a:stretch/>
              </a:blipFill>
              <a:effectLst>
                <a:outerShdw dist="17819" dir="2700000" blurRad="0" rotWithShape="0">
                  <a:srgbClr val="c0c0c0">
                    <a:alpha val="80000"/>
                  </a:srgbClr>
                </a:outerShdw>
              </a:effectLst>
              <a:latin typeface="Informal Roman"/>
              <a:ea typeface="Informal Roman"/>
            </a:endParaRPr>
          </a:p>
        </p:txBody>
      </p:sp>
    </p:spTree>
  </p:cSld>
  <p:transition advTm="17000">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10:35:50Z</dcterms:created>
  <dc:creator>morcinkova</dc:creator>
  <dc:description/>
  <dc:language>en-US</dc:language>
  <cp:lastModifiedBy>Igor</cp:lastModifiedBy>
  <dcterms:modified xsi:type="dcterms:W3CDTF">2014-09-13T14:54:34Z</dcterms:modified>
  <cp:revision>26</cp:revision>
  <dc:subject/>
  <dc:title>Snímek 1</dc:title>
</cp:coreProperties>
</file>