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CEB1-42C8-40D6-A352-467FB0AC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E965-6190-47DB-BD86-1AC809EF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BD7B-EF24-43EB-BB18-D1ED6593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E4CF-7F6C-4F27-93B0-AFF47D1F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D561-295F-4385-B762-63CA0A28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5415-31B3-424A-8591-F4561E1E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385C-5A81-44EB-9D8D-57DE1626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A474-6CDD-4383-A674-DA1B7C66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261C-EB2D-4DCC-A146-13E1AA8D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4C5D-0C46-498A-B11D-5150D31B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C5CF-2BE3-421C-A1F6-C34A1C6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4DB39-BDA1-4553-A6C5-02660DC7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1FDF-29D5-4401-B535-E0172791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EDEA-277B-4F25-BBB8-84A18F1F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47A9-2630-4ED2-B070-B86C3C69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F7ED-31AD-4D4D-A3DB-68D988F6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6FDE-FCF4-4548-8594-3F0E7465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A7DA5-0482-47F6-9E83-39B96EC4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DBED-A07D-4DE5-B963-D957D815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9109-74BF-49A9-8D99-12A7CAA6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47BA-A6FF-4E57-8461-B30357EA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264C-435B-46BA-ACB7-63E103D9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BAA1-2FB6-4710-A1A2-D3E2B6C1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49C3-A4A3-4B2E-86A6-B5B86CD3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84CD-11F1-4840-B702-7D1CFDDA3918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CC3B-0578-4649-A79E-6F92A06B9EFB}" type="slidenum">
              <a:rPr b="0" lang="cs-CZ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04920"/>
                <a:gridCol w="165744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739880" y="457200"/>
            <a:ext cx="566424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57200" y="1905120"/>
          <a:ext cx="8229600" cy="451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dotazníkem a hledají chyby v jeho sestav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ázky otevřené, uzavřen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"/>
              </a:rPr>
              <a:t>Dotazník - ukázk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2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žení občané, ke dn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1.2009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ro Vás otevíráme nové nákupní centrum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DD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eré bude zaměřené na oblečení pro všechny věkové kategorie. Proto by nás zajímalo, co Vám zde v nákupním centru chybí, co byste si zde přáli najít a další připomínk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Co byste si přáli najít v oddělení pro kojence a batolat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větší výběr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rozšíření sortimentu o obu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dětskou kosmetiku a jiné doplňky ( hračky, vaničky, chodítka, chrastítka apo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Jakého druhu zboží byste uvítali v dětském oddělení ví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oblečení zaměřené na určitou tématiku (sportovní, kulturní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3. Co byste si přáli mít v dámském a pánském oddělení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blečení pro volný č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olečenské obleč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4. Dáváte přednost obuvi vysoké kva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5. V módních doplňcích chcete převážně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opasky, šper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kabelky, kožená galanter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kravaty, manžetové knoflíčky (pánské doplňk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Jiné 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6. Přejete si mít v našem nákupním centru malou kavárn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7. Přejete si v našem nákupním centru mít dětský koute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8. Jaké oddělení byste zde ještě chtěli najít?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9. Uvítali byste kvalitu služeb jakou je například asistentka nebo poradkyně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Určitě a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Spíše 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Nev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) Spíše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) Určitě 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0. Jak byste naše nákupní centrum ohodnotili na stupnici 1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 zakroužkujte )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lepší –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jhorší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 – 2 – 3 – 4 –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1. Jak často nakupujete oblečení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aximálně 1 x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2 – 4 x  měsíčn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5 x a více  v měsí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2. Js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mu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ž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3. Váš vě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8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9 – 29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30 – 50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51 a více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3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4. Ve Vaší rodině se nacház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______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t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5. Váš měsíční příjem 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) 0 – 1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) 11 000 – 24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) 25 000 – 40 000 K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) 41 000 Kč a ví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ěkujeme za vyplnění našeho dotazníku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hodnoťte, zda dotazník obsahuje všechny čá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teré otázky jsou otevřené a které uzavřen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 každé otázky určete druh (dichotonická, vícevýběrová, vstupní věta,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sou splněny všechny požadavky kladené na sestavení dotazníku? Najděte případné chyby a zkuste je odstra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7:30:40Z</dcterms:created>
  <dc:creator>Administrator</dc:creator>
  <dc:description/>
  <dc:language>en-US</dc:language>
  <cp:lastModifiedBy>Igor</cp:lastModifiedBy>
  <dcterms:modified xsi:type="dcterms:W3CDTF">2014-09-13T15:24:47Z</dcterms:modified>
  <cp:revision>13</cp:revision>
  <dc:subject/>
  <dc:title>Snímek 1</dc:title>
</cp:coreProperties>
</file>