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10B-6F1D-4951-86F2-289EBCF3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A7B-8EEF-4BF9-A9AF-A1E81E1B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C4A-FC69-4114-A2B5-2C6A4CC1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788-CDE6-4D6A-AD93-6832D23F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9DE-2889-48CC-B60F-80BAD296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C8A-13D3-4541-9E39-F04AF4B8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946-0333-46A9-B547-FA0DEF64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417-1CB9-423A-A3AA-313E63DC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266-DB8A-4D5A-A5C5-F18173DF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B80-970B-46D8-B39C-8FFF0D5B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A52-C3FD-4A8A-A9D2-03ACB3C5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670-E287-4291-935E-2FC6DD1C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3F51-0523-4EED-A107-7143985A424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278000"/>
                <a:gridCol w="158436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9.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Členění oběžného majet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soby – věcná forma oběžného maj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riá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materiál a surov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mocný materi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honné hmo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robné nářa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ncelářské potře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istící prostřed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končená výroba – nedokončené výrobky v takovém stupni zpracování, že nejsou prodej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otovary – rozpracované výrobky, které by se už daly prodá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tové výrobky – určeny k prode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boží – vše, co je zakoupeno za účelem dalšího prode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ířata – zásoby pro zemědělskou výro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něžní forma oběžného maje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átkodobý finanční maj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níze v poklad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níze na běžném ú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n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rátkodobé cenné papí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ledáv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robn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užívá se déle než 1 r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á pořizovací cenu menší než 40 000,-, popř. 60 000,- K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Členění drobného majetk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Hmotn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Nehmotn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3366ff"/>
                </a:solidFill>
                <a:latin typeface="Arial"/>
              </a:rPr>
              <a:t>Uveďte příklady drobného hmotného a nehmotného majetk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droje krytí majet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949720"/>
            <a:ext cx="822960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66ff"/>
                </a:solidFill>
                <a:latin typeface="Arial"/>
              </a:rPr>
              <a:t>Jaké znáte zdroje krytí majetk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last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ondy tvořené ze zi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ff"/>
                </a:solidFill>
                <a:latin typeface="Arial"/>
              </a:rPr>
              <a:t>Jak můžeme použít disponibilní zi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Cizí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Bankovní úvě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statní závaz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dodavatel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zaměstnanc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OS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ůči zdravotním pojišťovnám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ff"/>
                </a:solidFill>
                <a:latin typeface="Arial"/>
              </a:rPr>
              <a:t>S jakými hospodářskými operacemi je spjat vznik závazků vůči uvedeným institucí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26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Co je to rozvaha a kdy ji sestav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vaha 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jetek = Aktiva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droje krytí = Pa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Dlouhodobý majet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lastn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Hmot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ákladní kapit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ehmot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Fo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Finanč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Oběžný majet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Ciz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ásob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Bankovní úvě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KF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Ostatní závaz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hledá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učet aktiv = součet pas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Arial"/>
              </a:rPr>
              <a:t>Příkla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Sestavte přehled aktiv a pasiv, pokud víte, že podnik měl k 31. 12. tento stav majetku a zdrojů krytí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. závazky vůči dodavatelů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1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2. pohledávk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3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3. dlouhodobý majetek celke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   3 500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4. peníze v pokladně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5. materiál na skladě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21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6. krátkodobý bankovní úvěr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45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7. výrobky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38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8. peníze na BÚ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62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9. závazky vůči zaměstnancům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76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10. ZK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       3 619 000,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0"/>
          <p:cNvGrpSpPr/>
          <p:nvPr/>
        </p:nvGrpSpPr>
        <p:grpSpPr>
          <a:xfrm>
            <a:off x="395280" y="0"/>
            <a:ext cx="8066160" cy="12528360"/>
            <a:chOff x="395280" y="0"/>
            <a:chExt cx="8066160" cy="12528360"/>
          </a:xfrm>
        </p:grpSpPr>
        <p:sp>
          <p:nvSpPr>
            <p:cNvPr id="91" name="AutoShape 21"/>
            <p:cNvSpPr/>
            <p:nvPr/>
          </p:nvSpPr>
          <p:spPr>
            <a:xfrm>
              <a:off x="395280" y="0"/>
              <a:ext cx="8066160" cy="125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2"/>
            <p:cNvSpPr/>
            <p:nvPr/>
          </p:nvSpPr>
          <p:spPr>
            <a:xfrm>
              <a:off x="556560" y="835200"/>
              <a:ext cx="12906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Ak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3"/>
            <p:cNvSpPr/>
            <p:nvPr/>
          </p:nvSpPr>
          <p:spPr>
            <a:xfrm>
              <a:off x="3299040" y="835200"/>
              <a:ext cx="20970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Rozvaha k 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4"/>
            <p:cNvSpPr/>
            <p:nvPr/>
          </p:nvSpPr>
          <p:spPr>
            <a:xfrm>
              <a:off x="7009560" y="835200"/>
              <a:ext cx="129060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Pas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>
              <a:off x="556560" y="2088000"/>
              <a:ext cx="77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6"/>
            <p:cNvSpPr/>
            <p:nvPr/>
          </p:nvSpPr>
          <p:spPr>
            <a:xfrm>
              <a:off x="395280" y="2505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DM celkem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3 500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OM – materiál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215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výrobky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38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peníze v pokl.          5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BÚ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62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- pohledávky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         30 000,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7"/>
            <p:cNvSpPr/>
            <p:nvPr/>
          </p:nvSpPr>
          <p:spPr>
            <a:xfrm>
              <a:off x="4267080" y="2505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VK – ZK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3 619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K – bank. Úvěr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  45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- dodavatelé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110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- zaměstnanci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    76 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8"/>
            <p:cNvSpPr/>
            <p:nvPr/>
          </p:nvSpPr>
          <p:spPr>
            <a:xfrm>
              <a:off x="556560" y="4176000"/>
              <a:ext cx="77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9"/>
            <p:cNvSpPr/>
            <p:nvPr/>
          </p:nvSpPr>
          <p:spPr>
            <a:xfrm>
              <a:off x="395280" y="4593600"/>
              <a:ext cx="4033080" cy="167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elkem A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 3 850 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0"/>
            <p:cNvSpPr/>
            <p:nvPr/>
          </p:nvSpPr>
          <p:spPr>
            <a:xfrm>
              <a:off x="4267080" y="4593600"/>
              <a:ext cx="4033080" cy="125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Celkem P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Arial"/>
                </a:rPr>
                <a:t>      3 850 000,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1"/>
            <p:cNvSpPr/>
            <p:nvPr/>
          </p:nvSpPr>
          <p:spPr>
            <a:xfrm>
              <a:off x="4267080" y="2088000"/>
              <a:ext cx="0" cy="37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zopakování a shrnutí učiva ekonom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ouhodobý majetek, oběžný majetek, vlastní zdroje krytí, cizí zdroje krytí, rozva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ajetek podni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Definujte majetek podni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jetek, který podnikatel vloží do podnikání se nazývá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bchodní maj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1476360" y="1844640"/>
            <a:ext cx="7201080" cy="4321080"/>
            <a:chOff x="1476360" y="1844640"/>
            <a:chExt cx="7201080" cy="4321080"/>
          </a:xfrm>
        </p:grpSpPr>
        <p:sp>
          <p:nvSpPr>
            <p:cNvPr id="54" name="AutoShape 5"/>
            <p:cNvSpPr/>
            <p:nvPr/>
          </p:nvSpPr>
          <p:spPr>
            <a:xfrm>
              <a:off x="1476360" y="1844640"/>
              <a:ext cx="720108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6"/>
            <p:cNvSpPr/>
            <p:nvPr/>
          </p:nvSpPr>
          <p:spPr>
            <a:xfrm>
              <a:off x="3924720" y="2420640"/>
              <a:ext cx="1440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Obchodní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1476360" y="4293000"/>
              <a:ext cx="1584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louhodob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6229080" y="4293000"/>
              <a:ext cx="1728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Oběžn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4068720" y="4293000"/>
              <a:ext cx="1152000" cy="7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robný majet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 flipH="1">
              <a:off x="2052360" y="3141000"/>
              <a:ext cx="2016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>
              <a:off x="5220720" y="3141000"/>
              <a:ext cx="1872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2"/>
            <p:cNvSpPr/>
            <p:nvPr/>
          </p:nvSpPr>
          <p:spPr>
            <a:xfrm>
              <a:off x="4644720" y="3141000"/>
              <a:ext cx="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66ff"/>
                </a:solidFill>
                <a:latin typeface="Arial"/>
              </a:rPr>
              <a:t>Čím se liší majetek dlouhodobý a oběžn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louhodob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ba použitelnosti je delší než 1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stá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spotřebovává se ve výrobě najednou, ale opotřebovává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Členění dlouhodobého majetk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hmotný majetek (DH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movitý majetek – pozemky a budovy bez ohledu na jejich pořizovací c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ovitý majetek – majetek, který má dobu použitelnosti nejméně 1 rok a pořizovací cenu větší než 40 000,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nehmotný majetek (DNM) – doba použitelnosti je delší než 1 rok a pořizovací cena větší než 60 000,- (licence, autorská práva, software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louhodobý finanční majetek (DFM) – na dobu delší než 1 rok (dlouhodobé cenné papíry, dlouhodobé půjčky poskytnuté jiným podnikatelům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běžný maj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Charakteris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ba použitelnosti kratší než 1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ní svoji podst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robě se spotřebová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5:54:33Z</dcterms:created>
  <dc:creator>klapuchova</dc:creator>
  <dc:description/>
  <dc:language>en-US</dc:language>
  <cp:lastModifiedBy>Igor</cp:lastModifiedBy>
  <dcterms:modified xsi:type="dcterms:W3CDTF">2014-09-13T15:02:16Z</dcterms:modified>
  <cp:revision>19</cp:revision>
  <dc:subject/>
  <dc:title>Majetek podniku</dc:title>
</cp:coreProperties>
</file>