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E0C56-7F8C-4F32-ACB2-7687CDEEA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D92ED-1989-4E54-A8A8-45E2D61F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B9876-F7CC-4430-B5F8-1D2D5D118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A2D4D-CCE6-46CC-B936-E378162C7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224E-B452-4D9F-AF08-79FB61A62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A56B-772E-4CB1-B1B8-DAB4FA8A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9505-9977-4201-B5C6-4085729D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3663-7FEA-4B9A-BE47-1945D47C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650E-B5FE-4EE5-AB8E-3CCA2CED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329B-E1DA-4580-BA41-48A59181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B1D0-F5E2-40F0-A1B6-4557466C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0A973-2446-439A-977C-290F4726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3305-9891-4F1D-BF28-A08C61E7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CBDD-512D-4B3F-8EE9-EC760BCB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F267-12A3-4C92-B063-E4122D72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4C35-949E-4976-8117-C38613233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4C48-C55E-4B68-B8B9-3D80CB0CD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BB219-C3CE-4AAA-8B9C-9D567085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AD279-CAC4-42E6-B32E-B531F571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4F61A-0385-478D-8AA7-70988C42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0C84E-ADD5-4AEB-98F1-16DFBD5A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62C0F-953C-4A88-91A7-E6414B77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C60C7-BC0A-469D-81B0-9CD4B08F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B8983-4C9B-4031-BFFA-C540ECD0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3E89-B5F3-48DA-9F0C-66092FD0B243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D370-30D4-4A66-905E-17ACC19F4548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1420920"/>
                <a:gridCol w="1584360"/>
                <a:gridCol w="2665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Y_32_INOVACE_1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. 11.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Rozhodovací proc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80071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Poznání potřeb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potřeby mohou být vyvolány vnitřním prostředím (poruchové stroje, nekvalitní materiál,…) nebo vnějším prostředím (změněné potřeby zákazníků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Specifikace výrobku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u opakovaného nákupu jsou podmínky známé, u nových nákupů je třeba určit požadovanou kvalitu, spolehlivost, cenu, množství,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Poznání dodavatelů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firma zjišťuje, jaké výrobky a služby a za jakých podmínek na trhu existují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Garamond"/>
              </a:rPr>
              <a:t>Jaké informace o dodavateli vás musí zajímat a kde je můžete získa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Garamond"/>
              </a:rPr>
              <a:t>Vyhodnocení a výběr dodavatel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– podle zvolených kritérií vybíráme nejvhodnějšího dodavatele a uzavíráme s ním kupní smlouv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Garamond"/>
              </a:rPr>
              <a:t>Jaká kritéria jsou podle vás rozhodující při výběru dodavatel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Garamond"/>
              </a:rPr>
              <a:t>Vyhodnocení nákup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– zhodnocení spokojenosti s nákup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Typy nákupního chování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Nový nákup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firma nakupuje výrobek poprvé, chce maximum informací, zvažuje rizik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Modifikovaný nákup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firma už jednou nebo vícekrát výrobek koupila, při dalším nákupu už nepotřebuje tolik informací. Zvažuje riziko spojené s vyšší cenou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Přímý nákup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firma už dodavatele zná, nakupuje často, riziko je minimální, nežádá už proto nové inform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Zkuste najít konkrétní případy nového nákupu, modifikovaného nákupu i přímého nákupu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droj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ŠVARCOVÁ, J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Ekonomie – stručný přehled,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ydání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ro rok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VĚTLÍK, J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Marketing – cesta k trh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, Zlín: EKKA, 1994. ISBN 80-900015-8-0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739880" y="274680"/>
            <a:ext cx="5664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468360" y="1495440"/>
          <a:ext cx="8229600" cy="4948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ostředí podni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ázev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ování spotřebitele na trh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6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zentace k seznámení studentů s chováním domácností a firem na trhu, s jejich rozhodovacím procesem. Možná diskuze o rozhodovacím procesu při různých nákupech v jejich domácnostech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ozhodovací proces, typy nákupního chová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e5e5ff"/>
                </a:solidFill>
                <a:latin typeface="Garamond"/>
              </a:rPr>
              <a:t>Chování spotřebitele na trhu</a:t>
            </a:r>
            <a:r>
              <a:rPr b="1" lang="cs-CZ" sz="6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5224320"/>
            <a:ext cx="6400800" cy="3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e5e5ff"/>
                </a:solidFill>
                <a:uFillTx/>
                <a:latin typeface="Garamond"/>
              </a:rPr>
              <a:t>Chování individuálních kupujících a domácností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8208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Spotřebitel může při rozhodování o koupi vystupovat v 5 rolích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Iniciátor – ten, kdo dává podnět k nákup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vlivňovatel – ten, kdo svými připomínkami, návrhy,… koupi ovlivňuj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Rozhodovatel – ten, kdo rozhodne o nákup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Kupující – ten, kdo uskuteční náku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Uživatel, spotřebitel – ten, kdo předmět užívá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Garamond"/>
              </a:rPr>
              <a:t>V jaké roli vystupujete doma Vy při nákupu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Garamond"/>
              </a:rPr>
              <a:t>a/ potrav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Garamond"/>
              </a:rPr>
              <a:t>b/ elektronik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38512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e5e5ff"/>
                </a:solidFill>
                <a:latin typeface="Garamond"/>
              </a:rPr>
              <a:t>Rozhodovací proc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4920" y="549360"/>
            <a:ext cx="80074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Poznání problému</a:t>
            </a:r>
            <a:r>
              <a:rPr b="0" i="1" lang="cs-CZ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– člověk si uvědomuje potřebu, která může vycházet z vnitřních nebo vnějších pohnute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Zjišťování informací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 – kupující může zjišťovat informac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Aktivně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Pasivně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Zdroje informací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8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Sdělovací prostředk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8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sobní zdroj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8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Jiné zdroj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Garamond"/>
              </a:rPr>
              <a:t>Které zdroje informací jsou pro vás nejdůvěryhodnější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Garamond"/>
              </a:rPr>
              <a:t>Jaké zdroje informací doma používáte při nákupu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Garamond"/>
              </a:rPr>
              <a:t>a/ potrav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Garamond"/>
              </a:rPr>
              <a:t>b/ elektronik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74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Zhodnocení alternativ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kupující hodnotí informace, které získal a rozhoduje se o druhu a značce výrobk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Rozhodnutí o nákupu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rozhodnutí  také o tom, kdy a kde výrobek koupí. V této fázi ještě může kupující od svého rozhodnutí o nákupu ustoupi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Garamond"/>
              </a:rPr>
              <a:t>Vyhodnocení nákupu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chování spojené s činnostmi po nákupu, má 2 etapy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okupní uspokoje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okupní činno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Jak se chováte v případě, ž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Jste s výrobkem spokojeni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Nejste s výrobkem spokojeni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Typy nákupního chování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5280" y="1312560"/>
            <a:ext cx="8007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Automatické chování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 – jedná se o častý nákup, kupující výrobek dobře zná, věnuje nákupu méně času a pozornosti, nepotřebuje hledat další informace. Např. potravin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Řešení omezeného problému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 – jedná se o nákup, kdy zákazník je celkem dobře obeznámen se sortimentem, nezná ale všechny značky, podmínky koupě atd. Nákup provádí občas, např. oblečení, kosmetik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Řešení extenzivního problému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 – jedná se o nákup neznámého zboží, výrobek je drahý, zákazník potřebuje mnoho informací, čas na rozmyšlení, zhodnocení alternativ a rozhodnutí o nákupu, např. auto, byt, vybavení domácnost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e5e5ff"/>
                </a:solidFill>
                <a:uFillTx/>
                <a:latin typeface="Garamond"/>
              </a:rPr>
              <a:t>Chování firem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74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Chování firem jako kupujících je složitější než u individuálního kupujícíh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Garamond"/>
              </a:rPr>
              <a:t>Zkuste najít důvod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4920" y="549360"/>
            <a:ext cx="8280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Hlavní důvod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o procesu nákupu je zapojeno více oso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Rozhodnutí o nákupu trvá delší dob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Osoby, které o nákupu rozhodují, jsou ovlivňovány různými motivy (racionálními, emocionálními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akupované výrobky jsou často technicky náročné a osoby, které je nakupují, musí mít určité technické a obchodní znalos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7:14:57Z</dcterms:created>
  <dc:creator>kabek</dc:creator>
  <dc:description/>
  <dc:language>en-US</dc:language>
  <cp:lastModifiedBy>Igor</cp:lastModifiedBy>
  <dcterms:modified xsi:type="dcterms:W3CDTF">2014-09-13T14:55:23Z</dcterms:modified>
  <cp:revision>17</cp:revision>
  <dc:subject/>
  <dc:title>Chování spotřebitele na trhu</dc:title>
</cp:coreProperties>
</file>