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A8A1-A330-4994-BDB7-9C1E8A2F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501F-0A4C-4DF1-B3DF-426359C0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E06E-2864-40F8-8DAD-63D43DA2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5FC0-8884-4F80-B93E-2EA22D8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719-0AD8-4907-A304-F6CEDA65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6E41-044B-42BC-B66C-54AC4574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10DD-810B-44E5-B692-44E1326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5E02-E1B5-42F1-8958-318D796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463F-F3F8-4231-BCC5-118857C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A666-A8F7-4361-9095-6C68A2B4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F042-4702-415D-8286-50BACD2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6450-7EF3-4A46-85FA-F518C46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F90-7021-4EC7-BF54-DE4002B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33AD-78D1-40A0-AE83-B6D39DF9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CB9E-2170-40BF-9C92-C21893C2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9714-73B8-407D-A7E7-013FB8EE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2A6-2843-4431-A41A-FA44CE8F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4D55-D73F-41CA-82C5-4983325D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8539-6F87-4B5E-8239-403486E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A993-627B-4825-B941-ECFE24C1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DEE4-B7D7-472A-96A1-86AF325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12FC-D8B8-48F4-AF6B-B3A6F972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4F9E-5F58-44C6-9AEF-482131C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0B51-D626-4C53-A547-7624045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DCE-7B38-4CDE-A17F-39523FFD8AB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7869-3FCA-4A30-9368-03F1EDCCD56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727280"/>
                <a:gridCol w="1512720"/>
                <a:gridCol w="273708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1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 11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Dotaz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dotaz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ými způsoby můžete kontaktovat dotazované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otazování se uskutečňuje prostřednictvím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spondenty můžeme kontaktovat 3 způsob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Písemně</a:t>
            </a: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 – poštou nebo vhazováním do schráne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nízké nákla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lá návratnost – je nutné ji zvyšovat např. soutěžemi, dárky, urgenčními dopis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Telefonicky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yšší návrat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šší náklady, nutnost klást jednoduché otáz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Garamond"/>
              </a:rPr>
              <a:t>Osobně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+ velká návratnost dotazní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vysoké náklady, nutnost vyškolit tazate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Druhy dotazován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strukturované – dotazník je pro všechny respondenty stejný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polostrukturované – v dotazníku se připouští odchylky podle reakcí respondentů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Garamond"/>
              </a:rPr>
              <a:t>nestrukturované – je stanoven pouze cíl dotazování a tazatel se může ptát každého respondenta jinak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Dotazník – nástroj marketingového výzkumu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Část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slovení, vysvětlení výzkum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k téma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Klasifikační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děko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2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za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ichotonick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ícevýběrov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souhlasu nebo nesouhl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jadřující stupeň důležit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ycházející ze slovního rozliše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odov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Úplně otevře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lovní asoci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stupní 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evřený příbě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olně komentovaný obráz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Garamond"/>
              </a:rPr>
              <a:t>Ke každému typu otázky vytvořte příkl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5e5ff"/>
                </a:solidFill>
                <a:uFillTx/>
                <a:latin typeface="Garamond"/>
              </a:rPr>
              <a:t>Pravidla při sestavování dotazníku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Uvádět všechny možnosti odpověd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tázky musí být jednoduch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cizí slo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do daleké budouc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kládat vícenásobné otázk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klást otázky na prestižní a intimní tém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Nepoužívat slova denně, pravidelně, nyní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rovést pilotáž dotazní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90512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poznávají důležitost informací a způsoby jejich získávání, diskutují o svých zkušenostech s marketingovými výzkumy, kterých se zúčastni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IS, marketingový výzkum, dotaz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e5e5ff"/>
                </a:solidFill>
                <a:latin typeface="Garamond"/>
              </a:rPr>
              <a:t>Marketingový výzkum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5153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Proč jsou v podnikání důležité inform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Jaké požadavky na informace kladem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Garamond"/>
              </a:rPr>
              <a:t>Z jakých zdrojů informace můžeme získa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arketingový informační systé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62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MIS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– zahrnuje pracovníky, zařízení a informační technologie pro sběr, třídění, analýzy, vyhodnocování a distribuci informací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Požadavky na informace:</a:t>
            </a: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 potřebné, včasné, přesné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ffffff"/>
                </a:solidFill>
                <a:uFillTx/>
                <a:latin typeface="Garamond"/>
              </a:rPr>
              <a:t>Zdroje informací MI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interní podnikové zdroje – informace z účetnictví, podnikových statistik, databází,… Poskytují informace o nákladech, výnosech, výsledku hospodaření,…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á inteligence – poskytuje informace o marketingovém prostředí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vlastní zaměstnanci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prodejní článk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konkur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specializované agentu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Garamond"/>
              </a:rPr>
              <a:t>marketingový výzkum – poskytuje informace o trhu, konkurenci, prostředí a hlavně o zákaznících, o jejich potřebách a reakcích na marketingový mix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arketingový výzkumný proces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Etap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říprava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efinování problému a orientační analýza situace včetně stanovení hypotéz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lán výzkumu – obsahuje druh a zdroje informací, výběr vzorku (náhodný, výběrový, typický), stanovení metody výzkumu, způsob analýzy, rozpočet, časový harmonogr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Realizace výzkum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Sběr informac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Zpracování a analýza informací (úprava, klasifikování, kódování, technické zpracování informac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-2124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Interpretace výsledků, závěry (potvrzení nebo vyvrácení hypotézy), doporuč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Metody marketingového výzkumu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27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Základní metod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Garamond"/>
              </a:rPr>
              <a:t>Pozoro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V jakých případech byste pozorování použil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Garamond"/>
              </a:rPr>
              <a:t>Jaké jsou výhody a nevýhody pozorován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ři pozorování se zaznamenává, jak se spotřebitelé chovají při nákupu, a to buď osobně, nebo prostřednictvím kamer. Používá se, pokud nám zákazník nechce nebo nemůže poskytnout požadované informace. Musí být nenápadné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pozorování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tandardizované – pozorovatel má přesně určeno co, jak, kdy, kde má pozorovat a jak má zaznamenat výsledky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estandardizované – pozorovatel má stanoven pouze cíl pozorování a všechno ostatní si určuje sá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+ nezávislost na ochotě zákazníků spolupracov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- velmi vysoké nároky na pozorovatele, časově náročn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Informace jsou čerpány ze skutečností, které jsou z důvodů výzkumu schválně přichystá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ruhy experiment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Laboratorní – test párového srovnává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V terénu – v prodejnách změníme např. umístění výrobků a sledujeme reakci zákazník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0:11:23Z</dcterms:created>
  <dc:creator>kabek</dc:creator>
  <dc:description/>
  <dc:language>en-US</dc:language>
  <cp:lastModifiedBy>Igor</cp:lastModifiedBy>
  <dcterms:modified xsi:type="dcterms:W3CDTF">2014-09-13T15:04:41Z</dcterms:modified>
  <cp:revision>19</cp:revision>
  <dc:subject/>
  <dc:title>Marketingový výzkum a segmentace trhu</dc:title>
</cp:coreProperties>
</file>