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84E-A3FD-4AB8-98F6-EC5F8101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BEE2-84D1-4D0B-9384-259E8708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BE0-B6ED-4A7B-9A53-9711E471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F13-E8B1-4475-9DF5-C678A8B2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67C5-1F58-45EC-9CD1-03D51885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E7FE-4178-417D-BAA7-A1EE92D8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85E5-2B79-4E68-8A18-6CF35ABA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2676-BAF5-49BB-B3D8-591B03E1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4B26-9F0C-48D0-876D-850C6909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B061-61B9-41EA-80F5-B30BB4BA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1862-D58C-4462-9DA7-53EADAE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697-73C9-4A05-B52F-7A8260C2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731C-D85A-46E8-81AD-44A7AA18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00B1-DB1E-46A3-BD22-1801BCEC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F979-22FE-4765-A110-A5E88A99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6C76-C357-4130-85F4-F9846BF5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C8D0-AA1E-4E6D-B6BF-EAAE0286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DFC-0ED9-43CE-8A42-6B462131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055-1853-4D76-9DC8-A21B5605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82F-30EB-49C5-8B1D-4AFB8528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F75-9B44-4D08-AFA9-72FD870C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562-74D2-4EDA-A54A-5EB670FF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FB8-E231-46B7-BFE5-66E920F0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89A-E6D5-43DE-BB28-B82FDB51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0DC0-37DD-4C4B-84AF-C6EE529DAB3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5D7C-7F41-4563-B8F0-2FF5DA792AD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ukový materiál zpracován v rámci projektu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U peníze školá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gistrační číslo projektu: CZ.1.07/1.5.00/34.02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11280"/>
                <a:gridCol w="1441440"/>
                <a:gridCol w="1656000"/>
                <a:gridCol w="295272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1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10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333360"/>
            <a:ext cx="814716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Daňové odpis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řídí se zákonem o dani z příj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jadřují opotřebení majetku v průměrných podmínká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yto odpisy ovlivňují daň z příjmu, metody výpočtu jsou závazně stanoveny stá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metod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rovnoměr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zrychlené odpisová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 případě technického zhodnocení (přestavba, rekonstrukce, modernizace, …) dražšího než 40 000,- Kč ročně se zvyšuje hodnota dlouhodobého majetku a odpisy se provádí ze zvýšené cen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89080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je to technické zhodnocení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daje na nástavby, přístavby, stavební úpravy, rekonstrukce a modernizace majetku, pokud převýšily u jednotlivého DHM nebo DNM v úhrnu za rok částku 40 000,- Kč. *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Z zvyšuje PC majetku, při odepisování je nutné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Zvýšit PC (V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užít sazby (koeficienty) pro zvýšenou 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echnické zhodnocení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a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derniza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rozšíření vybavenosti nebo použitelnosti majetk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b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konstrukc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zásahy do majetku, které mají za následek změnu jeho účelu nebo technických parametr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vyšuje PC majetku, projeví se v nákladech postupně pomocí vyšších odpis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y na odpis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 lednu 2008 si firma koupila auto, PC 200 000,- Kč. Odpisujte rovnoměr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Firma koupila v únoru 2008 traktor, jehož PC je 1 600 000,- Kč. Odpisujte zrychleně, odpisová skupina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u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2492280"/>
          <a:ext cx="8964720" cy="3819600"/>
        </p:xfrm>
        <a:graphic>
          <a:graphicData uri="http://schemas.openxmlformats.org/drawingml/2006/table">
            <a:tbl>
              <a:tblPr/>
              <a:tblGrid>
                <a:gridCol w="1793880"/>
                <a:gridCol w="1792440"/>
                <a:gridCol w="1792080"/>
                <a:gridCol w="1893960"/>
                <a:gridCol w="169236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5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76280"/>
            <a:ext cx="3809880" cy="56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rak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484280"/>
          <a:ext cx="8785440" cy="475128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8960"/>
                <a:gridCol w="1755720"/>
                <a:gridCol w="175752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1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72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y na odpisy s technickým zhodnocení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pořídila v roce 2008 budovu v PC 1 300 000,- Kč, v roce 2009 provedla technické zhodnocení za 900 000,- Kč. Odpisová skupina 6, vypočítejte odpisy v prvních 5 letech rovnoměr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Firma koupila v lednu 2008 stroj, PC 700 000,- Kč. V roce 2010 byla provedena modernizace v hodnotě 100 000,- Kč. Odpisová skupina 2, odpisujte zrychleně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bcbcb"/>
                </a:solidFill>
                <a:latin typeface="Times New Roman"/>
              </a:rPr>
              <a:t>Řešení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Budov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565360"/>
          <a:ext cx="9144000" cy="40147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3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286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142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98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54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200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00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9 26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010 740,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o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413000"/>
          <a:ext cx="8748720" cy="4800600"/>
        </p:xfrm>
        <a:graphic>
          <a:graphicData uri="http://schemas.openxmlformats.org/drawingml/2006/table">
            <a:tbl>
              <a:tblPr/>
              <a:tblGrid>
                <a:gridCol w="1749600"/>
                <a:gridCol w="1749240"/>
                <a:gridCol w="1751040"/>
                <a:gridCol w="1749600"/>
                <a:gridCol w="1749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áv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,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8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1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9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 8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 2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6 4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 6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00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*)ŠTOHL, P.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Učebnice účetnictví pro střední školy a veřejnost II. Díl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ojmo 2009. ISBN 978-80-87237-13-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898640" y="609480"/>
            <a:ext cx="53467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457200" y="1905120"/>
          <a:ext cx="8229600" cy="4906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ázev učebního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 dlouhodobého majet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pisy, oprávky, zůstatková cena, technické zhodnoc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9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bcbcb"/>
                </a:solidFill>
                <a:latin typeface="Times New Roman"/>
              </a:rPr>
              <a:t>Odpisy dlouhodobého majetku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5562000"/>
            <a:ext cx="64008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Co to jsou odpisy a proč majetek odpisujem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275400"/>
            <a:ext cx="6870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louhodobý majetek se opotřebovává postupně, a proto se jeho hodnota postupně přenáší do nákladů firm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otřebení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Fyzické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opotřebení používání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Morální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majetek technicky zaostáv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Definujte základní pojmy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dpis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Oprávk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Z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peněžní vyjádření opotřebení majetku za určité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právky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– souhrn všech odpisů za dobu užívání majet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ůstatková cena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= pořizovací cena – opráv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973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696080" cy="181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99"/>
                </a:solidFill>
                <a:latin typeface="Arial"/>
              </a:rPr>
              <a:t>Jaké znáte druhy odpisů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Druhy odpi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Účetní odpisy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– jsou upraveny zákonem 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yto odpisy vyjadřují skutečné opotřebení dlouhodobého majetku v konkrétních podmínká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etoda výpočtu odpisu závisí na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7:21:45Z</dcterms:created>
  <dc:creator>klapuchova</dc:creator>
  <dc:description/>
  <dc:language>en-US</dc:language>
  <cp:lastModifiedBy>Igor</cp:lastModifiedBy>
  <dcterms:modified xsi:type="dcterms:W3CDTF">2014-09-13T15:05:14Z</dcterms:modified>
  <cp:revision>23</cp:revision>
  <dc:subject/>
  <dc:title>Odpisy dlouhodobého majetku</dc:title>
</cp:coreProperties>
</file>