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88D4A-BBF8-4E0E-B3AE-F01BB5D614C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881D5-599C-441C-840D-20761D4583C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F4C6-89AA-45D6-B5B1-4DB3664FC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DDEC-9D10-422E-917C-3A3899785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193E-DA55-42BC-81C9-925EB91AD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C113-D3FD-4609-A46C-50D2C58A0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F9C3-6342-4D8F-9963-84E049575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1E06-59A3-4E91-94F1-C033F40E3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F596-090B-4D4E-9F6F-94E866019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C4EA-C7A9-4B68-B5C7-53D06FC2E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4489-4D49-4DB3-A3BE-745B671AB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18A0-D744-4551-94BF-3D58BDAD8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EB57-2216-452C-B2D4-1E9653D72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2D8E-0D03-4EE0-B09C-70E7173A8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DB6BC-5747-44EE-8384-81C72B5DEAF7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Výukový materiál zpracován v rámci projekt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EU peníze školá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Registrační číslo projektu: CZ.1.07/1.5.00/34.02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0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366920"/>
                <a:gridCol w="1513080"/>
                <a:gridCol w="1800000"/>
                <a:gridCol w="2881440"/>
              </a:tblGrid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Šablona: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I/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Č. materiálu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_32_INOVACE_18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39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méno autora: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g. Bohuslava Klapuchová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řída/ročník: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ročník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um vytvoření: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. 9. 201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-111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3640" y="0"/>
            <a:ext cx="822636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eřej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inanční veřejnost – banky, pojišťovny, investoři,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dělovací prostředky – TV, rozhlas, tisk,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láda a vládní orgá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ístní veřejnost – obyvatelé žijící v blízkosti fir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becná veřej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nitřní veřejnost – zaměstnan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ff"/>
                </a:solidFill>
                <a:latin typeface="Arial"/>
              </a:rPr>
              <a:t>Uveďte konkrétní situace, jak může veřejnost ovlivnit fir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ákazní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potřební trhy – zaměřené na domác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ůmyslové trhy – zaměřené na fir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bchodní trhy – MO, 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átní tr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ezinárodní trhy – všechny dříve jmenované trhy v zahranič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Marketingové makroprostřed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konomické prostřed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livy: inflace, nezaměstnanost, cla, daně, hospodářská politika státu,výše minimální mzdy, úroková míra,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ff"/>
                </a:solidFill>
                <a:latin typeface="Arial"/>
              </a:rPr>
              <a:t>Na internetu zjistěte, jaká je výše inflace, nezaměstnanosti, průměrné a minimální mz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emografické prostřed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livy: počet obyvatel, hustota obyvatel, pohlaví, věk, počet členů domácností, porodnost, úmrtnosti, migrace obyvatel,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írodní prostřed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livy: klimatické podmínky, půdní poměry, nerostné bohatství, ochrana životního prostředí,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111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9280" y="404280"/>
            <a:ext cx="822636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echnologické prostřed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livy: vědeckotechnický pokrok, nové technologie, genetické inženýrství,stále nové požadavky zákazníků,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litické prostřed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livy: legislativa, politika státu, mezinárodní politická situace,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ff"/>
                </a:solidFill>
                <a:latin typeface="Arial"/>
              </a:rPr>
              <a:t>Které zákony musíte znát a dodržovat, pokud chcete podnikat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ociálně-kulturní prostřed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livy: hodnoty a postoje lidí, životní styl, náboženství, vzdělanost,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ŠVARCOVÁ, J.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Ekonomie – stručný přehled,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dání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o rok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012/2013 Zlín : Nakladatelství a vydavatelství Ing. Jena Švarcová, Ph. D., CEED, 2012. ISBN 987-80-87301-16-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VĚTLÍK, J.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Marketing – cesta k trhu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, Zlín: EKKA, 1994. ISBN 80-900015-8-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1739880" y="274680"/>
            <a:ext cx="566424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3" name=""/>
          <p:cNvGraphicFramePr/>
          <p:nvPr/>
        </p:nvGraphicFramePr>
        <p:xfrm>
          <a:off x="324000" y="1341360"/>
          <a:ext cx="7920000" cy="5453280"/>
        </p:xfrm>
        <a:graphic>
          <a:graphicData uri="http://schemas.openxmlformats.org/drawingml/2006/table">
            <a:tbl>
              <a:tblPr/>
              <a:tblGrid>
                <a:gridCol w="3960720"/>
                <a:gridCol w="3959280"/>
              </a:tblGrid>
              <a:tr h="44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zdělávací oblast: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dnikání a podnikové činnost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ématická oblast: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středí podniku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ředmět: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ing a management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ázev učebního materiálu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lýza prostředí z pohledu marketingu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stižný popis způsobu využití, případně metodické pokyny: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zentace k vysvětlení vlivů prostředí na firmu, objasní vzájemné ovlivňování jednotlivých částí prostředí a firmy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líčová slova: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ingové mikroprostředí, marketingové mezoprostředí, marketingové makroprostředí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uh učebního materiálu: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zentace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4360" y="112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MARKETING A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cc3300"/>
                </a:solidFill>
                <a:latin typeface="Arial"/>
              </a:rPr>
              <a:t>Analýza prostředí firmy z pohledu marketing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8200" y="402840"/>
            <a:ext cx="7539120" cy="86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Schéma marketingového prostřed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72" descr="Marketing"/>
          <p:cNvPicPr/>
          <p:nvPr/>
        </p:nvPicPr>
        <p:blipFill>
          <a:blip r:embed="rId1"/>
          <a:stretch/>
        </p:blipFill>
        <p:spPr>
          <a:xfrm>
            <a:off x="911160" y="1600200"/>
            <a:ext cx="731844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Marketingové mikroprostřed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7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rganizační struktura a personální vzta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rganizační struktur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unkcionál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Organization Chart 47"/>
          <p:cNvGrpSpPr/>
          <p:nvPr/>
        </p:nvGrpSpPr>
        <p:grpSpPr>
          <a:xfrm>
            <a:off x="1042920" y="2133720"/>
            <a:ext cx="7921440" cy="4462560"/>
            <a:chOff x="1042920" y="2133720"/>
            <a:chExt cx="7921440" cy="4462560"/>
          </a:xfrm>
        </p:grpSpPr>
        <p:cxnSp>
          <p:nvCxnSpPr>
            <p:cNvPr id="61" name="_s1028"/>
            <p:cNvCxnSpPr>
              <a:stCxn id="62" idx="0"/>
              <a:endCxn id="63" idx="2"/>
            </p:cNvCxnSpPr>
            <p:nvPr/>
          </p:nvCxnSpPr>
          <p:spPr>
            <a:xfrm flipH="1" flipV="1" rot="5400000">
              <a:off x="4044240" y="3850560"/>
              <a:ext cx="893160" cy="102780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4" name="_s1029"/>
            <p:cNvCxnSpPr>
              <a:stCxn id="65" idx="0"/>
              <a:endCxn id="63" idx="2"/>
            </p:cNvCxnSpPr>
            <p:nvPr/>
          </p:nvCxnSpPr>
          <p:spPr>
            <a:xfrm flipV="1" rot="16200000">
              <a:off x="6097320" y="2824560"/>
              <a:ext cx="893160" cy="307980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6" name="_s1030"/>
            <p:cNvCxnSpPr>
              <a:stCxn id="67" idx="0"/>
              <a:endCxn id="63" idx="2"/>
            </p:cNvCxnSpPr>
            <p:nvPr/>
          </p:nvCxnSpPr>
          <p:spPr>
            <a:xfrm flipV="1" rot="16200000">
              <a:off x="5070240" y="3851640"/>
              <a:ext cx="893160" cy="102564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8" name="_s1031"/>
            <p:cNvCxnSpPr>
              <a:stCxn id="69" idx="0"/>
              <a:endCxn id="63" idx="2"/>
            </p:cNvCxnSpPr>
            <p:nvPr/>
          </p:nvCxnSpPr>
          <p:spPr>
            <a:xfrm flipH="1" flipV="1" rot="5400000">
              <a:off x="3018240" y="2824560"/>
              <a:ext cx="893160" cy="307980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63" name="_s1032"/>
            <p:cNvSpPr/>
            <p:nvPr/>
          </p:nvSpPr>
          <p:spPr>
            <a:xfrm>
              <a:off x="4122360" y="2133720"/>
              <a:ext cx="1760760" cy="1784880"/>
            </a:xfrm>
            <a:custGeom>
              <a:avLst/>
              <a:gdLst>
                <a:gd name="textAreaLeft" fmla="*/ 85680 w 1760760"/>
                <a:gd name="textAreaRight" fmla="*/ 1675080 w 1760760"/>
                <a:gd name="textAreaTop" fmla="*/ 85680 h 1784880"/>
                <a:gd name="textAreaBottom" fmla="*/ 1699200 h 1784880"/>
              </a:gdLst>
              <a:ahLst/>
              <a:rect l="textAreaLeft" t="textAreaTop" r="textAreaRight" b="textAreaBottom"/>
              <a:pathLst>
                <a:path w="21600" h="21896">
                  <a:moveTo>
                    <a:pt x="3600" y="0"/>
                  </a:moveTo>
                  <a:arcTo wR="3600" hR="3600" stAng="16200000" swAng="-5400000"/>
                  <a:lnTo>
                    <a:pt x="0" y="18296"/>
                  </a:lnTo>
                  <a:arcTo wR="3600" hR="3600" stAng="10800000" swAng="-5400000"/>
                  <a:lnTo>
                    <a:pt x="18000" y="2189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Ředitel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_s1033"/>
            <p:cNvSpPr/>
            <p:nvPr/>
          </p:nvSpPr>
          <p:spPr>
            <a:xfrm>
              <a:off x="1042920" y="4811400"/>
              <a:ext cx="1760760" cy="1784880"/>
            </a:xfrm>
            <a:custGeom>
              <a:avLst/>
              <a:gdLst>
                <a:gd name="textAreaLeft" fmla="*/ 85680 w 1760760"/>
                <a:gd name="textAreaRight" fmla="*/ 1675080 w 1760760"/>
                <a:gd name="textAreaTop" fmla="*/ 85680 h 1784880"/>
                <a:gd name="textAreaBottom" fmla="*/ 1699200 h 1784880"/>
              </a:gdLst>
              <a:ahLst/>
              <a:rect l="textAreaLeft" t="textAreaTop" r="textAreaRight" b="textAreaBottom"/>
              <a:pathLst>
                <a:path w="21600" h="21896">
                  <a:moveTo>
                    <a:pt x="3600" y="0"/>
                  </a:moveTo>
                  <a:arcTo wR="3600" hR="3600" stAng="16200000" swAng="-5400000"/>
                  <a:lnTo>
                    <a:pt x="0" y="18296"/>
                  </a:lnTo>
                  <a:arcTo wR="3600" hR="3600" stAng="10800000" swAng="-5400000"/>
                  <a:lnTo>
                    <a:pt x="18000" y="2189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Výzkum a vývoj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ýrobek A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ýrobek B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ýrobek C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_s1034"/>
            <p:cNvSpPr/>
            <p:nvPr/>
          </p:nvSpPr>
          <p:spPr>
            <a:xfrm>
              <a:off x="5149440" y="4811400"/>
              <a:ext cx="1760760" cy="1784880"/>
            </a:xfrm>
            <a:custGeom>
              <a:avLst/>
              <a:gdLst>
                <a:gd name="textAreaLeft" fmla="*/ 85680 w 1760760"/>
                <a:gd name="textAreaRight" fmla="*/ 1675080 w 1760760"/>
                <a:gd name="textAreaTop" fmla="*/ 85680 h 1784880"/>
                <a:gd name="textAreaBottom" fmla="*/ 1699200 h 1784880"/>
              </a:gdLst>
              <a:ahLst/>
              <a:rect l="textAreaLeft" t="textAreaTop" r="textAreaRight" b="textAreaBottom"/>
              <a:pathLst>
                <a:path w="21600" h="21896">
                  <a:moveTo>
                    <a:pt x="3600" y="0"/>
                  </a:moveTo>
                  <a:arcTo wR="3600" hR="3600" stAng="16200000" swAng="-5400000"/>
                  <a:lnTo>
                    <a:pt x="0" y="18296"/>
                  </a:lnTo>
                  <a:arcTo wR="3600" hR="3600" stAng="10800000" swAng="-5400000"/>
                  <a:lnTo>
                    <a:pt x="18000" y="2189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Výroba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ýrobek A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ýrobek B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ýrobek C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_s1035"/>
            <p:cNvSpPr/>
            <p:nvPr/>
          </p:nvSpPr>
          <p:spPr>
            <a:xfrm>
              <a:off x="7203600" y="4811400"/>
              <a:ext cx="1760760" cy="1784880"/>
            </a:xfrm>
            <a:custGeom>
              <a:avLst/>
              <a:gdLst>
                <a:gd name="textAreaLeft" fmla="*/ 85680 w 1760760"/>
                <a:gd name="textAreaRight" fmla="*/ 1675080 w 1760760"/>
                <a:gd name="textAreaTop" fmla="*/ 85680 h 1784880"/>
                <a:gd name="textAreaBottom" fmla="*/ 1699200 h 1784880"/>
              </a:gdLst>
              <a:ahLst/>
              <a:rect l="textAreaLeft" t="textAreaTop" r="textAreaRight" b="textAreaBottom"/>
              <a:pathLst>
                <a:path w="21600" h="21896">
                  <a:moveTo>
                    <a:pt x="3600" y="0"/>
                  </a:moveTo>
                  <a:arcTo wR="3600" hR="3600" stAng="16200000" swAng="-5400000"/>
                  <a:lnTo>
                    <a:pt x="0" y="18296"/>
                  </a:lnTo>
                  <a:arcTo wR="3600" hR="3600" stAng="10800000" swAng="-5400000"/>
                  <a:lnTo>
                    <a:pt x="18000" y="2189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arketing 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 odbyt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ýrobek A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ýrobek B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ýrobek C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_s1036"/>
            <p:cNvSpPr/>
            <p:nvPr/>
          </p:nvSpPr>
          <p:spPr>
            <a:xfrm>
              <a:off x="3097080" y="4811400"/>
              <a:ext cx="1758600" cy="1784880"/>
            </a:xfrm>
            <a:custGeom>
              <a:avLst/>
              <a:gdLst>
                <a:gd name="textAreaLeft" fmla="*/ 85680 w 1758600"/>
                <a:gd name="textAreaRight" fmla="*/ 1672920 w 1758600"/>
                <a:gd name="textAreaTop" fmla="*/ 85680 h 1784880"/>
                <a:gd name="textAreaBottom" fmla="*/ 1699200 h 1784880"/>
              </a:gdLst>
              <a:ahLst/>
              <a:rect l="textAreaLeft" t="textAreaTop" r="textAreaRight" b="textAreaBottom"/>
              <a:pathLst>
                <a:path w="21600" h="21923">
                  <a:moveTo>
                    <a:pt x="3600" y="0"/>
                  </a:moveTo>
                  <a:arcTo wR="3600" hR="3600" stAng="16200000" swAng="-5400000"/>
                  <a:lnTo>
                    <a:pt x="0" y="18323"/>
                  </a:lnTo>
                  <a:arcTo wR="3600" hR="3600" stAng="10800000" swAng="-5400000"/>
                  <a:lnTo>
                    <a:pt x="18000" y="2192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Zásobování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ýrobek A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ýrobek B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ýrobek C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3640" y="1628280"/>
            <a:ext cx="72723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ýrobkov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míšená – kombinace předcházející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Organization Chart 4"/>
          <p:cNvGrpSpPr/>
          <p:nvPr/>
        </p:nvGrpSpPr>
        <p:grpSpPr>
          <a:xfrm>
            <a:off x="684360" y="692280"/>
            <a:ext cx="8135280" cy="4599720"/>
            <a:chOff x="684360" y="692280"/>
            <a:chExt cx="8135280" cy="4599720"/>
          </a:xfrm>
        </p:grpSpPr>
        <p:cxnSp>
          <p:nvCxnSpPr>
            <p:cNvPr id="73" name="_s2052"/>
            <p:cNvCxnSpPr>
              <a:stCxn id="74" idx="0"/>
              <a:endCxn id="75" idx="2"/>
            </p:cNvCxnSpPr>
            <p:nvPr/>
          </p:nvCxnSpPr>
          <p:spPr>
            <a:xfrm flipV="1" rot="16200000">
              <a:off x="5715360" y="1567440"/>
              <a:ext cx="920520" cy="2848320"/>
            </a:xfrm>
            <a:prstGeom prst="bentConnector3">
              <a:avLst>
                <a:gd name="adj1" fmla="val 2081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6" name="_s2053"/>
            <p:cNvCxnSpPr>
              <a:stCxn id="77" idx="0"/>
              <a:endCxn id="75" idx="2"/>
            </p:cNvCxnSpPr>
            <p:nvPr/>
          </p:nvCxnSpPr>
          <p:spPr>
            <a:xfrm flipV="1">
              <a:off x="4751640" y="2531520"/>
              <a:ext cx="1800" cy="920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8" name="_s2054"/>
            <p:cNvCxnSpPr>
              <a:stCxn id="79" idx="0"/>
              <a:endCxn id="75" idx="2"/>
            </p:cNvCxnSpPr>
            <p:nvPr/>
          </p:nvCxnSpPr>
          <p:spPr>
            <a:xfrm flipH="1" flipV="1" rot="5400000">
              <a:off x="2868120" y="1567800"/>
              <a:ext cx="920520" cy="2847960"/>
            </a:xfrm>
            <a:prstGeom prst="bentConnector3">
              <a:avLst>
                <a:gd name="adj1" fmla="val 2081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75" name="_s2055"/>
            <p:cNvSpPr/>
            <p:nvPr/>
          </p:nvSpPr>
          <p:spPr>
            <a:xfrm>
              <a:off x="3531960" y="692280"/>
              <a:ext cx="2440440" cy="18399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Ředitel</a:t>
              </a:r>
              <a:endParaRPr b="1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_s2056"/>
            <p:cNvSpPr/>
            <p:nvPr/>
          </p:nvSpPr>
          <p:spPr>
            <a:xfrm>
              <a:off x="684360" y="3452040"/>
              <a:ext cx="2440440" cy="18399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Výrobek A</a:t>
              </a:r>
              <a:endParaRPr b="1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výzkum a vývoj</a:t>
              </a:r>
              <a:endParaRPr b="1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zásobování</a:t>
              </a:r>
              <a:endParaRPr b="1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výroba</a:t>
              </a:r>
              <a:endParaRPr b="1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marketing a odbyt</a:t>
              </a:r>
              <a:endParaRPr b="1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_s2057"/>
            <p:cNvSpPr/>
            <p:nvPr/>
          </p:nvSpPr>
          <p:spPr>
            <a:xfrm>
              <a:off x="3531960" y="3452040"/>
              <a:ext cx="2440440" cy="18399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Výrobek B</a:t>
              </a:r>
              <a:endParaRPr b="1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výzkum a vývoj</a:t>
              </a:r>
              <a:endParaRPr b="1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zásobování</a:t>
              </a:r>
              <a:endParaRPr b="1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výroba</a:t>
              </a:r>
              <a:endParaRPr b="1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marketing a odbyt</a:t>
              </a:r>
              <a:endParaRPr b="1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_s2058"/>
            <p:cNvSpPr/>
            <p:nvPr/>
          </p:nvSpPr>
          <p:spPr>
            <a:xfrm>
              <a:off x="6379200" y="3452040"/>
              <a:ext cx="2440440" cy="18399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Výrobek C</a:t>
              </a:r>
              <a:endParaRPr b="1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výzkum a vývoj</a:t>
              </a:r>
              <a:endParaRPr b="1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zásobování</a:t>
              </a:r>
              <a:endParaRPr b="1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výroba</a:t>
              </a:r>
              <a:endParaRPr b="1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marketing a odbyt</a:t>
              </a:r>
              <a:endParaRPr b="1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640" y="453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11280" y="260280"/>
            <a:ext cx="8137440" cy="616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omunikace ve firm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edení a motivace lidí – finanční motivace, soutěže prodejců, zaměstnanecké výhody,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ff"/>
                </a:solidFill>
                <a:latin typeface="Arial"/>
              </a:rPr>
              <a:t>Jaké zaměstnanecké výhody byste si představovali ve svém budoucím zaměstnání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chnologické vliv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roveň vybavenosti firmy – kvalita vybavení, jeho úroveň, užité informační technologie, opotřebení majetku,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000" y="-270720"/>
            <a:ext cx="82263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23640" y="475920"/>
            <a:ext cx="828036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konomické vliv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ajetek firmy – množství a slož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droje krytí – množství a slož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ozbor ukazatelů z finanční analýzy fir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ff"/>
                </a:solidFill>
                <a:latin typeface="Arial"/>
              </a:rPr>
              <a:t>Vyjmenujte druhy majetku a zdrojů kry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ff"/>
                </a:solidFill>
                <a:latin typeface="Arial"/>
              </a:rPr>
              <a:t>Jaké znáte ukazatele, které hodnotí ekonomickou situaci ve firmě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stat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místění fir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Image fir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istorie firmy,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Marketingové mezoprostřed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000" y="1267920"/>
            <a:ext cx="822636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artnerské fir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odavatelé – faktory výběru, zdroje informac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oprav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pecializované agentu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anky, pojišťovny,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ff"/>
                </a:solidFill>
                <a:latin typeface="Arial"/>
              </a:rPr>
              <a:t>Podle jakých kritérií byste si vybírali partnerskou firmu – dodavatele, banku, pojišťovnu,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onkuren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ff"/>
                </a:solidFill>
                <a:latin typeface="Arial"/>
              </a:rPr>
              <a:t>Odkud získáte informace o konkurenci a proč jsou pro nás tak důležité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8T17:44:28Z</dcterms:created>
  <dc:creator>Ing. Bohuslava Klapuchová</dc:creator>
  <dc:description/>
  <dc:language>en-US</dc:language>
  <cp:lastModifiedBy>Igor</cp:lastModifiedBy>
  <dcterms:modified xsi:type="dcterms:W3CDTF">2014-09-13T14:54:49Z</dcterms:modified>
  <cp:revision>125</cp:revision>
  <dc:subject/>
  <dc:title>Analýzy prostředí firmy z pohledu marketingu a managementu</dc:title>
</cp:coreProperties>
</file>