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563-2A2F-46C6-BC37-D61DD51A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0B1-1C41-4BBD-B5C4-7C8C05A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A2B-9BD6-4782-962F-5F35C0A7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BC9-3518-4604-B239-945FC892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3CFA-8CF2-4DAC-9CAD-394D7949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9513-28D3-4E9B-8550-7C333975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FF8-00DC-465D-8C4E-7FEFBE9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27EF-22B4-44BF-9B39-D48B83C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FD0E-A449-493F-8B7E-4BC05D9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851F-E7FA-4AEA-9446-5C2DF7B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7C04-1F4E-4059-AAE3-41F44AC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C97-696B-428F-B6AE-FBA408D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3B5-3007-4FCF-974F-D94DA53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3AD6-04C6-4387-837C-35C2C326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E127-0A5E-4615-B432-515B578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FDF5-A1EA-46FA-ADC3-59BB934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5155-A321-45CA-9DD5-32D13A6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577-482A-410A-9B17-60CD1118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5A3-8E54-4F73-AC1F-BA2311F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28F-7228-4389-ABE5-E37856EC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982-501C-4939-9289-986F1F3A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406-BB4F-4E37-BA3A-4E63BFB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E36-C33D-4442-A1A5-AE9FD3F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0DC-C4BE-4F6F-BC4D-901E4FC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8479-6D28-4F9A-9FDB-2CCECC57774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5A7-0390-429B-B8B0-0A904F2A8C1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ů rekla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informativn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esvědčov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s připomínací fun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zdola – pomocí kalku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stavení rozpočtu shora – určení celkové částky na reklamu, tato částka se pak rozpočítá na jednotlivé projek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u reklamního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lastnosti sděl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čel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věryhodn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sti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tvorbě reklamního sdělení je třeba správně zvolit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lov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logany by měly být snadno zapamatovatelné),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rm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harmonogram – kdy bude reklama zveřejň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méd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Jaká znáte reklamní mé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Která z nich na vás působí nejvíce a pro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lamní 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 z nejmladších, nejsledovanější a vysoce účinné mé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nutné věnovat pozornost typu programu, jeho sledovanosti a struktuře div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je závislá na času vysílání a sledovanosti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Zhodnoťte výhody a nevýhody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televize je vizuální médium – vhodné pro demonstraci výrob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působí na zrak i sl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široké pokrytí tr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elká část diváků při reklamě přepíná na jiný program nebo odchází od tele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informační zma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sok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á stanice má svůj okruh posluchačů – proto je důležitá správná volba stanice a doby vysíl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vidíte výhody a nevýhody rozhlasu jako reklamního méd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relativně nižší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elká sled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žnost demografického i geografického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ůsobí jen na sl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Exteriérová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emní štíty, billboardy, poutače, reklamy na dopravních prostředcích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duchý, snadno zapamatovatelný text doplněný atraktivní fotografií, obráz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Jaké jsou výhody a nevýhody jednotlivých exteriérových médi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ohotový nástroj rekl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ízk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ysok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skytují málo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je obtížné provést segmentaci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ěkteří lidé je zcela odmítají (např. kvůli ekologii, bezpečnosti na silnicích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černobílém provedení, na levnějším novinovém papíře, jsou většinou vydávány den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reklamy je závislá na popularitě novin, počtu výtisků, na velikosti a umístění reklamy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široký do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neobvyklé velikosti reklamy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lidé čtou noviny rychle a pak je vyha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nepřehlednost reklam v případě, že jich je na stránce mno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rší kvalita fotografií a t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91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 určeny pro volný čas, lidé je čtou pomale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ou mít všeobecné nebo úzce specializované za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lepší tisk i kvalita papíru, barevné pro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mohou být využívány pro distribuci nástrojů podpory prodeje (např. vzor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dobrý image časopisu může působit na image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mezená pruž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šší náklady vzhledem k novin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Vymyslete příklad reklamy, kterou byste otiskli v novinách a příklad reklamy, kterou by bylo vhodné otisknout v časop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ublic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: vytvoření příznivých představ o firmě na veřej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y: - důvěryhodnost, nižší náklady, delší s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ubli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,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ý mluv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skové materi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ční zprá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nzo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 publicity vytváří tzv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orporativní identitu podni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vytvářena např. firemním logem, nápisy, vizitkami zaměstnanců, firemními uniformami,… Při jejich zhlédnutí jsou vyvolány asociace spojené s firmou. Jde o snahu podniku se jednotně prezentovat na veřej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mý marketing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komunikace se zákazníky zaměřená na prodej zboží a založený na rekla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ástroje přímého marketing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dej pošt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skutečňuje se na základě zaslané nabídky, obsahuje všechny údaje k uskutečnění prodeje, výhodou je přesné zacílení. Forma – obálka s jednoduchým nabídkovým listem, brožurou, katalogem, videokazetou, disketou a s objedn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vize a rozhla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ysílání  reklamy s uvedením podmínek pro nákup zboží (nejčastěji potřeby pro domácnost, CD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elemarket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jde o využívání telefonu. Výhodou je osobní kontakt, možnost zodpovědět otázky, přesvědčování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Nakupovali jste už někdy prostřednictvím přímého marketing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99"/>
                </a:solidFill>
                <a:latin typeface="Arial"/>
              </a:rPr>
              <a:t>Jaký výrobek to by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413000"/>
          <a:ext cx="8229600" cy="53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 k seznámení studentů s marketingovou komunikací a nástroji propagace, s reklamou a reklamními médii, publicitou a přímým marketing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unikace, komunikační model, reklama, publicita, přímý marke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Co je to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99"/>
                </a:solidFill>
                <a:latin typeface="Arial"/>
              </a:rPr>
              <a:t>V čem je podle vás podstata marketingové komunik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ace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informování konečných spotřebitelů, odběratelů, veřejnosti,… o existenci podniku a o jeho výrob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stata marketingové komunik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řenos sdělení mezi zdrojem a příjemcem. Charakter sdělení závisí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i s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rmě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ákladní model komunikačního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1"/>
          <p:cNvGrpSpPr/>
          <p:nvPr/>
        </p:nvGrpSpPr>
        <p:grpSpPr>
          <a:xfrm>
            <a:off x="360360" y="333360"/>
            <a:ext cx="8388360" cy="6524640"/>
            <a:chOff x="360360" y="333360"/>
            <a:chExt cx="8388360" cy="6524640"/>
          </a:xfrm>
        </p:grpSpPr>
        <p:sp>
          <p:nvSpPr>
            <p:cNvPr id="110" name="AutoShape 32"/>
            <p:cNvSpPr/>
            <p:nvPr/>
          </p:nvSpPr>
          <p:spPr>
            <a:xfrm>
              <a:off x="360360" y="333360"/>
              <a:ext cx="8388360" cy="65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3"/>
            <p:cNvSpPr/>
            <p:nvPr/>
          </p:nvSpPr>
          <p:spPr>
            <a:xfrm>
              <a:off x="528120" y="337788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dro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4"/>
            <p:cNvSpPr/>
            <p:nvPr/>
          </p:nvSpPr>
          <p:spPr>
            <a:xfrm>
              <a:off x="7238880" y="3369240"/>
              <a:ext cx="1509840" cy="641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íjem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86364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Sděl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6"/>
            <p:cNvSpPr/>
            <p:nvPr/>
          </p:nvSpPr>
          <p:spPr>
            <a:xfrm>
              <a:off x="254124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a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7"/>
            <p:cNvSpPr/>
            <p:nvPr/>
          </p:nvSpPr>
          <p:spPr>
            <a:xfrm>
              <a:off x="4722120" y="1855440"/>
              <a:ext cx="134208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Pře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399720" y="1855440"/>
              <a:ext cx="1845360" cy="652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Dekódová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9"/>
            <p:cNvSpPr/>
            <p:nvPr/>
          </p:nvSpPr>
          <p:spPr>
            <a:xfrm>
              <a:off x="3883320" y="3377880"/>
              <a:ext cx="1342080" cy="869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Šu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40"/>
            <p:cNvSpPr/>
            <p:nvPr/>
          </p:nvSpPr>
          <p:spPr>
            <a:xfrm>
              <a:off x="3547800" y="5326560"/>
              <a:ext cx="2180880" cy="859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Zpětná vaz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 flipV="1">
              <a:off x="1199160" y="2508120"/>
              <a:ext cx="3355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2"/>
            <p:cNvSpPr/>
            <p:nvPr/>
          </p:nvSpPr>
          <p:spPr>
            <a:xfrm>
              <a:off x="2205720" y="22906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3"/>
            <p:cNvSpPr/>
            <p:nvPr/>
          </p:nvSpPr>
          <p:spPr>
            <a:xfrm>
              <a:off x="2205720" y="2073240"/>
              <a:ext cx="33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4"/>
            <p:cNvSpPr/>
            <p:nvPr/>
          </p:nvSpPr>
          <p:spPr>
            <a:xfrm>
              <a:off x="43866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5"/>
            <p:cNvSpPr/>
            <p:nvPr/>
          </p:nvSpPr>
          <p:spPr>
            <a:xfrm>
              <a:off x="6064200" y="2073240"/>
              <a:ext cx="33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6"/>
            <p:cNvSpPr/>
            <p:nvPr/>
          </p:nvSpPr>
          <p:spPr>
            <a:xfrm>
              <a:off x="7238880" y="2508120"/>
              <a:ext cx="6710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7"/>
            <p:cNvSpPr/>
            <p:nvPr/>
          </p:nvSpPr>
          <p:spPr>
            <a:xfrm flipH="1">
              <a:off x="5728680" y="4030560"/>
              <a:ext cx="218088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8"/>
            <p:cNvSpPr/>
            <p:nvPr/>
          </p:nvSpPr>
          <p:spPr>
            <a:xfrm flipH="1" flipV="1">
              <a:off x="1199160" y="4030200"/>
              <a:ext cx="234864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9"/>
            <p:cNvSpPr/>
            <p:nvPr/>
          </p:nvSpPr>
          <p:spPr>
            <a:xfrm flipH="1">
              <a:off x="18702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0"/>
            <p:cNvSpPr/>
            <p:nvPr/>
          </p:nvSpPr>
          <p:spPr>
            <a:xfrm flipH="1" flipV="1">
              <a:off x="1870200" y="2508120"/>
              <a:ext cx="218088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1"/>
            <p:cNvSpPr/>
            <p:nvPr/>
          </p:nvSpPr>
          <p:spPr>
            <a:xfrm flipV="1">
              <a:off x="421884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2"/>
            <p:cNvSpPr/>
            <p:nvPr/>
          </p:nvSpPr>
          <p:spPr>
            <a:xfrm flipV="1">
              <a:off x="4889880" y="250812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3"/>
            <p:cNvSpPr/>
            <p:nvPr/>
          </p:nvSpPr>
          <p:spPr>
            <a:xfrm flipV="1">
              <a:off x="5057640" y="2508120"/>
              <a:ext cx="150984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4"/>
            <p:cNvSpPr/>
            <p:nvPr/>
          </p:nvSpPr>
          <p:spPr>
            <a:xfrm>
              <a:off x="5225400" y="3813120"/>
              <a:ext cx="201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5"/>
            <p:cNvSpPr/>
            <p:nvPr/>
          </p:nvSpPr>
          <p:spPr>
            <a:xfrm>
              <a:off x="505764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455436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4051080" y="4248000"/>
              <a:ext cx="0" cy="10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činnost sdě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Účinné s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á vyjadřovat cíle podniku a informace, která je sdělována, by měla mít na příjemce očekávaný efe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způsoby lze zvýšit účinnost sděle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99"/>
                </a:solidFill>
                <a:latin typeface="Arial"/>
              </a:rPr>
              <a:t>Jakými argumenty můžeme působit na příjem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a příjemce lze půso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ra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emocion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Arial"/>
              </a:rPr>
              <a:t>morálními moti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Arial"/>
              </a:rPr>
              <a:t>Nástroje propag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Reklam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lacená forma neosobní, masové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: informování spotřebitelů a ovlivnění jejich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rma, která se rozhodne pro reklamu, by měla zpracovat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klamní plá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04:14Z</dcterms:created>
  <dc:creator>kabek</dc:creator>
  <dc:description/>
  <dc:language>en-US</dc:language>
  <cp:lastModifiedBy>Igor</cp:lastModifiedBy>
  <dcterms:modified xsi:type="dcterms:W3CDTF">2014-09-13T15:03:52Z</dcterms:modified>
  <cp:revision>28</cp:revision>
  <dc:subject/>
  <dc:title>Propagace</dc:title>
</cp:coreProperties>
</file>