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28F-00B5-430B-8DC6-D86AB934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8A9-AF5C-4CAB-BFC2-07E509F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180-E1FA-4C0D-86EF-5D4DC281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80F-E5B7-44B8-93E9-449D8689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4A52-7434-4EFA-A582-CE9BD314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E025-D3E5-4E40-A791-9669FB9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7F9-CCB8-4FDD-97C5-B869759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10E0-E386-45D3-B4A1-9EC79EE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12F6-9282-44EC-B9BB-E1D807DF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C3B-8292-4C73-99AB-533AADDC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D4A-1062-43BD-8770-23DFAFD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615-04D0-445D-807B-06565A89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5E05-24A5-4298-B4F1-30BEB1C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9FB7-D001-492D-868D-8D57F31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936-76B0-4A9F-8326-ADDA821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9736-38D9-4926-9BD8-4AFA5638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1FEB-C608-44C6-A534-3D4523AA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795-6CF8-4805-A573-9DF6193C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119-FFA3-4FDC-8E9B-6A737CA7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BAF-D4E4-4676-901C-4A187A5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337-579F-49B7-9991-E86825BD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CD4-40A1-4978-9ED8-EB0CD425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989-EFE3-4A94-8166-29F9876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ECF-39E9-498F-8FFD-078AFA4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C8B7-D818-4BF6-90FB-C98E577961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3AE-19D2-4443-8451-F9CB935413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ýukový materiál zpracován v rámci projektu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EU peníze školá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Registrační číslo projektu: CZ.1.07/1.5.00/34.02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39640" y="3573360"/>
          <a:ext cx="7704360" cy="736560"/>
        </p:xfrm>
        <a:graphic>
          <a:graphicData uri="http://schemas.openxmlformats.org/drawingml/2006/table">
            <a:tbl>
              <a:tblPr/>
              <a:tblGrid>
                <a:gridCol w="1656000"/>
                <a:gridCol w="936360"/>
                <a:gridCol w="1944720"/>
                <a:gridCol w="31672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_32_INOVACE_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2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prostředníka z hlediska výrob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řístup k cílovému tr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držuje optimální stav zásob výrob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skutečňuje vlastní stimulaci, která je v souladu se stimulací výrob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uje zákazníkům služby na odpovídající úrov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 dodané výrobky platí řádně a vč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Intenzita prodej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Intenzita prodeje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= počet jednotlivých samostatných článků na prodejní cestě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Z hlediska intenzity prodeje rozlišujem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intenzívní prodej – snaha prodávat výrobek v co největším počtu prodejních jednotek při zapojení co nejvíce článků do prodeje, používá se u zboží denní potřeby (potraviny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selektivní prodej – distribuce prostřednictvím maloobchodních jednotek, zboží je náročnější na prodej, vyžaduje proškolený personál (oděvy, elektronika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ýhradní prodej – distribuční článek má výhradní právo na prodej na určitém území, výrobky mají mimořádné postavení na trhu, je drahé, značkové, prodejce musí poskytnou maximum informací (drahá auta, nemovitosti, …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Velkoobchod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Firmy zabývající se velkoobchodní činností kupují výrobky za účelem jejich dalšího prodeje maloobchodním nebo jiným organizací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 u="sng">
                <a:solidFill>
                  <a:srgbClr val="000000"/>
                </a:solidFill>
                <a:uFillTx/>
                <a:latin typeface="Verdana"/>
              </a:rPr>
              <a:t>Funkce VO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tváření úzkého výrobního sortimentu na široký obchodní sortim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klenutí časového nesouladu mezi výrobou a spotřebo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vytváření zásob k pružnému zásobování odběratelů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obchodního úvěru odběratelů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řebírá riziko spojené s nákupem, dopravou a skladováním zbož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stimulaci prodej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dílí se na dohotovení zboží, jeho balení a úpravác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zajištění dopravy M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poskytování informací o poptávkách, cenách, konkurenci,… výrobců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V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tradiční velkoobchodní podniky</a:t>
            </a:r>
            <a:r>
              <a:rPr b="0" i="1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– poskytuje všechny nebo většinu uvedených funk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 u="sng">
                <a:solidFill>
                  <a:srgbClr val="000000"/>
                </a:solidFill>
                <a:uFillTx/>
                <a:latin typeface="Verdana"/>
              </a:rPr>
              <a:t>velkoobchodní podniky s omezenými funkcem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cash-and-carry – maloobchodník platí v hotovosti a sám si zboží musí odvé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drop shipper – velkoobchod nakupuje a prodává zboží, ale neskladuje ho (hlavně uhlí, dřevo, stavební materiál, 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licový velkoobchodník – nabízí své zboží konečným spotřebitelům v pronajatých místech maloobchodních jednotek (např. noviny, knihy, kosmetika, hračky ,… prodávané v supermarketech apod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pojízdný velkoobchodník – nabízí a prodává zboží maloobchodníkům podle jejich potřeby přímo u svého dodávkového auta (koření, textil, zelenina a ovoce,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 u="sng">
                <a:solidFill>
                  <a:srgbClr val="000000"/>
                </a:solidFill>
                <a:uFillTx/>
                <a:latin typeface="Verdana"/>
              </a:rPr>
              <a:t>agenti a komisionáři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– nepřebírají zboží do svého vlastnictví, vykonávají omezené množství funkcí, zprostředkovávají nákup a prodej určitého zboží, pracují za provizi, nesou minimální rizik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isionář – kontaktuje prodávající a kupující, pomáhá při jejich obchodním jednání, provizi dostává od toho, kdo ho najím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chodní zástupci – nezávislí zástupci výrobního podniku v určité oblasti, s výrobci mají uzavřenou smlouvu o místě působnosti, cenách, službách, provizi. Nevlastní zboží, pouze zprostředkovávají nákup a prod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ukční společnosti – umožňují kontakt prodávajícího a kupujícího, vystavení a prohlédnutí zboží, cena se stanovuje podle nabídky a poptávky (např. umělecké předměty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kupní agent – pracuje pro určitou firmu na základě dlouhodobé smlouvy. Pro firmu nakupuje zboží, kontroluje kvalitu a organizuje přepravu ke kupující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Maloobchod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sou veškeré činnosti, které jsou spojené s prodejem zboží a poskytováním služeb konečnému spotřebitel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kytování velkého množství služe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álé přizpůsobování se potřebám zákazní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ilná konku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Arial"/>
              </a:rPr>
              <a:t>Typy MO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pecializované prodejn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hlavně u nepotravinářského zboží, profesionální personál (oděvy, sportovní potřeby, elektronika,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prodejny se zbožím denní potřeb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ákladní potravinářský a nepotravinářský sortiment, otevřeno 24 hodin denně, např. u benzínových pum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u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velké samoobslužné prodejny se sortimentem potravinářským a nepotravinářským, rozlehlá prodejní plocha, prodlužují prodejní dobu, velká konkure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hypermarket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obrovské samoobslužné prodejny na okrajích měst, široký sortiment, nízké ceny, dostupné au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obchodní domy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nabízejí velmi široký sortiment zboží pod jednou střechou, snaží se zvýšit přitažlivost, provozují nové služby (cestovní kanceláře, půjčovny aut, realitní kanceláře, …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07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diskontní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ývají členy řetězců obchodů, velký obrat, omezené služby, výprodeje zásob,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obchodní středisk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ozsáhlé obchodní komplexy, především na okrajích měst, seskupují řadu nezávislých specializovaných obchodních firem a obchodních domů, široký sortiment zboží, široká nabídka služeb (opravny, restaurace, holičství, CK, bankovní služby,…), občerstvení a odpočinek (dětské koutky,…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katalogové prodejn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zákazníci si vyberou ve výstavní místnosti podle katalogů nebo podle vystaveného zboží, vyplní objednávku a při zaplacení je jim zboží vydáno přímo ze skladu, omezené služb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Verdana"/>
              </a:rPr>
              <a:t>Ve kterých MO nakupujete nejčastěji, které zboží a proč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Zdroj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ŠVARCOVÁ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Ekonomie – stručný přehled,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vydání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pro rok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2012/2013 Zlín : Nakladatelství a vydavatelství Ing. Jena Švarcová, Ph. D., CEED, 2012. ISBN 987-80-87301-16-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SVĚTLÍK, J. </a:t>
            </a:r>
            <a:r>
              <a:rPr b="0" i="1" lang="cs-CZ" sz="2900" spc="-1" strike="noStrike">
                <a:solidFill>
                  <a:srgbClr val="000000"/>
                </a:solidFill>
                <a:latin typeface="Verdana"/>
              </a:rPr>
              <a:t>Marketing – cesta k trhu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Zlín: EKKA, 1994. ISBN 80-900015-8-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850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57200" y="1905120"/>
          <a:ext cx="8229600" cy="458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zdělávací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matická oblas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ový mix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edmět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ing a managem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ýstižný popis způsobu využití, případně metodické pokyny:</a:t>
                      </a:r>
                      <a:r>
                        <a:rPr b="0" lang="cs-CZ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i se seznamují se způsoby distribuce, s funkcemi a druhy VO a M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líčová slova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ce, prodejní cesty, velkoobchod, maloobch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uh učebního materiálu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zenta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cc"/>
                </a:solidFill>
                <a:latin typeface="Arial"/>
              </a:rPr>
              <a:t>Marketingový mix - distribuc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cc"/>
                </a:solidFill>
                <a:latin typeface="Arial"/>
              </a:rPr>
              <a:t>Distribuce</a:t>
            </a: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Distribuce řeší problé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u a kde se budou výrobky prodáv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zajistit, aby byl výrobek nabízen na správném místě ve správném okamži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3137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Arial"/>
              </a:rPr>
              <a:t>Prodejní cesty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8317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Prodejní cesta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souhrn prostředníků a zprostředkovatelských článků, jejichž prostřednictvím přechází zboží od výrobce ke kupující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Prodejní cest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ím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přímé – zahrnují jeden nebo více mezičlánků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Jaký typ prodejní cesty a z jakých důvodů byste navrhli 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a/ peč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b/ elektron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Funkce prodejních cest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chodní – zahrnuje nákup zboží od výrobců, prodej zboží a převzetí riz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ogistická  - zahrnuje dopravu od výrobce, skladování, přizpůsobení zboží požadavkům zákazník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dpůrná – zahrnuje finanční pomoc v podobě obchodního úvěru, marketingový výzkum, propagaci, poskytování služ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31640" y="2565360"/>
            <a:ext cx="73134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výrobce, aby s ním prostředníci (VO, MO)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Verdana"/>
              </a:rPr>
              <a:t>Charakteristika optimálního výrobce z hlediska prostředník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ává včas, ve sjednaném množství, ceně, kvalitě, balení a desig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imuluje poptávku po výrobcích vhodnou reklam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nástrojů podpory prodeje ve vztahu k prostředník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držuje záruční lhůty, poskytuje opravy, instalaci a další služb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0000"/>
                </a:solidFill>
                <a:latin typeface="Verdana"/>
              </a:rPr>
              <a:t>Jaké vlastnosti by měl mít prostředník (VO, MO), aby s ním výrobci chtěli spolupracova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6:53:23Z</dcterms:created>
  <dc:creator>kabek</dc:creator>
  <dc:description/>
  <dc:language>en-US</dc:language>
  <cp:lastModifiedBy>Igor</cp:lastModifiedBy>
  <dcterms:modified xsi:type="dcterms:W3CDTF">2014-09-13T15:03:29Z</dcterms:modified>
  <cp:revision>17</cp:revision>
  <dc:subject/>
  <dc:title>Marketingový mix - distribuce</dc:title>
</cp:coreProperties>
</file>