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202-C16B-42E4-AEA8-C9574707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B68-A92D-409A-BC86-691DEA23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0C6-974E-4DE7-9ECC-2D62F517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E3B-A335-4F6B-9588-C7624AED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E04B-5903-478E-A26E-4126F273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AB59-AD0D-4750-B8BC-1C08A655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3804-7857-41D6-85E2-39E4D94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4537-D684-44E0-ADC4-FF98115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A53-B244-4B8F-8254-152943D5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19A8-6A50-47CC-83DE-B278D9E2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3E38-2EF9-45A9-996B-6EC3D27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FBD-0730-454B-9165-0AE57DA7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3EDA-5F98-45B7-B430-68D9D7F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3435-D96A-465D-AFDF-FC3E51F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660E-F4E7-4974-8E1D-108AB89F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FE5C-F9EB-490A-AE98-2D99ABCE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1B4F-8BF1-45FF-93EF-5757EBEF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021-868E-4EC4-B3EB-0060034D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E2B-FA8B-44F2-8DBB-056D3683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896-C5D3-4F4A-960D-7F24F0D1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7F0-A9E7-4BF5-B406-E766B226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4F0-EFED-4FFA-897C-DE8278C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32E-265C-4934-878F-1B59465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917-68C2-4122-856B-9CE32A4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61B2-76F9-44D6-A7CF-5D07A6B1FF2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6304-E65A-4398-BBDE-CFDAE6EC865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 3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8360" y="1413000"/>
          <a:ext cx="7991280" cy="54086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 seznámení studentů s podporou prodeje a jejími nástro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orky, cenové stimuly, prémie, kupony, vystavení zboží, soutěže a loterie, dárky, věrnostní prémie, společná rekla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ccccff"/>
                </a:solidFill>
                <a:uFillTx/>
                <a:latin typeface="Arial"/>
              </a:rPr>
              <a:t>Podpora prodeje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35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íl: stimulovat prodej výrobků a služeb prostřednictvím dodatečných podnětů, je zaměřená n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ečné spotřebit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stribuční člán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Jaké znáte nástroje podpory prodeje u konečných spotřebite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spotřebitelům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zor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ákazník dostává zdarma, a to prostřednictvím pošty, v časopisech, v obchodech, jako součást jiného výrobk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Cenové stimul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cenově výhodná balení, akce 2+1 zdar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zvyšují atraktivnost výrobku, např. vkládání drobných hraček do obalu, kupony na obalu, drobný dárek při nákup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80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upon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poukázky, které umožňují zákazníkům získat při nákupu určitého zboží výhodu – slevu, dárek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stavení zbož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 pokladen, na konci regálů, upoutání pozornosti zákazníků plakátem, neobvyklým dekorativním předmětem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outěže a loter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těže – zákazníci odpovídají na určitou otázku a při úspěšné odpovědi mohou vyhrát cenu, loterie – slosování s možností vý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ár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reklamní dárky jsou předměty se jménem firmy, které zákazník dostává zdarma (propisky, tašky, trička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ěrnostní prém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forma peněžité nebo nepeněžité odměny, kterou získává stálý zákaz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cc"/>
                </a:solidFill>
                <a:latin typeface="Arial"/>
              </a:rPr>
              <a:t>S jakými nástroji podpory prodeje jste se setkali a u jakých výrobků to by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ccff"/>
                </a:solidFill>
                <a:latin typeface="Arial"/>
              </a:rPr>
              <a:t>Nástroje podpory prodeje v distribuční síti 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polečná reklam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a základě vzájemné dohody poskytne výrobce prostředky a informace k reklamě a právo prodeje jeho výrobků v MO. Maloobchodník odebere výrobky a jejich prodej podporuje. Výrobce maloobchodníkovi část nákladů na reklamu uhradí nebo poskytne funkční slev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bchodní sle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obchodníkům, kteří nakoupí větší množství, zboží vystaví na výhodném místě, ap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eletrhy a výstav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umožňují výrobky předvést, poskytnout informace, zodpovědět otázky, porovnávat s konkurencí, získat informace o konkurenci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6:52Z</dcterms:created>
  <dc:creator>Guest</dc:creator>
  <dc:description/>
  <dc:language>en-US</dc:language>
  <cp:lastModifiedBy>Igor</cp:lastModifiedBy>
  <dcterms:modified xsi:type="dcterms:W3CDTF">2014-09-13T15:08:17Z</dcterms:modified>
  <cp:revision>15</cp:revision>
  <dc:subject/>
  <dc:title>Podpora prodeje</dc:title>
</cp:coreProperties>
</file>