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A307-99CB-4477-B1D7-0A0A555A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7528-BD1B-432B-B3BC-3FF91FE0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CBCB0-45DE-4F0C-BD10-23B01E77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BD96-D1DC-448D-9FF2-BE63B8C3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5DF3-D5FB-4F4C-A613-C3ABE1F9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58DA-B280-4B36-B569-CF628342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6A87-08E9-48E7-9A3F-F6E8D28F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63C6-B956-4E22-9295-0D730DA4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2A5B-BF28-4A0D-9BA9-73C739C0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4C6D-2B86-4F7C-8523-48E2C6FF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F7F2-A496-4D3C-BB65-BAA507F9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44B1-20D3-41BB-AC08-93FC59E0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1017-6796-4124-992E-8B966D1A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1554-929B-4166-B924-56C3AD2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1F49-E04E-4A5D-BEE9-2796703E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775A-5184-4733-9FD2-AEAE72B0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4577-084E-46FC-A557-F8024F72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ACEB-292C-4EFA-92B7-C2E2F03C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081E-CA7A-4F48-BAF0-6D6192C9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A248-2A03-4581-AF21-AE578256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3D881-E575-4D7B-8B02-4C58FA34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0ADE7-D5E9-46C2-92F3-91D95420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0CF0F-74DB-42FB-98EC-1DE34423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F84C-CB7F-44E9-9E36-147C11CB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649C-BA8C-46A2-8642-F121A2C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498F1-4A13-499D-AD90-0FE1089E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4F14E-1792-4BD4-AEC3-1E5F5059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C99BE-B8C3-44A5-BFE2-215493E0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4F41-1A7E-4BAF-8018-4A9DB019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75EAD-8C95-4FF3-AD7A-206CB4B7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6F349-5F63-4E18-8ABB-1F78D214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7C5E-E926-4132-9837-1BB5B0D1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F804-A9B0-43A1-AD3B-8B5A98D9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D544-6EE5-4AEC-8E7F-675C7AB3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D5DD-1218-437D-A017-556EBF79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0F1C-F621-4561-A680-BFC24F05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E306-9E1D-4AC1-BD79-04BFA87DBE32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47B2-37A7-4536-B0E1-C93B103EFF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D27B-F1F1-4E5D-89A4-B6D47098881F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1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Jakou metodu stanovení ceny byste použil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ealkoholického náp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Počíta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Značkové sportovní obu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 stanovení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trategie u nových výrob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imming price (smetánková cena) – jde o stanovení vysoké ceny, jejím cílem je vytvoření image kvality a ojedinělosti výrobku, po vstupu konkurence na trh se cena snižuje. Zisk je dosahován okamžitě. Uplatňuje se v případě, že výrobek je na trhu jedinečný, kvalitní a zákazník je ochotný ho za vysokou cenu koup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netration price (cena proniknutí) – jde o stanovení nízké ceny, jejím cílem je získat co nejvíce zákazníků a odradit konkurenci. Později se cena zvyšuje. Zisk je dosahován později. Uplatňuje se v případě, že na trhu existují podobné výrobky a zákazník je citlivý na ce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sychologický přístup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aťovské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á cena vyvolává dojem vysoké kv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ístění běžných výrobků mezi výrobky luxus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ej některých výrobků za velmi snížené ceny přiláká do obchodu zákazníky, kteří pak nakupují i zboží s vyšší ce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ělé s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Diskriminační stanovení ceny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de o stanovení různé ceny pro různé tržní segmenty (ceny jízdného, vstupné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Jakou cenovou strategii byste použili 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Vstupného do Z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ové příchuti čokolá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Nového mobilního telef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520f0"/>
                </a:solidFill>
                <a:latin typeface="Arial"/>
              </a:rPr>
              <a:t>U zakázky na zavedení nové firemní počítačov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měny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lavní příčiny změ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ování konku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pší využití výrobní kapacity, růst objemu výr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ížení tržního podí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oulad mezi nabídkou a poptáv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st nákladů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ruhy sle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ážka při platbě – při dřívějším proplacení fa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srá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ónní sl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unkční srážka – poskytuje se obchodním článk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é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dej na protiúče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520f0"/>
                </a:solidFill>
                <a:latin typeface="Arial"/>
              </a:rPr>
              <a:t>S jakými sleva se nejčastěji setkáváte při svých nákupe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ÍK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arketing – cesta k tr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lín: EKKA, 1994. ISBN 80-900015-8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457200" y="1905120"/>
          <a:ext cx="8229600" cy="444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 metodami a strategiemi stanovení ceny a s důvody změn c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a, metody stanovení ceny, strategie stanovení c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8560" y="2349360"/>
            <a:ext cx="734544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ffffff"/>
                </a:solidFill>
                <a:latin typeface="Arial"/>
              </a:rPr>
              <a:t>Marketingový mix - cen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Cen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7991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520f0"/>
                </a:solidFill>
                <a:latin typeface="Arial"/>
              </a:rPr>
              <a:t>Pokuste se definovat co je to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o výše peněžní úhrady zaplacená na trhu za prodávaný výrobek nebo poskytovanou služ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Cíle podniku při stanovení ce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ximalizace zi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žní pod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st objemu prod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atnosti inv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pičková kvalita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é cíle – udržení dosavadního postavení, získání nových zákazníků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stanovení ce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ákladově orientovaná metoda (cena stanovená kalkul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= náklady + z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hody: - jasná pravidla pro stanovení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dnik má zaručenu určitou míru zisku u výrob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výhody: - cena neodráží reálnou situaci na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konkur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ik stanovuje cenu podle konkurence (nejčastěji nižší než konkurence), používá se, pokud je výrobek podobný konkurenčním výrob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- jednoduc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- nepřihlíží se ke skutečným nákladům na výro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ůže dojít k cenové vál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ignorování skutečné ceny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usí se brát v úvahu i značka, kvalita, styl, servis,…kterými se výrobek může lišit od konkuren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zákaz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í se z marketingového výzkumu, kterým se zjistí potřeby, přání a představy zákazníka o výrobku i o ceně a podle toho se pak podnik řídí při stanovení c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a: - reá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a: - časová a finanční náročnost při provedení výzku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eberou se v úvahu náklady na výrobu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Metoda orientovaná na poptáv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chází z cenové elasticity poptá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nová elasticita =  % změna poptávaného množství / % změna ceny zbož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enově elastická poptáv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alá změna ceny vyvolá velkou změnu poptávaného množství, E je menší než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enově málo elastická poptáv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velká změna ceny vyvolá jen malou změnu poptávaného množství, E je větší než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- v praxi zajišťuje velký z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- složit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onkurzní a smluvní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nkurzní c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kupující vyhlašuje konkurz a vybírá si firmu, která nejlépe vyhovuje jeho požadav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mluvní c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dohoda prodávajícího a kupujícího o ceně (např. aukce, prodej nemovitostí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a – velice výhodné pro kupujícího (může si vybír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29:03Z</dcterms:created>
  <dc:creator>kabek</dc:creator>
  <dc:description/>
  <dc:language>en-US</dc:language>
  <cp:lastModifiedBy>Igor</cp:lastModifiedBy>
  <dcterms:modified xsi:type="dcterms:W3CDTF">2014-09-13T15:03:10Z</dcterms:modified>
  <cp:revision>18</cp:revision>
  <dc:subject/>
  <dc:title>Marketingový mix - cena</dc:title>
</cp:coreProperties>
</file>