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FFE02-CD26-4FF2-9F83-13362FFF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7CE04-27E6-41F3-BC10-026FF60E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396A9-0488-452D-A791-AE2A76A6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15AFC-6A22-457C-8439-76E4CAA7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87E2-9E8A-49A7-A284-F777995D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88F9-A8B7-47B3-98D5-45BB91A0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DE4F-E7CD-4BCB-AAAF-0F6B15A0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277F-5980-4239-97AA-5E929259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1243-A966-4FA5-B0AC-484EED4A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F062-3141-4F4D-A7B3-122EEA7C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B409-3919-4AFA-A07F-DF5A8F7B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8FB8-E225-45A5-9BA1-7722F04A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00BD-2CA1-46CC-B4B4-BD915620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BE85-2C7A-43D1-B2D9-3BF3D3F7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53D3-15CD-4B4B-B603-65FE953F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D533-6DF3-4556-99ED-BCC179F1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041E-1016-43C9-82E3-19875CF8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AFF5E-AB12-4C10-B7C9-13045E59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25694-F8C5-4392-94AA-BD8B7B8B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71700-847F-46A3-BBA6-6E08896F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D8117-9B8A-4FF7-A8F3-E8634263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38FB9-3B35-4484-B9F1-5B698A2A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EB69A-5FC9-48BC-A836-AE9F707A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299C7-0DAB-45D4-9A91-99D1C55B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2736-157A-4D84-B02E-02025377BE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a51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959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e60"/>
                  </a:gs>
                  <a:gs pos="100000">
                    <a:srgbClr val="51596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54b5c"/>
                </a:gs>
                <a:gs pos="100000">
                  <a:srgbClr val="5159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5DC7-9D34-4D21-B5B2-699A56642C6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. 12.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Životní cyklus výrobku</a:t>
            </a:r>
            <a:br>
              <a:rPr sz="4400"/>
            </a:b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Fáze životního cyklu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1. Uved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ek není na trhu známý, je po něm nízká poptávka, musí se provést propag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alý prodej, vysoké náklady, nízký zisk popř. ztrá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cenové strategi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enetration pri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kimming pri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ek nakupují inovátoř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2. Rů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ste prodej, rostou tržby, klesají náklady na jednotku, roste zis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enetration price roste, skimming price klesá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ste i konkurence, proto firma začíná uvažovat o modifikacích výrob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akupují počáteční osvojitel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3. Zral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jvyšší prodej, nejnižší náklady na jednotku, nejvyšší zis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irma se snaží udržet v této fázi co nejdé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jvětší konkurence, firma vylepšuje a modifikuje výrob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akupuje počáteční a pozdní většin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4. Úpad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lesá prodej, klesá zis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irma snižuje cenu, aby doprodala výrob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zhoduje se, kdy bude výrobek stažen z trh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akupují opozdilc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 životním cyklu existují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odchylky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– nový život, styl, móda, výstřelk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Do jaké skupiny zákazníků byste se zařadili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ddddd"/>
                </a:solidFill>
                <a:latin typeface="Tahoma"/>
              </a:rPr>
              <a:t>Křivka životního cyklu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395280" y="2060640"/>
            <a:ext cx="8280360" cy="3960720"/>
            <a:chOff x="395280" y="2060640"/>
            <a:chExt cx="8280360" cy="3960720"/>
          </a:xfrm>
        </p:grpSpPr>
        <p:sp>
          <p:nvSpPr>
            <p:cNvPr id="132" name="AutoShape 6"/>
            <p:cNvSpPr/>
            <p:nvPr/>
          </p:nvSpPr>
          <p:spPr>
            <a:xfrm>
              <a:off x="395280" y="2060640"/>
              <a:ext cx="8280360" cy="39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1554480" y="5229000"/>
              <a:ext cx="529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Line 8"/>
            <p:cNvSpPr/>
            <p:nvPr/>
          </p:nvSpPr>
          <p:spPr>
            <a:xfrm flipV="1">
              <a:off x="1554480" y="2588400"/>
              <a:ext cx="0" cy="264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2051280" y="2742480"/>
              <a:ext cx="3146400" cy="2090160"/>
            </a:xfrm>
            <a:custGeom>
              <a:avLst/>
              <a:gdLst/>
              <a:ahLst/>
              <a:rect l="l" t="t" r="r" b="b"/>
              <a:pathLst>
                <a:path w="3420" h="2850">
                  <a:moveTo>
                    <a:pt x="0" y="2850"/>
                  </a:moveTo>
                  <a:cubicBezTo>
                    <a:pt x="525" y="1575"/>
                    <a:pt x="1050" y="300"/>
                    <a:pt x="1620" y="150"/>
                  </a:cubicBezTo>
                  <a:cubicBezTo>
                    <a:pt x="2190" y="0"/>
                    <a:pt x="3120" y="1650"/>
                    <a:pt x="3420" y="19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Text Box 10"/>
            <p:cNvSpPr/>
            <p:nvPr/>
          </p:nvSpPr>
          <p:spPr>
            <a:xfrm>
              <a:off x="395280" y="2720520"/>
              <a:ext cx="115920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Tahoma"/>
                </a:rPr>
                <a:t>Prodej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Text Box 11"/>
            <p:cNvSpPr/>
            <p:nvPr/>
          </p:nvSpPr>
          <p:spPr>
            <a:xfrm>
              <a:off x="6025680" y="5361120"/>
              <a:ext cx="828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Tahoma"/>
                </a:rPr>
                <a:t>Čas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ĚTLÍK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rketing – cesta k trh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Zlín: EKKA, 1994. ISBN 80-900015-8-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68360" y="1495440"/>
          <a:ext cx="8229600" cy="54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 a mana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udenti se seznamují s významem značky. Uvádějí informace, které musí být uvedeny na obalu různých druhů výrobků (potraviny, léky,…). Seznamují se s životním cyklem výrobků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rketingový mix, výrobek, koncepce totálního výrobku, životní cyklus výrob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dddddd"/>
                </a:solidFill>
                <a:latin typeface="Garamond"/>
              </a:rPr>
              <a:t>Marketingový mix</a:t>
            </a:r>
            <a:endParaRPr b="1" lang="en-US" sz="66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779640" y="2420640"/>
            <a:ext cx="381636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ýrob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en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istribu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pag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dddddd"/>
                </a:solidFill>
                <a:latin typeface="Tahoma"/>
              </a:rPr>
              <a:t>Výrobek</a:t>
            </a:r>
            <a:br>
              <a:rPr sz="4400"/>
            </a:b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ff"/>
                </a:solidFill>
                <a:latin typeface="Tahoma"/>
              </a:rPr>
              <a:t>Zkuste definovat výrob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ek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motný statek, služba nebo myšlenka, která se stává předmětem směny na trhu a je určena k uspokojení lidské potřeby nebo přá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Členění výrob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Z hlediska délky použití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boží dlouhodobé spotřeby – používá se déle než 1 r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boží krátkodobé spotřeby – používá se po dobu kratší než 1 r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 hlediska zákazníka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potřební zboží – nakupují domácnos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pitálové statky – nakupují firm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Koncepce totálního výrobku</a:t>
            </a:r>
            <a:br>
              <a:rPr sz="4000"/>
            </a:b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535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Jádr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– užitná vlastnost výrob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Zhmotnělý výrobek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– cena, kvalita, design, značka, obal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Přidaný výrobek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– záruka, servis, služby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Definujte jádro, zhmotnělý a přidaný výrobek u auta a počítač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2" name="Zástupný symbol pro obsah 13315"/>
          <p:cNvGrpSpPr/>
          <p:nvPr/>
        </p:nvGrpSpPr>
        <p:grpSpPr>
          <a:xfrm>
            <a:off x="2769840" y="2700360"/>
            <a:ext cx="5424480" cy="2897640"/>
            <a:chOff x="2769840" y="2700360"/>
            <a:chExt cx="5424480" cy="2897640"/>
          </a:xfrm>
        </p:grpSpPr>
        <p:sp>
          <p:nvSpPr>
            <p:cNvPr id="113" name="_s1028"/>
            <p:cNvSpPr/>
            <p:nvPr/>
          </p:nvSpPr>
          <p:spPr>
            <a:xfrm>
              <a:off x="2769840" y="3512520"/>
              <a:ext cx="3364920" cy="2085480"/>
            </a:xfrm>
            <a:prstGeom prst="donut">
              <a:avLst>
                <a:gd name="adj" fmla="val 16666"/>
              </a:avLst>
            </a:prstGeom>
            <a:solidFill>
              <a:srgbClr val="ff8c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" name="_s1029"/>
            <p:cNvSpPr/>
            <p:nvPr/>
          </p:nvSpPr>
          <p:spPr>
            <a:xfrm>
              <a:off x="7296480" y="3627360"/>
              <a:ext cx="897840" cy="463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řidaný výrobek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" name="_s1030"/>
            <p:cNvSpPr/>
            <p:nvPr/>
          </p:nvSpPr>
          <p:spPr>
            <a:xfrm>
              <a:off x="3331080" y="3859920"/>
              <a:ext cx="2242800" cy="1390320"/>
            </a:xfrm>
            <a:prstGeom prst="donut">
              <a:avLst>
                <a:gd name="adj" fmla="val 25000"/>
              </a:avLst>
            </a:prstGeom>
            <a:solidFill>
              <a:srgbClr val="01b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" name="_s1031"/>
            <p:cNvSpPr/>
            <p:nvPr/>
          </p:nvSpPr>
          <p:spPr>
            <a:xfrm>
              <a:off x="7296480" y="3163680"/>
              <a:ext cx="897840" cy="463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Zhmotnělý výrobek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" name="_s1032"/>
            <p:cNvSpPr/>
            <p:nvPr/>
          </p:nvSpPr>
          <p:spPr>
            <a:xfrm>
              <a:off x="3891600" y="4207680"/>
              <a:ext cx="1121400" cy="694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_s1033"/>
            <p:cNvSpPr/>
            <p:nvPr/>
          </p:nvSpPr>
          <p:spPr>
            <a:xfrm>
              <a:off x="7296480" y="2700360"/>
              <a:ext cx="897840" cy="463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Jádro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Značka výrobku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Co je to značka a v čem vidíte její význam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dlišuje výrobek od konkurence, pomáhá jeho identifikaci, je i zárukou kvality, měla by být snadno zapamatovatelná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dentifikace výrobku určitého výrobce pomocí jména, symbolu, čísla, tvaru nebo kombinace těchto faktor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chranná známka = registrovaná a právně chráněná znač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Význam značk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ychlá identifikace výrobk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mage výrobků – sdělení, co zákazníci mohou od výrobku očekáv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garance kval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áklad komunikace se zákazník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onzistence v nákupním chování – zákazník, který je spokojený s jedním výrobkem určité značky pravděpodobně koupí i jiné výrobky téže znač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280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Značka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rob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bchodní firm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Věrnost značce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– tendence v chování zákazníků záměrně a opakovaně kupovat výrobek určité znač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Existuje značka, které jste věrni? U jakého výrobku a proč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Strategie značk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menová značka – všechny výrobky jednoho výrobce mají stejnou značku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dividuální značka – jeden výrobce má pro každý svůj výrobek jinou znač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Obal</a:t>
            </a:r>
            <a:r>
              <a:rPr b="1" lang="cs-CZ" sz="4400" spc="-1" strike="noStrike">
                <a:solidFill>
                  <a:srgbClr val="dddddd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Jaké funkce má obal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Jaké informace můžeme získat z etikety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Tvoří ho samotný fyzický obal a etike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Funkce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chranná – ochrana před poškozením, … např. při přepravě výrob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omunikační – obal obsahuje informace důležité pro zákazní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dddddd"/>
                </a:solidFill>
                <a:latin typeface="Tahoma"/>
              </a:rPr>
              <a:t>Služby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V čem vidíte význam služeb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ffff"/>
                </a:solidFill>
                <a:latin typeface="Tahoma"/>
              </a:rPr>
              <a:t>Jaké druhy služeb podle vás zákazníci nejčastěji vyžadují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vyšují prodej, vytváří image podniku, snižují riziko zákazníků při nákup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Druhy služeb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áru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rácení peněz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doprava, instal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asílání katalogů,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6:37:22Z</dcterms:created>
  <dc:creator>kabek</dc:creator>
  <dc:description/>
  <dc:language>en-US</dc:language>
  <cp:lastModifiedBy>Igor</cp:lastModifiedBy>
  <dcterms:modified xsi:type="dcterms:W3CDTF">2014-09-13T15:04:23Z</dcterms:modified>
  <cp:revision>21</cp:revision>
  <dc:subject/>
  <dc:title>Marketingový mix</dc:title>
</cp:coreProperties>
</file>