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6863-3A7E-4308-9CBC-43A809D8D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9408-E3CF-4ED2-9393-F9F04AA2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92FF-1B79-4E92-8B67-695D4D222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FF5D-58A2-4EF9-AF00-B7DA8FE23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79B0-F1B4-4163-8229-01EEC516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0BAF-8736-4209-9C90-06827353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6FAB-EDF2-436C-8DE7-5CD49A12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BD80-0F8E-4B1D-B974-2E331F89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52B2-5848-4ECB-ACE6-EEB6BC10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01FD-4E3C-4C48-B469-0961FE41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30E5-42F2-450A-9ED7-B627D56A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2E34-4DBD-4D26-9AF1-F53826E6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4FCB-3AC5-45CB-A870-5DEDBB8C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F316-9655-4B8B-A6C3-61129BC1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6F2A-9B7A-4257-AC72-AA61F382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08AC-C23E-4578-817F-0B18A6698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6ECC-7501-4956-B674-5FA35B39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5C69-6E44-442F-9919-97F48E50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31EE-31E1-4467-9FDE-E5A4AA97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8C37-E31B-4A1B-AFF6-ECE13A25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5909-D176-46AB-AD6D-97A1BDC5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49CA-EDCC-48AB-8A70-D5D42F95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73EF-F8F9-4454-8A4D-4B5D640E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4792-16EE-432D-B487-4278DF34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B9C2-00BA-46A1-B4E6-786EA881720C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6B6F-4424-45A6-8A40-A9781A77042C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1062000"/>
                <a:gridCol w="1800360"/>
                <a:gridCol w="280836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_32_INOVACE_2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 1. 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Zařaďte do správné položky typového kalkulačního vzorce tyto náklad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Prémie dělník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Osvětlení ve výrobních halá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Reklama v televiz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Kancelářské potře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Odměny pracovníků ve správ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Osvětlení v kanceláří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Spotřeba obal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Odměny pracovníků zásobov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Spotřeba energie výrobních lin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Spotřeba pomocného materiá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741320" y="277920"/>
            <a:ext cx="5661360" cy="113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457200" y="1905120"/>
          <a:ext cx="8229600" cy="4754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nikání a podnikové činnosti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ový m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 ke shrnutí a zopakování kalkulací, poukázání na návaznost učiva ekonomiky a marketing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lkulace, kalkulační jednice, typový kalkulační vzore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b2b2b2"/>
                </a:solidFill>
                <a:latin typeface="Arial"/>
              </a:rPr>
              <a:t>Kalkulac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Kalkulace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– výsledek kalkulování, rozpočet nákladů na jednici výkon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Kalkulační jednic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např. jeden výrob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Cíle kalkulací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jistit správnou ce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jistit, o kolik můžeme cenu snižovat nebo zvyšovat, aniž bychom měli ztrá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jistit možné úspory v náklad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K čemu se využívají kalkula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yužití kalkulací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e stanovení ceny výrobků a služ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e kontrole hospodaření podni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 porovnání plnění plán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e zjištění ziskovosti jednotlivých odděl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Členění kalkulací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dle doby sestavení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edběžná – sestavuje se před zahájením výroby, sestavuje se na základě plán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ýsledná – sestavuje se po dokončení výroby, sestavuje se na základě skutečných nákladů zjištěných v účetnictv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dle struktur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ůběžná – všechny výkony se započítávají průběžně včetně nedokončené výroby a polotovar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stupná – polotovary a nedokončená výroba se započítávají zvláš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Metody výpočtu kalkula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alkulace dělení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ost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 poměrovými čís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irážkov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Výpočet kalkula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áklady rozdělíme na přímé a nepřím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Přím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dají se určit na 1 jednici (ks, kg,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Nepřím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nedají se určit na jednici, jsou to tzv. režijní nákl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Uveďte příklady přímých a nepřímých náklad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2b2b2"/>
                </a:solidFill>
                <a:latin typeface="Arial"/>
              </a:rPr>
              <a:t>Typový kalkulační vzorec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Přímý materiál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veškerý materiál, který se stává součástí výrobku, dá se stanovit na jednici. Např.: spotřeba základního materiálu, pomocného materiálu, obalů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Přímé mzd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mzdy lidí, kteří přímo souvisí s výrobou, např. mzdy výrobních dělníků, jejich prémie, odměny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Ostatní přímé náklad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souvisí s výrobou a dají se určit na jednici. Např.: spotřeba provozní energie, náklady na opravy a udržování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Výrobní reži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náklady na výrobu, které se nedají určit na jednici. Např.: nájemné, mzdy THP pracovníků ve výrobě, odpisy, cestovné, náklady na osvětlení výrobní haly, daně, pojištění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oučet položek: 1+2+3+4 = </a:t>
            </a: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vlastní náklady výrob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zásobovací reži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náklady na zásobování podniku, např. mzdy zásobovačů, skladníků, nájemné skladů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právní reži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náklady na řízení a vedení podniku, např. platy THP pracovníků ve správě, nájem kancelářských prostor, telefonní poplatky, kancelářské potřeby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oučet: vlastních nákladů výroby + 5+6 = </a:t>
            </a: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vlastní náklady výko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odbytová reži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– všechny náklady spojené s odbytem, např. reklama, mzdy a odměny pracovníků v odbytu,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oučet: vlastní náklady výkonu + 7 = </a:t>
            </a: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úplné vlastní náklady výko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oučet: úplné vlastní náklady výkonu + zisk = </a:t>
            </a:r>
            <a:r>
              <a:rPr b="0" i="1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cen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bez D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15:55:32Z</dcterms:created>
  <dc:creator>Administrator</dc:creator>
  <dc:description/>
  <dc:language>en-US</dc:language>
  <cp:lastModifiedBy>Igor</cp:lastModifiedBy>
  <dcterms:modified xsi:type="dcterms:W3CDTF">2014-09-13T15:01:59Z</dcterms:modified>
  <cp:revision>12</cp:revision>
  <dc:subject/>
  <dc:title>Kalkulace</dc:title>
</cp:coreProperties>
</file>