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46FE4-FE54-42B1-AA50-ED393F5F1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04D67-69C7-40B1-872C-82148AA5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E34C9-531C-41B8-9BC3-A7DA623C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36772-EC0A-4165-8D33-82376F98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FE30-347B-4D7D-8907-E30905F4B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0EC6-76C0-4F98-9870-620E4C0A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E3DF-AC29-4410-B42C-B1464DFF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97A2-3939-442F-9238-8DDCC1C7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A106-A258-463A-9636-F8C681CB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4404-E94D-4B95-8A3B-7613A7CA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79A7-0BB5-4162-A676-E9878A9A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C9637-DE5C-4C9B-B6C5-E3A3D4F1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8ACB-5DB7-4B1A-9A74-610E00F7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FF35-00CE-4DD0-B7DD-134FD559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A113-5B1C-4FB3-B64A-DE948363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7C26-C92A-41F9-A45B-25BFDD9EC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70FB-0E71-4B24-80DD-FFDAE32AE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BE4FA-EBAA-4E58-AB00-BEB5F490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CE5B0-3AD0-432F-BE98-082738B3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4E262-FB79-4134-A5F1-4D7FC402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28641-25E3-4D82-99D7-F8FDBB95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26A7C-901E-4442-8852-872AB892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CD453-DBE0-48B5-BE01-A93407C9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BE459-C1B1-47A3-91E3-5E0C3B15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5981-AA25-48BD-9DB9-96398AD1B56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5561-8260-4CFD-A9A3-256038D19DB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7. 3.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Garamond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SVĚTLÍK, J. </a:t>
            </a:r>
            <a:r>
              <a:rPr b="0" i="1" lang="cs-CZ" sz="3200" spc="-1" strike="noStrike">
                <a:solidFill>
                  <a:srgbClr val="000000"/>
                </a:solidFill>
                <a:latin typeface="Garamond"/>
              </a:rPr>
              <a:t>Marketing – cesta k trhu</a:t>
            </a:r>
            <a:r>
              <a:rPr b="0" lang="cs-CZ" sz="3200" spc="-1" strike="noStrike">
                <a:solidFill>
                  <a:srgbClr val="000000"/>
                </a:solidFill>
                <a:latin typeface="Garamond"/>
              </a:rPr>
              <a:t>, Zlín: EKKA, 1994. ISBN 80-900015-8-0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468360" y="1413000"/>
          <a:ext cx="7991280" cy="41274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ketingový m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osobním prodej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roky v osobním prodeji, personální řízení osobního prode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280" y="2349000"/>
            <a:ext cx="7239240" cy="19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 u="sng">
                <a:solidFill>
                  <a:srgbClr val="000000"/>
                </a:solidFill>
                <a:uFillTx/>
                <a:latin typeface="Garamond"/>
              </a:rPr>
              <a:t>Osobní prodej</a:t>
            </a:r>
            <a:br>
              <a:rPr sz="6600"/>
            </a:br>
            <a:endParaRPr b="1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7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aramond"/>
              </a:rPr>
              <a:t>jde o osobní formu komunikace s jedním nebo více zákazníky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67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aramond"/>
              </a:rPr>
              <a:t>cíl: dosažení prodeje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00ff"/>
                </a:solidFill>
                <a:latin typeface="Garamond"/>
              </a:rPr>
              <a:t>Jaké funkce  mají osobní prodejci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 u="sng">
                <a:solidFill>
                  <a:srgbClr val="000000"/>
                </a:solidFill>
                <a:uFillTx/>
                <a:latin typeface="Garamond"/>
              </a:rPr>
              <a:t>Pracovníci, kteří provádějí osobní prodej, mají tyto funkce: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ovlivňují kupujícího v procesu rozhodování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zprostředkovávají informac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poskytují servis, zajišťují dodání zboží, …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6600ff"/>
                </a:solidFill>
                <a:latin typeface="Garamond"/>
              </a:rPr>
              <a:t>Jaké vlastnosti by měl mít pracovník v osobním prodeji?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7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 u="sng">
                <a:solidFill>
                  <a:srgbClr val="000000"/>
                </a:solidFill>
                <a:uFillTx/>
                <a:latin typeface="Garamond"/>
              </a:rPr>
              <a:t>Požadavky na pracovníky v osobním prodeji:</a:t>
            </a:r>
            <a:endParaRPr b="0" lang="en-US" sz="27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schopnost vcítění se do myšlení zákazníků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nadšení a důvěra ve výrobek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aramond"/>
              </a:rPr>
              <a:t>pružnost, schopnost adaptovat se na požadavky zákazníků, komunikační schopnosti, dobrá organizace času,…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Garamond"/>
              </a:rPr>
              <a:t>Kroky v osobním prodeji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26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Garamond"/>
              </a:rPr>
              <a:t>průzkum</a:t>
            </a:r>
            <a:r>
              <a:rPr b="0" lang="cs-CZ" sz="2900" spc="-1" strike="noStrike">
                <a:solidFill>
                  <a:srgbClr val="000000"/>
                </a:solidFill>
                <a:latin typeface="Garamond"/>
              </a:rPr>
              <a:t> – prodejce hledá vhodné potenciální zákazníky, na které se pak zaměří. Zdroje informací: dopisy, telefonáty, informace od prodejců, databáze zákazníků,…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26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Garamond"/>
              </a:rPr>
              <a:t>kontakt</a:t>
            </a:r>
            <a:r>
              <a:rPr b="0" lang="cs-CZ" sz="2900" spc="-1" strike="noStrike">
                <a:solidFill>
                  <a:srgbClr val="000000"/>
                </a:solidFill>
                <a:latin typeface="Garamond"/>
              </a:rPr>
              <a:t> – na základě průzkumu se prodejce musí rozhodnout, jak zákazníky kontaktovat. Nejčastější postup – úvodní dopis, telefonát, osobní schůzka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26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Garamond"/>
              </a:rPr>
              <a:t>prezentace </a:t>
            </a:r>
            <a:r>
              <a:rPr b="0" lang="cs-CZ" sz="2900" spc="-1" strike="noStrike">
                <a:solidFill>
                  <a:srgbClr val="000000"/>
                </a:solidFill>
                <a:latin typeface="Garamond"/>
              </a:rPr>
              <a:t>– prodejce sděluje zákazníkovi potřebné informace o výrobku včetně jeho předvedení. Zdůrazňuje při tom vlastnosti výrobku, které jsou pro zákazníka nejdůležitější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26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Garamond"/>
              </a:rPr>
              <a:t>řešení připomínek</a:t>
            </a:r>
            <a:r>
              <a:rPr b="0" lang="cs-CZ" sz="2900" spc="-1" strike="noStrike">
                <a:solidFill>
                  <a:srgbClr val="000000"/>
                </a:solidFill>
                <a:latin typeface="Garamond"/>
              </a:rPr>
              <a:t> – odpovědi na otázky zákazníka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lvl="1" marL="6832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26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Garamond"/>
              </a:rPr>
              <a:t>závěr</a:t>
            </a:r>
            <a:r>
              <a:rPr b="0" lang="cs-CZ" sz="2900" spc="-1" strike="noStrike">
                <a:solidFill>
                  <a:srgbClr val="000000"/>
                </a:solidFill>
                <a:latin typeface="Garamond"/>
              </a:rPr>
              <a:t> – dohoda o všech náležitostech kupní smlouvy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26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Garamond"/>
              </a:rPr>
              <a:t>další kontakt</a:t>
            </a:r>
            <a:r>
              <a:rPr b="0" lang="cs-CZ" sz="2900" spc="-1" strike="noStrike">
                <a:solidFill>
                  <a:srgbClr val="000000"/>
                </a:solidFill>
                <a:latin typeface="Garamond"/>
              </a:rPr>
              <a:t> – nezbytný pro plné uspokojení zákazníka, jde o poskytování služeb spojených s užíváním. Tím roste spokojenost zákazníka a roste image firmy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6600ff"/>
                </a:solidFill>
                <a:latin typeface="Garamond"/>
              </a:rPr>
              <a:t>Máte nějaké zkušenosti s osobním prodejem? 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6600ff"/>
                </a:solidFill>
                <a:latin typeface="Garamond"/>
              </a:rPr>
              <a:t>U jakých výrobků se s tímto způsobem prodeje můžeme setkat?</a:t>
            </a: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lvl="1" marL="6832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Garamond"/>
              </a:rPr>
              <a:t>Personální řízení osobního prodeje 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300" spc="-1" strike="noStrike">
                <a:solidFill>
                  <a:srgbClr val="000000"/>
                </a:solidFill>
                <a:latin typeface="Garamond"/>
              </a:rPr>
              <a:t>Výběr osob</a:t>
            </a:r>
            <a:r>
              <a:rPr b="0" lang="cs-CZ" sz="2300" spc="-1" strike="noStrike">
                <a:solidFill>
                  <a:srgbClr val="000000"/>
                </a:solidFill>
                <a:latin typeface="Garamond"/>
              </a:rPr>
              <a:t> – z odpovědí na inzeráty, z Úřadu práce, studenti končící školu,…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kritéria pro výběr: dotazník a životopis, ústní pohovor, písemné testy. Kritéria vychází z požadavků na osobního prodejce (komunikativnost, schopnost organizovat čas, řešit problémy, kreativita,…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300" spc="-1" strike="noStrike">
                <a:solidFill>
                  <a:srgbClr val="000000"/>
                </a:solidFill>
                <a:latin typeface="Garamond"/>
              </a:rPr>
              <a:t>Příprava</a:t>
            </a:r>
            <a:r>
              <a:rPr b="0" lang="cs-CZ" sz="2300" spc="-1" strike="noStrike">
                <a:solidFill>
                  <a:srgbClr val="000000"/>
                </a:solidFill>
                <a:latin typeface="Garamond"/>
              </a:rPr>
              <a:t> – má splnit tyto úkoly: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dobrá znalost firmy a její histori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dobrá znalost výrobků firm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dobrá znalost konkurenčních výrobků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dobrá znalost trhu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Garamond"/>
              </a:rPr>
              <a:t>V přípravě by se měl prodejce naučit zvládnout celý proces osobního prodeje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Garamond"/>
              </a:rPr>
              <a:t>Motivace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Morální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Finanční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Výhody – služební auto, mobil,…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Soutěže mezi prodejc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00ff"/>
                </a:solidFill>
                <a:latin typeface="Garamond"/>
              </a:rPr>
              <a:t>Pokud byste byli osobní prodejci, jaké motivační faktory by pro Vás byly nejsilnější?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Garamond"/>
              </a:rPr>
              <a:t>Vyhodnocení</a:t>
            </a: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 – základem jsou prodejní kvóty – ty se stanovují na základě konkrétních podmínek, ve kterých prodejce působí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Další podklady – zprávy ze služebních cest, informace od zákazníků,…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aramond"/>
              </a:rPr>
              <a:t>Prodejci by měli znát kritéria, podle kterých budou hodnocen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07:04:56Z</dcterms:created>
  <dc:creator>Guest</dc:creator>
  <dc:description/>
  <dc:language>en-US</dc:language>
  <cp:lastModifiedBy>Igor</cp:lastModifiedBy>
  <dcterms:modified xsi:type="dcterms:W3CDTF">2014-09-13T15:05:50Z</dcterms:modified>
  <cp:revision>13</cp:revision>
  <dc:subject/>
  <dc:title>Osobní prodej</dc:title>
</cp:coreProperties>
</file>